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14C-3A34-488C-B152-BA9D5A14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B25-751F-4A51-9373-DD705073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5DB-E27A-4285-BA53-FA96D69C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643-D140-437F-B0D0-55570DEA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D4C6-5E0B-4A32-A1EB-6EC64B45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CA1C-4521-45CE-A9A8-0CB7D9EB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3BAC-2B11-445A-991E-B6B6534D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FDAA-7AAF-4664-9BF3-99CE7282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0869-0E6C-428F-933F-30A9C119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59AC-66AE-4CD5-A596-D7861917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FC9D-94EE-4CC7-B0FD-FEB7016A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872-FB6B-4DC6-966A-DCD4A27F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328B-91D1-47A8-9107-F168E702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7A33-58DD-496E-B1CA-9E5E5C87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98ED-941B-42C3-AC4A-19257081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14A8-021C-4488-B289-1B193E86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9152-A266-472D-9E4C-09BF3ECD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3135D-0E07-49D7-AEED-5CB0A40C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4CFB6-8100-4454-86F6-FD34A894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F8453-6EFD-47DC-9019-A2A591DD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EC8D9-E48E-4E1A-A432-E81CAB5D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6474F-6BA1-4B59-8496-F86F0197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DB9C-C59B-4F0E-A9AF-B9C4A6CA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015C0-24BB-4E8F-9595-4864CB3E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CA89B-7CB4-4D6E-BE70-DCF2EC30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FE5FB-F149-4BA4-B778-E6DA723A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4CF4F-0E69-45E5-9ACE-2EAC05D0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52F9D-756E-4494-8E84-5D658D82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2B27-101F-4F6D-A6B5-4C14484F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8E3B4-63DF-4564-9879-A83AFEC3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4637-5681-4825-A61C-7B4F2588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683-CAF0-4473-B846-59C7A1A6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F53-31A9-43E1-A04B-0DE72B60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B0F-44E3-49B4-B37A-EA84F968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C75-EC60-4922-B6F4-3D9C23BF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922F-6868-4C54-ACE1-A9EC8668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05DB-FAE9-46CB-A39B-6253ECB00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8693-068A-47AB-A387-56337CEA04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87F6-A395-41F3-8CAA-2231384BC6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Районный семинар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Использование современных педагогических технологий в целях повышения качества математического образования при введении ФГОС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68360" y="3428640"/>
            <a:ext cx="81360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ткрытый 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Повторение приёмов письменных вычисл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4581360"/>
            <a:ext cx="78483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Пономарева Ольга Иван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МБОУ «Кардымовская С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5589720"/>
            <a:ext cx="4248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та проведения: 25 января 201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Шкала от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5» - Да, покупка состо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4» - Да, покупка состоится, но необходимо добрать необходимое количество сред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3» - Отложить на более поздний срок. Подождать, может быть, цена на товар сниз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2» - Нет, покупка не состои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атематика – важна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атематика – нужна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чёту надо всем учиться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Это в жизни пригодитс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882800"/>
                <a:gridCol w="63468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имание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жу ошибку! Не согласны с решением, ответ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остью согласны с ответом, решени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или задани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ы продолжить рабо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900000" y="191628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429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42920" y="479736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Твой помощник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трудняешься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бери, что подходит для т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39280" y="1988640"/>
            <a:ext cx="8280360" cy="45356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ум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говаривать на уроке с соседом по пар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уж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селиться и игр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казывать верность своего от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верять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ть друг дру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чтать об отдыхе на перем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льзуясь записями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значения выраже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15398" t="42701" r="57676" b="24037"/>
          <a:stretch/>
        </p:blipFill>
        <p:spPr>
          <a:xfrm>
            <a:off x="0" y="1844640"/>
            <a:ext cx="288144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rcRect l="14647" t="9606" r="57593" b="57254"/>
          <a:stretch/>
        </p:blipFill>
        <p:spPr>
          <a:xfrm>
            <a:off x="3348000" y="1844640"/>
            <a:ext cx="2879640" cy="1384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rcRect l="5755" t="18467" r="67599" b="31334"/>
          <a:stretch/>
        </p:blipFill>
        <p:spPr>
          <a:xfrm>
            <a:off x="6588000" y="1484280"/>
            <a:ext cx="2303640" cy="18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ши друзья и помощ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53903" t="76189" r="38417" b="11321"/>
          <a:stretch/>
        </p:blipFill>
        <p:spPr>
          <a:xfrm>
            <a:off x="755640" y="2205000"/>
            <a:ext cx="2889360" cy="3024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16000" y="5300640"/>
            <a:ext cx="23749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и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rcRect l="90458" t="16291" r="1942" b="70413"/>
          <a:stretch/>
        </p:blipFill>
        <p:spPr>
          <a:xfrm>
            <a:off x="5435640" y="1916280"/>
            <a:ext cx="2909880" cy="32414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580000" y="5445000"/>
            <a:ext cx="23749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а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знай номер телеф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50920" y="1628640"/>
          <a:ext cx="8424720" cy="4464360"/>
        </p:xfrm>
        <a:graphic>
          <a:graphicData uri="http://schemas.openxmlformats.org/drawingml/2006/table">
            <a:tbl>
              <a:tblPr/>
              <a:tblGrid>
                <a:gridCol w="1728720"/>
                <a:gridCol w="4032360"/>
                <a:gridCol w="266364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телеф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едуш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й номер  - это пятизначное число, в котором цифры идут по порядку, как в математике, от большего к меньшему. Используются только нечетные числ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__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_  ____  ____  ____  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абуш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й номер – это номер телефона дедушки, только меньше на 320 едини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_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__  ____  ____  ____  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ческое   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8360" y="1628640"/>
          <a:ext cx="8229600" cy="4915080"/>
        </p:xfrm>
        <a:graphic>
          <a:graphicData uri="http://schemas.openxmlformats.org/drawingml/2006/table">
            <a:tbl>
              <a:tblPr/>
              <a:tblGrid>
                <a:gridCol w="503280"/>
                <a:gridCol w="498312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нашей страны в Великой Отечественной вой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е упоминание о Смоленс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полёт человека в косм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е упоминание о Москв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ая Куликовская би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знай длину забора участ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2852640"/>
            <a:ext cx="5113440" cy="1419480"/>
          </a:xfrm>
          <a:prstGeom prst="rect">
            <a:avLst/>
          </a:prstGeom>
          <a:solidFill>
            <a:srgbClr val="996633"/>
          </a:solidFill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04000" y="3068640"/>
            <a:ext cx="10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40360" y="2133720"/>
            <a:ext cx="914400" cy="62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1-4" descr=""/>
          <p:cNvPicPr/>
          <p:nvPr/>
        </p:nvPicPr>
        <p:blipFill>
          <a:blip r:embed="rId1"/>
          <a:srcRect l="0" t="0" r="13792" b="0"/>
          <a:stretch/>
        </p:blipFill>
        <p:spPr>
          <a:xfrm>
            <a:off x="0" y="0"/>
            <a:ext cx="270036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шаговая инструкция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бушка тебя подробно проинструктировал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нимательно изучи квитанцию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Найди число, которое указывает учтённые показания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Найди число, которое указывает на текущие показания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Найдите разность между текущими показаниями и учтёнными показаниями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Запиши полученные показания в столбец «Расход»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Потом эти показания надо умножить на тариф газа. Это цена за 1 кубический метр газа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Полученный результат запиши в столбец «К оплате». Это будет оплата за использованный газ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Проверь сдач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4000" y="3789360"/>
          <a:ext cx="8280360" cy="2727360"/>
        </p:xfrm>
        <a:graphic>
          <a:graphicData uri="http://schemas.openxmlformats.org/drawingml/2006/table">
            <a:tbl>
              <a:tblPr/>
              <a:tblGrid>
                <a:gridCol w="2089080"/>
                <a:gridCol w="1241280"/>
                <a:gridCol w="1238400"/>
                <a:gridCol w="930240"/>
                <a:gridCol w="1369800"/>
                <a:gridCol w="1411560"/>
              </a:tblGrid>
              <a:tr h="3794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ВИТА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етрова Мария Федор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оселок  Светлый, улица Школьная, дом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екабрь 2017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ая услу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оказания в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 (цен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опла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оим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тённые показ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е показ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9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 руб./м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3T18:45:29Z</dcterms:created>
  <dc:creator>hp1</dc:creator>
  <dc:description/>
  <dc:language>en-US</dc:language>
  <cp:lastModifiedBy>hp1</cp:lastModifiedBy>
  <dcterms:modified xsi:type="dcterms:W3CDTF">2018-01-24T21:57:09Z</dcterms:modified>
  <cp:revision>3</cp:revision>
  <dc:subject/>
  <dc:title>Районный семинар  «Использование современных педагогических технологий в целях повышения качества математического образования при введении ФГОС» </dc:title>
</cp:coreProperties>
</file>