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D36-B62E-4F44-BFFE-1560C6E1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331-9A71-4B11-B803-B3B9EBFE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D09-F784-4090-B17B-B391BEE3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A67-313E-436C-B74D-328583B9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A13-CD49-4D49-9B25-CEAE04A0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BE9-5B42-4369-816A-79FAEFE1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64B-862A-4D9B-B2ED-F6F3D25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83E-56B8-4687-87E8-8786688B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3B7-FA59-459A-9D85-EBB1935F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283-40AC-41C1-9908-E6BDAAFE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C5B-D26B-4930-9441-75DC0727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6FF-C437-41F9-9EFE-00F929AB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F0A-FECB-4952-9E8D-FF2B662C5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1268280"/>
            <a:ext cx="7632720" cy="20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cc99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ставление Весёлой Точки</a:t>
            </a:r>
            <a:endParaRPr b="1" lang="en-US" sz="1800" spc="1" strike="noStrike">
              <a:ln w="9360">
                <a:solidFill>
                  <a:srgbClr val="ffcc99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003640" y="3645000"/>
            <a:ext cx="2663640" cy="2168640"/>
            <a:chOff x="5003640" y="3645000"/>
            <a:chExt cx="2663640" cy="2168640"/>
          </a:xfrm>
        </p:grpSpPr>
        <p:sp>
          <p:nvSpPr>
            <p:cNvPr id="43" name=""/>
            <p:cNvSpPr/>
            <p:nvPr/>
          </p:nvSpPr>
          <p:spPr>
            <a:xfrm>
              <a:off x="5003640" y="3657600"/>
              <a:ext cx="2492280" cy="20761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0800000">
              <a:off x="6872040" y="4695840"/>
              <a:ext cx="62136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88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88333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10480" y="3645000"/>
              <a:ext cx="1756800" cy="606600"/>
            </a:xfrm>
            <a:custGeom>
              <a:avLst/>
              <a:gdLst/>
              <a:ahLst/>
              <a:rect l="l" t="t" r="r" b="b"/>
              <a:pathLst>
                <a:path w="1015" h="421">
                  <a:moveTo>
                    <a:pt x="55" y="0"/>
                  </a:moveTo>
                  <a:cubicBezTo>
                    <a:pt x="20" y="104"/>
                    <a:pt x="0" y="204"/>
                    <a:pt x="100" y="270"/>
                  </a:cubicBezTo>
                  <a:cubicBezTo>
                    <a:pt x="292" y="256"/>
                    <a:pt x="301" y="291"/>
                    <a:pt x="385" y="165"/>
                  </a:cubicBezTo>
                  <a:cubicBezTo>
                    <a:pt x="377" y="118"/>
                    <a:pt x="389" y="56"/>
                    <a:pt x="325" y="45"/>
                  </a:cubicBezTo>
                  <a:cubicBezTo>
                    <a:pt x="309" y="42"/>
                    <a:pt x="295" y="55"/>
                    <a:pt x="280" y="60"/>
                  </a:cubicBezTo>
                  <a:cubicBezTo>
                    <a:pt x="254" y="137"/>
                    <a:pt x="219" y="236"/>
                    <a:pt x="265" y="315"/>
                  </a:cubicBezTo>
                  <a:cubicBezTo>
                    <a:pt x="281" y="342"/>
                    <a:pt x="355" y="345"/>
                    <a:pt x="355" y="345"/>
                  </a:cubicBezTo>
                  <a:cubicBezTo>
                    <a:pt x="576" y="332"/>
                    <a:pt x="584" y="371"/>
                    <a:pt x="700" y="255"/>
                  </a:cubicBezTo>
                  <a:cubicBezTo>
                    <a:pt x="730" y="166"/>
                    <a:pt x="760" y="172"/>
                    <a:pt x="685" y="135"/>
                  </a:cubicBezTo>
                  <a:cubicBezTo>
                    <a:pt x="671" y="128"/>
                    <a:pt x="655" y="125"/>
                    <a:pt x="640" y="120"/>
                  </a:cubicBezTo>
                  <a:cubicBezTo>
                    <a:pt x="620" y="125"/>
                    <a:pt x="596" y="122"/>
                    <a:pt x="580" y="135"/>
                  </a:cubicBezTo>
                  <a:cubicBezTo>
                    <a:pt x="568" y="145"/>
                    <a:pt x="565" y="164"/>
                    <a:pt x="565" y="180"/>
                  </a:cubicBezTo>
                  <a:cubicBezTo>
                    <a:pt x="565" y="397"/>
                    <a:pt x="526" y="354"/>
                    <a:pt x="625" y="420"/>
                  </a:cubicBezTo>
                  <a:cubicBezTo>
                    <a:pt x="695" y="415"/>
                    <a:pt x="767" y="421"/>
                    <a:pt x="835" y="405"/>
                  </a:cubicBezTo>
                  <a:cubicBezTo>
                    <a:pt x="856" y="400"/>
                    <a:pt x="864" y="374"/>
                    <a:pt x="880" y="360"/>
                  </a:cubicBezTo>
                  <a:cubicBezTo>
                    <a:pt x="937" y="312"/>
                    <a:pt x="981" y="279"/>
                    <a:pt x="1015" y="21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rot="10800000">
              <a:off x="5004000" y="4695840"/>
              <a:ext cx="622080" cy="51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rot="8304600">
              <a:off x="5884200" y="5085000"/>
              <a:ext cx="837720" cy="51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19" y="20276"/>
                  </a:moveTo>
                  <a:arcTo wR="10800" hR="10800" stAng="7119980" swAng="12461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5619" y="20276"/>
                  </a:moveTo>
                  <a:arcTo wR="10800" hR="10800" stAng="7119980" swAng="12461724"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59280" y="3376800"/>
            <a:ext cx="3519360" cy="3562920"/>
            <a:chOff x="359280" y="3376800"/>
            <a:chExt cx="3519360" cy="3562920"/>
          </a:xfrm>
        </p:grpSpPr>
        <p:sp>
          <p:nvSpPr>
            <p:cNvPr id="49" name=""/>
            <p:cNvSpPr/>
            <p:nvPr/>
          </p:nvSpPr>
          <p:spPr>
            <a:xfrm rot="20089200">
              <a:off x="779760" y="3916080"/>
              <a:ext cx="2677680" cy="2576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9289200">
              <a:off x="2829240" y="4748400"/>
              <a:ext cx="66744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88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88333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20089200">
              <a:off x="1305000" y="3742560"/>
              <a:ext cx="1887480" cy="752760"/>
            </a:xfrm>
            <a:custGeom>
              <a:avLst/>
              <a:gdLst/>
              <a:ahLst/>
              <a:rect l="l" t="t" r="r" b="b"/>
              <a:pathLst>
                <a:path w="1015" h="421">
                  <a:moveTo>
                    <a:pt x="55" y="0"/>
                  </a:moveTo>
                  <a:cubicBezTo>
                    <a:pt x="20" y="104"/>
                    <a:pt x="0" y="204"/>
                    <a:pt x="100" y="270"/>
                  </a:cubicBezTo>
                  <a:cubicBezTo>
                    <a:pt x="292" y="256"/>
                    <a:pt x="301" y="291"/>
                    <a:pt x="385" y="165"/>
                  </a:cubicBezTo>
                  <a:cubicBezTo>
                    <a:pt x="377" y="118"/>
                    <a:pt x="389" y="56"/>
                    <a:pt x="325" y="45"/>
                  </a:cubicBezTo>
                  <a:cubicBezTo>
                    <a:pt x="309" y="42"/>
                    <a:pt x="295" y="55"/>
                    <a:pt x="280" y="60"/>
                  </a:cubicBezTo>
                  <a:cubicBezTo>
                    <a:pt x="254" y="137"/>
                    <a:pt x="219" y="236"/>
                    <a:pt x="265" y="315"/>
                  </a:cubicBezTo>
                  <a:cubicBezTo>
                    <a:pt x="281" y="342"/>
                    <a:pt x="355" y="345"/>
                    <a:pt x="355" y="345"/>
                  </a:cubicBezTo>
                  <a:cubicBezTo>
                    <a:pt x="576" y="332"/>
                    <a:pt x="584" y="371"/>
                    <a:pt x="700" y="255"/>
                  </a:cubicBezTo>
                  <a:cubicBezTo>
                    <a:pt x="730" y="166"/>
                    <a:pt x="760" y="172"/>
                    <a:pt x="685" y="135"/>
                  </a:cubicBezTo>
                  <a:cubicBezTo>
                    <a:pt x="671" y="128"/>
                    <a:pt x="655" y="125"/>
                    <a:pt x="640" y="120"/>
                  </a:cubicBezTo>
                  <a:cubicBezTo>
                    <a:pt x="620" y="125"/>
                    <a:pt x="596" y="122"/>
                    <a:pt x="580" y="135"/>
                  </a:cubicBezTo>
                  <a:cubicBezTo>
                    <a:pt x="568" y="145"/>
                    <a:pt x="565" y="164"/>
                    <a:pt x="565" y="180"/>
                  </a:cubicBezTo>
                  <a:cubicBezTo>
                    <a:pt x="565" y="397"/>
                    <a:pt x="526" y="354"/>
                    <a:pt x="625" y="420"/>
                  </a:cubicBezTo>
                  <a:cubicBezTo>
                    <a:pt x="695" y="415"/>
                    <a:pt x="767" y="421"/>
                    <a:pt x="835" y="405"/>
                  </a:cubicBezTo>
                  <a:cubicBezTo>
                    <a:pt x="856" y="400"/>
                    <a:pt x="864" y="374"/>
                    <a:pt x="880" y="360"/>
                  </a:cubicBezTo>
                  <a:cubicBezTo>
                    <a:pt x="937" y="312"/>
                    <a:pt x="981" y="279"/>
                    <a:pt x="1015" y="21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rot="9289200">
              <a:off x="1013040" y="5601960"/>
              <a:ext cx="668880" cy="64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1784600">
              <a:off x="2035440" y="5603760"/>
              <a:ext cx="900360" cy="64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19" y="20276"/>
                  </a:moveTo>
                  <a:arcTo wR="10800" hR="10800" stAng="7119980" swAng="12461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5619" y="20276"/>
                  </a:moveTo>
                  <a:arcTo wR="10800" hR="10800" stAng="7119980" swAng="12461724"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43280" y="2565360"/>
            <a:ext cx="433440" cy="4096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404640"/>
            <a:ext cx="3390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ознакомьтесь!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32360" y="476280"/>
            <a:ext cx="2209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Это точка.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3080" y="1197000"/>
            <a:ext cx="8800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505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очка умеет делать удивительные вещи.</a:t>
            </a:r>
            <a:endParaRPr b="0" lang="en-US" sz="1800" spc="1" strike="noStrike">
              <a:ln w="9360">
                <a:solidFill>
                  <a:srgbClr val="ff505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18923400">
            <a:off x="3103560" y="219528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8923400">
            <a:off x="3308400" y="21967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923400">
            <a:off x="3513240" y="21967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8923400">
            <a:off x="3716280" y="219816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8923400">
            <a:off x="3917880" y="219996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8923400">
            <a:off x="4122720" y="220140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8923400">
            <a:off x="4327560" y="220320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8923400">
            <a:off x="4530600" y="220644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8923400">
            <a:off x="4734000" y="220644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8923400">
            <a:off x="4938840" y="220788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8923400">
            <a:off x="5141880" y="220932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8923400">
            <a:off x="5343480" y="22111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8923400">
            <a:off x="5548320" y="22111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8923400">
            <a:off x="5753160" y="221256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8923400">
            <a:off x="5983200" y="219528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8923400">
            <a:off x="6188040" y="21967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8923400">
            <a:off x="6392880" y="21967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923400">
            <a:off x="6595920" y="2198160"/>
            <a:ext cx="21780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923400">
            <a:off x="6797520" y="2199960"/>
            <a:ext cx="21780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23400">
            <a:off x="7002360" y="220140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923400">
            <a:off x="7207200" y="220320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8923400">
            <a:off x="7410600" y="220644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923400">
            <a:off x="7613640" y="220644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8923400">
            <a:off x="7818480" y="220788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8923400">
            <a:off x="8021520" y="220932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8923400">
            <a:off x="8223120" y="22111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8923400">
            <a:off x="8427960" y="2211120"/>
            <a:ext cx="217440" cy="19512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8923400">
            <a:off x="8632800" y="2212560"/>
            <a:ext cx="217440" cy="1954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8923400">
            <a:off x="1116000" y="551628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8923400">
            <a:off x="1320840" y="551772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8923400">
            <a:off x="1525680" y="551772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923400">
            <a:off x="1728720" y="551952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8923400">
            <a:off x="1930320" y="552096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8923400">
            <a:off x="2135160" y="552240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8923400">
            <a:off x="2340000" y="552420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449000">
            <a:off x="1823760" y="420012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449000">
            <a:off x="1896840" y="439236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449000">
            <a:off x="1969560" y="4583160"/>
            <a:ext cx="21780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449000">
            <a:off x="2042640" y="477180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449000">
            <a:off x="2114280" y="496044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449000">
            <a:off x="2187360" y="515268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449000">
            <a:off x="2260080" y="5343120"/>
            <a:ext cx="21780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3931800">
            <a:off x="1608120" y="419904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3931800">
            <a:off x="1536120" y="438912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3931800">
            <a:off x="1465200" y="458316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3931800">
            <a:off x="1393920" y="477216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3931800">
            <a:off x="1321920" y="496080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3931800">
            <a:off x="1251000" y="515304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3931800">
            <a:off x="1179000" y="534492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8923400">
            <a:off x="4859280" y="544464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8923400">
            <a:off x="5064120" y="544644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923400">
            <a:off x="5268960" y="544644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8923400">
            <a:off x="5472000" y="544788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8923400">
            <a:off x="5673600" y="544968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923400">
            <a:off x="5878440" y="545112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923400">
            <a:off x="6083280" y="545256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23400">
            <a:off x="1187280" y="2852280"/>
            <a:ext cx="21780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23400">
            <a:off x="1403280" y="285228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8923400">
            <a:off x="1619280" y="285228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23400">
            <a:off x="1835280" y="285228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23400">
            <a:off x="2050920" y="285228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23400">
            <a:off x="1116000" y="400500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8923400">
            <a:off x="1320840" y="400644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23400">
            <a:off x="1525680" y="400644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923400">
            <a:off x="1728720" y="400824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923400">
            <a:off x="1930320" y="400968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8923400">
            <a:off x="2135160" y="401112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4420200">
            <a:off x="1607760" y="300852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4420200">
            <a:off x="1539360" y="317628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4420200">
            <a:off x="1442520" y="335556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4420200">
            <a:off x="1345680" y="353520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4420200">
            <a:off x="1248840" y="371124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420200">
            <a:off x="1150560" y="389088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771000">
            <a:off x="1844640" y="308628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771000">
            <a:off x="1952640" y="325908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771000">
            <a:off x="2062080" y="343224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771000">
            <a:off x="2170080" y="360360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71000">
            <a:off x="2278080" y="377496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771000">
            <a:off x="2386080" y="394812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4391400">
            <a:off x="1728360" y="1903320"/>
            <a:ext cx="21780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4391400">
            <a:off x="1631520" y="208296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4391400">
            <a:off x="1536120" y="2263680"/>
            <a:ext cx="21780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4391400">
            <a:off x="1391760" y="243216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4391400">
            <a:off x="1344240" y="262116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203000">
            <a:off x="1763280" y="1989000"/>
            <a:ext cx="21744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203000">
            <a:off x="1835280" y="2133360"/>
            <a:ext cx="287280" cy="287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203000">
            <a:off x="1979280" y="242100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203000">
            <a:off x="2123640" y="263700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203000">
            <a:off x="2268000" y="2852640"/>
            <a:ext cx="217800" cy="195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8123400">
            <a:off x="6079680" y="394020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8123400">
            <a:off x="5874480" y="3938760"/>
            <a:ext cx="21780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8123400">
            <a:off x="5670360" y="393876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8123400">
            <a:off x="5466960" y="393660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8123400">
            <a:off x="5265360" y="393552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8123400">
            <a:off x="5060520" y="393336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8123400">
            <a:off x="4855680" y="393228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723400">
            <a:off x="6079680" y="401652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2723400">
            <a:off x="6078600" y="422136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2723400">
            <a:off x="6078600" y="4425840"/>
            <a:ext cx="21780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2723400">
            <a:off x="6076440" y="462924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2723400">
            <a:off x="6075360" y="483084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723400">
            <a:off x="6073200" y="503568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723400">
            <a:off x="6072120" y="524052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723400">
            <a:off x="4854600" y="401652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2723400">
            <a:off x="4852440" y="422136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723400">
            <a:off x="4852440" y="4425840"/>
            <a:ext cx="21780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723400">
            <a:off x="4851360" y="462924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2723400">
            <a:off x="4849920" y="483084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723400">
            <a:off x="4847760" y="503568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723400">
            <a:off x="4846680" y="524052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8123400">
            <a:off x="6078240" y="4133880"/>
            <a:ext cx="217440" cy="1951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723400">
            <a:off x="6078600" y="421020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723400">
            <a:off x="6076440" y="441504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2723400">
            <a:off x="6076440" y="4619520"/>
            <a:ext cx="21780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723400">
            <a:off x="6073200" y="502452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723400">
            <a:off x="6076440" y="483084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723400">
            <a:off x="6073200" y="524052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8123400">
            <a:off x="6079680" y="413388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2723400">
            <a:off x="6079680" y="4210200"/>
            <a:ext cx="217440" cy="1954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723400">
            <a:off x="6078600" y="441504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723400">
            <a:off x="6078600" y="4619520"/>
            <a:ext cx="21780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723400">
            <a:off x="6075360" y="5024520"/>
            <a:ext cx="217440" cy="19512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723400">
            <a:off x="6145200" y="3656160"/>
            <a:ext cx="217440" cy="19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2723400">
            <a:off x="5855760" y="3368880"/>
            <a:ext cx="217440" cy="19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723400">
            <a:off x="5421600" y="2937960"/>
            <a:ext cx="217440" cy="190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8923400">
            <a:off x="5003640" y="3357360"/>
            <a:ext cx="217800" cy="19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8123400">
            <a:off x="4571640" y="3789360"/>
            <a:ext cx="217440" cy="19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23400">
            <a:off x="4704840" y="3656160"/>
            <a:ext cx="217440" cy="19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2723400">
            <a:off x="4847760" y="3511440"/>
            <a:ext cx="217800" cy="19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723400">
            <a:off x="6432480" y="3944880"/>
            <a:ext cx="217440" cy="19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723400">
            <a:off x="6289200" y="3800520"/>
            <a:ext cx="217440" cy="19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8123400">
            <a:off x="4427280" y="4005360"/>
            <a:ext cx="217440" cy="195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2723400">
            <a:off x="5565960" y="3082320"/>
            <a:ext cx="217440" cy="190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8123400">
            <a:off x="5147640" y="3212640"/>
            <a:ext cx="212760" cy="19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2723400">
            <a:off x="5711040" y="3226320"/>
            <a:ext cx="217440" cy="1908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723400">
            <a:off x="5278680" y="3082320"/>
            <a:ext cx="217440" cy="1904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8123400">
            <a:off x="6011280" y="3499920"/>
            <a:ext cx="212760" cy="195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5280" y="260280"/>
            <a:ext cx="8448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ак умеет рисовать простая маленькая точка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581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ждая точка имеет своё им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чему-то точки любят выбирать себе имена из букв латинского алфавита. Постараемся запомнить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76000" y="2349360"/>
            <a:ext cx="8636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5640" y="2421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55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55640" y="393372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26920" y="47242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55640" y="551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771640" y="2421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700360" y="328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771640" y="400536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700360" y="4724280"/>
            <a:ext cx="304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00360" y="551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859280" y="2421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788000" y="3284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788000" y="407664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164360" y="328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093080" y="234936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716360" y="5589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788000" y="4797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164360" y="5589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164360" y="4869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164360" y="4076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421000"/>
            <a:ext cx="107928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35640" y="2492280"/>
            <a:ext cx="1079640" cy="36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67640" y="2349360"/>
            <a:ext cx="147636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ГР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2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20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20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20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20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20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2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20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20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2000"/>
                                        <p:tgtEl>
                                          <p:spTgt spid="2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20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20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20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2881440" y="662040"/>
            <a:ext cx="3074760" cy="2797560"/>
            <a:chOff x="2881440" y="662040"/>
            <a:chExt cx="3074760" cy="2797560"/>
          </a:xfrm>
        </p:grpSpPr>
        <p:sp>
          <p:nvSpPr>
            <p:cNvPr id="222" name=""/>
            <p:cNvSpPr/>
            <p:nvPr/>
          </p:nvSpPr>
          <p:spPr>
            <a:xfrm rot="296400">
              <a:off x="2987280" y="772200"/>
              <a:ext cx="2677680" cy="257652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1097000">
              <a:off x="4962960" y="2145960"/>
              <a:ext cx="66744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88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88333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96400">
              <a:off x="4039560" y="810000"/>
              <a:ext cx="1887480" cy="753120"/>
            </a:xfrm>
            <a:custGeom>
              <a:avLst/>
              <a:gdLst/>
              <a:ahLst/>
              <a:rect l="l" t="t" r="r" b="b"/>
              <a:pathLst>
                <a:path w="1015" h="421">
                  <a:moveTo>
                    <a:pt x="55" y="0"/>
                  </a:moveTo>
                  <a:cubicBezTo>
                    <a:pt x="20" y="104"/>
                    <a:pt x="0" y="204"/>
                    <a:pt x="100" y="270"/>
                  </a:cubicBezTo>
                  <a:cubicBezTo>
                    <a:pt x="292" y="256"/>
                    <a:pt x="301" y="291"/>
                    <a:pt x="385" y="165"/>
                  </a:cubicBezTo>
                  <a:cubicBezTo>
                    <a:pt x="377" y="118"/>
                    <a:pt x="389" y="56"/>
                    <a:pt x="325" y="45"/>
                  </a:cubicBezTo>
                  <a:cubicBezTo>
                    <a:pt x="309" y="42"/>
                    <a:pt x="295" y="55"/>
                    <a:pt x="280" y="60"/>
                  </a:cubicBezTo>
                  <a:cubicBezTo>
                    <a:pt x="254" y="137"/>
                    <a:pt x="219" y="236"/>
                    <a:pt x="265" y="315"/>
                  </a:cubicBezTo>
                  <a:cubicBezTo>
                    <a:pt x="281" y="342"/>
                    <a:pt x="355" y="345"/>
                    <a:pt x="355" y="345"/>
                  </a:cubicBezTo>
                  <a:cubicBezTo>
                    <a:pt x="576" y="332"/>
                    <a:pt x="584" y="371"/>
                    <a:pt x="700" y="255"/>
                  </a:cubicBezTo>
                  <a:cubicBezTo>
                    <a:pt x="730" y="166"/>
                    <a:pt x="760" y="172"/>
                    <a:pt x="685" y="135"/>
                  </a:cubicBezTo>
                  <a:cubicBezTo>
                    <a:pt x="671" y="128"/>
                    <a:pt x="655" y="125"/>
                    <a:pt x="640" y="120"/>
                  </a:cubicBezTo>
                  <a:cubicBezTo>
                    <a:pt x="620" y="125"/>
                    <a:pt x="596" y="122"/>
                    <a:pt x="580" y="135"/>
                  </a:cubicBezTo>
                  <a:cubicBezTo>
                    <a:pt x="568" y="145"/>
                    <a:pt x="565" y="164"/>
                    <a:pt x="565" y="180"/>
                  </a:cubicBezTo>
                  <a:cubicBezTo>
                    <a:pt x="565" y="397"/>
                    <a:pt x="526" y="354"/>
                    <a:pt x="625" y="420"/>
                  </a:cubicBezTo>
                  <a:cubicBezTo>
                    <a:pt x="695" y="415"/>
                    <a:pt x="767" y="421"/>
                    <a:pt x="835" y="405"/>
                  </a:cubicBezTo>
                  <a:cubicBezTo>
                    <a:pt x="856" y="400"/>
                    <a:pt x="864" y="374"/>
                    <a:pt x="880" y="360"/>
                  </a:cubicBezTo>
                  <a:cubicBezTo>
                    <a:pt x="937" y="312"/>
                    <a:pt x="981" y="279"/>
                    <a:pt x="1015" y="21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rot="11096400">
              <a:off x="2963520" y="1973160"/>
              <a:ext cx="668880" cy="6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3591800">
              <a:off x="3831840" y="2547000"/>
              <a:ext cx="900360" cy="640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19" y="20276"/>
                  </a:moveTo>
                  <a:arcTo wR="10800" hR="10800" stAng="7119980" swAng="12461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5619" y="20276"/>
                  </a:moveTo>
                  <a:arcTo wR="10800" hR="10800" stAng="7119980" swAng="12461724"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440680" y="2833200"/>
            <a:ext cx="3450240" cy="3220200"/>
            <a:chOff x="5440680" y="2833200"/>
            <a:chExt cx="3450240" cy="3220200"/>
          </a:xfrm>
        </p:grpSpPr>
        <p:sp>
          <p:nvSpPr>
            <p:cNvPr id="228" name=""/>
            <p:cNvSpPr/>
            <p:nvPr/>
          </p:nvSpPr>
          <p:spPr>
            <a:xfrm rot="1989000">
              <a:off x="5844240" y="3333960"/>
              <a:ext cx="2491920" cy="2218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2789000">
              <a:off x="7408800" y="4908960"/>
              <a:ext cx="621360" cy="55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88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88333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989000">
              <a:off x="7099920" y="3745080"/>
              <a:ext cx="1756440" cy="648360"/>
            </a:xfrm>
            <a:custGeom>
              <a:avLst/>
              <a:gdLst/>
              <a:ahLst/>
              <a:rect l="l" t="t" r="r" b="b"/>
              <a:pathLst>
                <a:path w="1015" h="421">
                  <a:moveTo>
                    <a:pt x="55" y="0"/>
                  </a:moveTo>
                  <a:cubicBezTo>
                    <a:pt x="20" y="104"/>
                    <a:pt x="0" y="204"/>
                    <a:pt x="100" y="270"/>
                  </a:cubicBezTo>
                  <a:cubicBezTo>
                    <a:pt x="292" y="256"/>
                    <a:pt x="301" y="291"/>
                    <a:pt x="385" y="165"/>
                  </a:cubicBezTo>
                  <a:cubicBezTo>
                    <a:pt x="377" y="118"/>
                    <a:pt x="389" y="56"/>
                    <a:pt x="325" y="45"/>
                  </a:cubicBezTo>
                  <a:cubicBezTo>
                    <a:pt x="309" y="42"/>
                    <a:pt x="295" y="55"/>
                    <a:pt x="280" y="60"/>
                  </a:cubicBezTo>
                  <a:cubicBezTo>
                    <a:pt x="254" y="137"/>
                    <a:pt x="219" y="236"/>
                    <a:pt x="265" y="315"/>
                  </a:cubicBezTo>
                  <a:cubicBezTo>
                    <a:pt x="281" y="342"/>
                    <a:pt x="355" y="345"/>
                    <a:pt x="355" y="345"/>
                  </a:cubicBezTo>
                  <a:cubicBezTo>
                    <a:pt x="576" y="332"/>
                    <a:pt x="584" y="371"/>
                    <a:pt x="700" y="255"/>
                  </a:cubicBezTo>
                  <a:cubicBezTo>
                    <a:pt x="730" y="166"/>
                    <a:pt x="760" y="172"/>
                    <a:pt x="685" y="135"/>
                  </a:cubicBezTo>
                  <a:cubicBezTo>
                    <a:pt x="671" y="128"/>
                    <a:pt x="655" y="125"/>
                    <a:pt x="640" y="120"/>
                  </a:cubicBezTo>
                  <a:cubicBezTo>
                    <a:pt x="620" y="125"/>
                    <a:pt x="596" y="122"/>
                    <a:pt x="580" y="135"/>
                  </a:cubicBezTo>
                  <a:cubicBezTo>
                    <a:pt x="568" y="145"/>
                    <a:pt x="565" y="164"/>
                    <a:pt x="565" y="180"/>
                  </a:cubicBezTo>
                  <a:cubicBezTo>
                    <a:pt x="565" y="397"/>
                    <a:pt x="526" y="354"/>
                    <a:pt x="625" y="420"/>
                  </a:cubicBezTo>
                  <a:cubicBezTo>
                    <a:pt x="695" y="415"/>
                    <a:pt x="767" y="421"/>
                    <a:pt x="835" y="405"/>
                  </a:cubicBezTo>
                  <a:cubicBezTo>
                    <a:pt x="856" y="400"/>
                    <a:pt x="864" y="374"/>
                    <a:pt x="880" y="360"/>
                  </a:cubicBezTo>
                  <a:cubicBezTo>
                    <a:pt x="937" y="312"/>
                    <a:pt x="981" y="279"/>
                    <a:pt x="1015" y="21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12788400">
              <a:off x="5844600" y="3887640"/>
              <a:ext cx="622080" cy="55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0293000">
              <a:off x="6337080" y="4776840"/>
              <a:ext cx="837720" cy="55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19" y="20276"/>
                  </a:moveTo>
                  <a:arcTo wR="10800" hR="10800" stAng="7119980" swAng="12461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5619" y="20276"/>
                  </a:moveTo>
                  <a:arcTo wR="10800" hR="10800" stAng="7119980" swAng="12461724"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82040" y="3087360"/>
            <a:ext cx="2868480" cy="2913120"/>
            <a:chOff x="482040" y="3087360"/>
            <a:chExt cx="2868480" cy="2913120"/>
          </a:xfrm>
        </p:grpSpPr>
        <p:sp>
          <p:nvSpPr>
            <p:cNvPr id="234" name=""/>
            <p:cNvSpPr/>
            <p:nvPr/>
          </p:nvSpPr>
          <p:spPr>
            <a:xfrm rot="19959000">
              <a:off x="838080" y="3546000"/>
              <a:ext cx="2156400" cy="207468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9159000">
              <a:off x="2483640" y="4183920"/>
              <a:ext cx="537480" cy="5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088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088333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9959000">
              <a:off x="1227240" y="3402720"/>
              <a:ext cx="1519920" cy="606240"/>
            </a:xfrm>
            <a:custGeom>
              <a:avLst/>
              <a:gdLst/>
              <a:ahLst/>
              <a:rect l="l" t="t" r="r" b="b"/>
              <a:pathLst>
                <a:path w="1015" h="421">
                  <a:moveTo>
                    <a:pt x="55" y="0"/>
                  </a:moveTo>
                  <a:cubicBezTo>
                    <a:pt x="20" y="104"/>
                    <a:pt x="0" y="204"/>
                    <a:pt x="100" y="270"/>
                  </a:cubicBezTo>
                  <a:cubicBezTo>
                    <a:pt x="292" y="256"/>
                    <a:pt x="301" y="291"/>
                    <a:pt x="385" y="165"/>
                  </a:cubicBezTo>
                  <a:cubicBezTo>
                    <a:pt x="377" y="118"/>
                    <a:pt x="389" y="56"/>
                    <a:pt x="325" y="45"/>
                  </a:cubicBezTo>
                  <a:cubicBezTo>
                    <a:pt x="309" y="42"/>
                    <a:pt x="295" y="55"/>
                    <a:pt x="280" y="60"/>
                  </a:cubicBezTo>
                  <a:cubicBezTo>
                    <a:pt x="254" y="137"/>
                    <a:pt x="219" y="236"/>
                    <a:pt x="265" y="315"/>
                  </a:cubicBezTo>
                  <a:cubicBezTo>
                    <a:pt x="281" y="342"/>
                    <a:pt x="355" y="345"/>
                    <a:pt x="355" y="345"/>
                  </a:cubicBezTo>
                  <a:cubicBezTo>
                    <a:pt x="576" y="332"/>
                    <a:pt x="584" y="371"/>
                    <a:pt x="700" y="255"/>
                  </a:cubicBezTo>
                  <a:cubicBezTo>
                    <a:pt x="730" y="166"/>
                    <a:pt x="760" y="172"/>
                    <a:pt x="685" y="135"/>
                  </a:cubicBezTo>
                  <a:cubicBezTo>
                    <a:pt x="671" y="128"/>
                    <a:pt x="655" y="125"/>
                    <a:pt x="640" y="120"/>
                  </a:cubicBezTo>
                  <a:cubicBezTo>
                    <a:pt x="620" y="125"/>
                    <a:pt x="596" y="122"/>
                    <a:pt x="580" y="135"/>
                  </a:cubicBezTo>
                  <a:cubicBezTo>
                    <a:pt x="568" y="145"/>
                    <a:pt x="565" y="164"/>
                    <a:pt x="565" y="180"/>
                  </a:cubicBezTo>
                  <a:cubicBezTo>
                    <a:pt x="565" y="397"/>
                    <a:pt x="526" y="354"/>
                    <a:pt x="625" y="420"/>
                  </a:cubicBezTo>
                  <a:cubicBezTo>
                    <a:pt x="695" y="415"/>
                    <a:pt x="767" y="421"/>
                    <a:pt x="835" y="405"/>
                  </a:cubicBezTo>
                  <a:cubicBezTo>
                    <a:pt x="856" y="400"/>
                    <a:pt x="864" y="374"/>
                    <a:pt x="880" y="360"/>
                  </a:cubicBezTo>
                  <a:cubicBezTo>
                    <a:pt x="937" y="312"/>
                    <a:pt x="981" y="279"/>
                    <a:pt x="1015" y="210"/>
                  </a:cubicBezTo>
                </a:path>
              </a:pathLst>
            </a:custGeom>
            <a:noFill/>
            <a:ln w="190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rot="9159000">
              <a:off x="1047960" y="4926240"/>
              <a:ext cx="538560" cy="5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1654400">
              <a:off x="1870200" y="4893480"/>
              <a:ext cx="725040" cy="51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19" y="20276"/>
                  </a:moveTo>
                  <a:arcTo wR="10800" hR="10800" stAng="7119980" swAng="12461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5619" y="20276"/>
                  </a:moveTo>
                  <a:arcTo wR="10800" hR="10800" stAng="7119980" swAng="12461724"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2340000" y="5589720"/>
            <a:ext cx="475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 скорой встречи!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1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762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763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771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772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1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782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783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0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791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792" dur="1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1" dur="20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3" dur="2000" fill="hold"/>
                                        <p:tgtEl>
                                          <p:spTgt spid="2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1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ю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«Представление Весёлой Точки»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оформила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номарева Ольга Ивановна, учитель начальных классов Кардымовской средней школы Кардымовского района Смоленской облас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011 – 2012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8:58:51Z</dcterms:created>
  <dc:creator>Admin</dc:creator>
  <dc:description/>
  <dc:language>en-US</dc:language>
  <cp:lastModifiedBy>Admin</cp:lastModifiedBy>
  <dcterms:modified xsi:type="dcterms:W3CDTF">2012-01-30T14:36:29Z</dcterms:modified>
  <cp:revision>9</cp:revision>
  <dc:subject/>
  <dc:title>Слайд 1</dc:title>
</cp:coreProperties>
</file>