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7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19F4-2243-47C9-84A2-F4312347B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48F1-2ED7-4D56-8DCA-97F6AE86F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C584-DA6A-42AA-A6D6-D0806082F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9C71-19CC-4CF1-98AC-FEA45A658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41D8-0473-4AB0-AD23-D5CD07914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330E-F5A9-423D-B983-60656A34F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F0D3-2B72-4C10-95C7-A93CC6120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95E7-BC15-4FBE-A4D1-362B49C96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2028-324F-46BC-8D65-B2BEEEC8D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FEFA-4D65-45D6-B579-0D7AA9079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FEE9-E4C3-45AB-A37D-D168C711B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2B23-F462-49D7-9B85-77DE35D0B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2A384-1D7F-4D36-9CEA-85757CA853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1557000"/>
            <a:ext cx="7989840" cy="20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2163e7"/>
                </a:solidFill>
                <a:latin typeface="Arial"/>
              </a:rPr>
              <a:t>Удивительный</a:t>
            </a:r>
            <a:br>
              <a:rPr sz="6600"/>
            </a:br>
            <a:r>
              <a:rPr b="0" lang="ru-RU" sz="6600" spc="-1" strike="noStrike">
                <a:solidFill>
                  <a:srgbClr val="2163e7"/>
                </a:solidFill>
                <a:latin typeface="Arial"/>
              </a:rPr>
              <a:t> сон  Гео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395280" y="3141720"/>
            <a:ext cx="1943280" cy="2736720"/>
            <a:chOff x="395280" y="3141720"/>
            <a:chExt cx="1943280" cy="2736720"/>
          </a:xfrm>
        </p:grpSpPr>
        <p:sp>
          <p:nvSpPr>
            <p:cNvPr id="43" name=""/>
            <p:cNvSpPr/>
            <p:nvPr/>
          </p:nvSpPr>
          <p:spPr>
            <a:xfrm>
              <a:off x="395280" y="3141720"/>
              <a:ext cx="1943280" cy="2376360"/>
            </a:xfrm>
            <a:prstGeom prst="triangle">
              <a:avLst>
                <a:gd name="adj" fmla="val 50000"/>
              </a:avLst>
            </a:prstGeom>
            <a:solidFill>
              <a:srgbClr val="0099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rot="6228600">
              <a:off x="973800" y="4218840"/>
              <a:ext cx="226800" cy="520560"/>
            </a:xfrm>
            <a:custGeom>
              <a:avLst/>
              <a:gdLst/>
              <a:ahLst/>
              <a:rect l="l" t="t" r="r" b="b"/>
              <a:pathLst>
                <a:path w="907" h="370">
                  <a:moveTo>
                    <a:pt x="0" y="53"/>
                  </a:moveTo>
                  <a:cubicBezTo>
                    <a:pt x="453" y="26"/>
                    <a:pt x="907" y="0"/>
                    <a:pt x="907" y="53"/>
                  </a:cubicBezTo>
                  <a:cubicBezTo>
                    <a:pt x="907" y="106"/>
                    <a:pt x="144" y="317"/>
                    <a:pt x="0" y="37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rot="6228600">
              <a:off x="1910160" y="4074120"/>
              <a:ext cx="226800" cy="520920"/>
            </a:xfrm>
            <a:custGeom>
              <a:avLst/>
              <a:gdLst/>
              <a:ahLst/>
              <a:rect l="l" t="t" r="r" b="b"/>
              <a:pathLst>
                <a:path w="907" h="370">
                  <a:moveTo>
                    <a:pt x="0" y="53"/>
                  </a:moveTo>
                  <a:cubicBezTo>
                    <a:pt x="453" y="26"/>
                    <a:pt x="907" y="0"/>
                    <a:pt x="907" y="53"/>
                  </a:cubicBezTo>
                  <a:cubicBezTo>
                    <a:pt x="907" y="106"/>
                    <a:pt x="144" y="317"/>
                    <a:pt x="0" y="37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827280" y="5518080"/>
              <a:ext cx="287280" cy="360360"/>
            </a:xfrm>
            <a:prstGeom prst="triangle">
              <a:avLst>
                <a:gd name="adj" fmla="val 50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548000" y="5518080"/>
              <a:ext cx="287280" cy="360360"/>
            </a:xfrm>
            <a:prstGeom prst="triangle">
              <a:avLst>
                <a:gd name="adj" fmla="val 50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" name=""/>
          <p:cNvGrpSpPr/>
          <p:nvPr/>
        </p:nvGrpSpPr>
        <p:grpSpPr>
          <a:xfrm>
            <a:off x="607320" y="2322720"/>
            <a:ext cx="1787040" cy="1553040"/>
            <a:chOff x="607320" y="2322720"/>
            <a:chExt cx="1787040" cy="1553040"/>
          </a:xfrm>
        </p:grpSpPr>
        <p:sp>
          <p:nvSpPr>
            <p:cNvPr id="49" name=""/>
            <p:cNvSpPr/>
            <p:nvPr/>
          </p:nvSpPr>
          <p:spPr>
            <a:xfrm rot="21417600">
              <a:off x="2060280" y="3103920"/>
              <a:ext cx="215640" cy="287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rot="21417600">
              <a:off x="614520" y="3036240"/>
              <a:ext cx="216000" cy="287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rot="21417600">
              <a:off x="738000" y="2360520"/>
              <a:ext cx="1008000" cy="825480"/>
            </a:xfrm>
            <a:prstGeom prst="cloudCallout">
              <a:avLst>
                <a:gd name="adj1" fmla="val -44328"/>
                <a:gd name="adj2" fmla="val 64805"/>
              </a:avLst>
            </a:prstGeom>
            <a:solidFill>
              <a:srgbClr val="a62c2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rot="2377800">
              <a:off x="1390320" y="2544120"/>
              <a:ext cx="914400" cy="609840"/>
            </a:xfrm>
            <a:prstGeom prst="cloudCallout">
              <a:avLst>
                <a:gd name="adj1" fmla="val -43750"/>
                <a:gd name="adj2" fmla="val 70000"/>
              </a:avLst>
            </a:prstGeom>
            <a:solidFill>
              <a:srgbClr val="a62c2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 rot="21417600">
              <a:off x="761040" y="2566080"/>
              <a:ext cx="1346400" cy="1274760"/>
            </a:xfrm>
            <a:prstGeom prst="ellipse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21417600">
              <a:off x="1112760" y="3011760"/>
              <a:ext cx="144360" cy="122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rot="21417600">
              <a:off x="1616760" y="2985120"/>
              <a:ext cx="144360" cy="122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rot="10617600">
              <a:off x="1207440" y="3357720"/>
              <a:ext cx="504720" cy="21564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e90d1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1175040" y="2565360"/>
              <a:ext cx="271800" cy="302040"/>
            </a:xfrm>
            <a:prstGeom prst="line">
              <a:avLst/>
            </a:prstGeom>
            <a:ln w="38160">
              <a:solidFill>
                <a:srgbClr val="a62c2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1319040" y="2565360"/>
              <a:ext cx="127440" cy="296280"/>
            </a:xfrm>
            <a:prstGeom prst="line">
              <a:avLst/>
            </a:prstGeom>
            <a:ln w="38160">
              <a:solidFill>
                <a:srgbClr val="a62c2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442880" y="2494080"/>
              <a:ext cx="159480" cy="279000"/>
            </a:xfrm>
            <a:prstGeom prst="line">
              <a:avLst/>
            </a:prstGeom>
            <a:ln w="38160">
              <a:solidFill>
                <a:srgbClr val="a62c2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446840" y="2565360"/>
              <a:ext cx="11520" cy="215640"/>
            </a:xfrm>
            <a:prstGeom prst="line">
              <a:avLst/>
            </a:prstGeom>
            <a:ln w="28440">
              <a:solidFill>
                <a:srgbClr val="a62c2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H="1">
              <a:off x="1026720" y="2565360"/>
              <a:ext cx="420120" cy="238320"/>
            </a:xfrm>
            <a:prstGeom prst="line">
              <a:avLst/>
            </a:prstGeom>
            <a:ln w="28440">
              <a:solidFill>
                <a:srgbClr val="a62c2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 rot="21050400">
            <a:off x="2410920" y="1844280"/>
            <a:ext cx="5400720" cy="50472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95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Меня зовут Гео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21050400">
            <a:off x="2410920" y="1844640"/>
            <a:ext cx="5467320" cy="50472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100000">
                <a:srgbClr val="009900"/>
              </a:gs>
            </a:gsLst>
            <a:lin ang="595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Привет!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755640" y="260280"/>
            <a:ext cx="8137440" cy="184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Живу я в стране Геометрии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-252360" y="5445000"/>
            <a:ext cx="9720360" cy="2089440"/>
          </a:xfrm>
          <a:prstGeom prst="ellipse">
            <a:avLst/>
          </a:prstGeom>
          <a:solidFill>
            <a:srgbClr val="cbed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-360" y="2852640"/>
            <a:ext cx="9078840" cy="3746520"/>
            <a:chOff x="-360" y="2852640"/>
            <a:chExt cx="9078840" cy="3746520"/>
          </a:xfrm>
        </p:grpSpPr>
        <p:grpSp>
          <p:nvGrpSpPr>
            <p:cNvPr id="67" name=""/>
            <p:cNvGrpSpPr/>
            <p:nvPr/>
          </p:nvGrpSpPr>
          <p:grpSpPr>
            <a:xfrm>
              <a:off x="2228760" y="2852640"/>
              <a:ext cx="6849720" cy="3698640"/>
              <a:chOff x="2228760" y="2852640"/>
              <a:chExt cx="6849720" cy="3698640"/>
            </a:xfrm>
          </p:grpSpPr>
          <p:sp>
            <p:nvSpPr>
              <p:cNvPr id="68" name=""/>
              <p:cNvSpPr/>
              <p:nvPr/>
            </p:nvSpPr>
            <p:spPr>
              <a:xfrm>
                <a:off x="2228760" y="5419800"/>
                <a:ext cx="1461600" cy="981720"/>
              </a:xfrm>
              <a:prstGeom prst="rect">
                <a:avLst/>
              </a:prstGeom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3690360" y="5041800"/>
                <a:ext cx="1242720" cy="1358280"/>
              </a:xfrm>
              <a:prstGeom prst="rect">
                <a:avLst/>
              </a:prstGeom>
              <a:solidFill>
                <a:srgbClr val="9933ff"/>
              </a:solidFill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788000" y="5419800"/>
                <a:ext cx="1681200" cy="980280"/>
              </a:xfrm>
              <a:prstGeom prst="rect">
                <a:avLst/>
              </a:prstGeom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6103440" y="5343120"/>
                <a:ext cx="1097280" cy="1208160"/>
              </a:xfrm>
              <a:prstGeom prst="can">
                <a:avLst>
                  <a:gd name="adj" fmla="val 25000"/>
                </a:avLst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7199280" y="5494320"/>
                <a:ext cx="950760" cy="905400"/>
              </a:xfrm>
              <a:prstGeom prst="rect">
                <a:avLst/>
              </a:prstGeom>
              <a:solidFill>
                <a:srgbClr val="9933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150400" y="5267880"/>
                <a:ext cx="928080" cy="1273680"/>
              </a:xfrm>
              <a:prstGeom prst="can">
                <a:avLst>
                  <a:gd name="adj" fmla="val 25000"/>
                </a:avLst>
              </a:prstGeom>
              <a:solidFill>
                <a:srgbClr val="7fdb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2228760" y="4136040"/>
                <a:ext cx="1437480" cy="1283400"/>
              </a:xfrm>
              <a:prstGeom prst="triangle">
                <a:avLst>
                  <a:gd name="adj" fmla="val 50000"/>
                </a:avLst>
              </a:prstGeom>
              <a:solidFill>
                <a:srgbClr val="33cc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5400000">
                <a:off x="3519360" y="3702600"/>
                <a:ext cx="1584720" cy="1242720"/>
              </a:xfrm>
              <a:prstGeom prst="flowChartOnlineStorage">
                <a:avLst/>
              </a:prstGeom>
              <a:solidFill>
                <a:srgbClr val="ff66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347720" y="2852640"/>
                <a:ext cx="365760" cy="300960"/>
              </a:xfrm>
              <a:custGeom>
                <a:avLst/>
                <a:gdLst>
                  <a:gd name="textAreaLeft" fmla="*/ 0 w 365760"/>
                  <a:gd name="textAreaRight" fmla="*/ 366120 w 365760"/>
                  <a:gd name="textAreaTop" fmla="*/ 38880 h 300960"/>
                  <a:gd name="textAreaBottom" fmla="*/ 262080 h 300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400"/>
                    </a:moveTo>
                    <a:cubicBezTo>
                      <a:pt x="7200" y="-3560"/>
                      <a:pt x="14400" y="6360"/>
                      <a:pt x="21600" y="1400"/>
                    </a:cubicBezTo>
                    <a:lnTo>
                      <a:pt x="21600" y="20200"/>
                    </a:lnTo>
                    <a:cubicBezTo>
                      <a:pt x="14400" y="25160"/>
                      <a:pt x="7200" y="15240"/>
                      <a:pt x="0" y="2020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163e7"/>
                  </a:gs>
                  <a:gs pos="100000">
                    <a:srgbClr val="ff66cc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347720" y="2852640"/>
                <a:ext cx="0" cy="678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788000" y="5041800"/>
                <a:ext cx="1387800" cy="82872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60d3e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" name=""/>
              <p:cNvGrpSpPr/>
              <p:nvPr/>
            </p:nvGrpSpPr>
            <p:grpSpPr>
              <a:xfrm>
                <a:off x="7126920" y="4588560"/>
                <a:ext cx="1099080" cy="905400"/>
                <a:chOff x="7126920" y="4588560"/>
                <a:chExt cx="1099080" cy="905400"/>
              </a:xfrm>
            </p:grpSpPr>
            <p:sp>
              <p:nvSpPr>
                <p:cNvPr id="80" name="Pyr1"/>
                <p:cNvSpPr/>
                <p:nvPr/>
              </p:nvSpPr>
              <p:spPr>
                <a:xfrm>
                  <a:off x="7554600" y="4588560"/>
                  <a:ext cx="246240" cy="200520"/>
                </a:xfrm>
                <a:prstGeom prst="pie">
                  <a:avLst/>
                </a:prstGeom>
                <a:solidFill>
                  <a:srgbClr val="d8ebb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" name="Pyr2"/>
                <p:cNvSpPr/>
                <p:nvPr/>
              </p:nvSpPr>
              <p:spPr>
                <a:xfrm>
                  <a:off x="7412040" y="4789080"/>
                  <a:ext cx="530280" cy="235440"/>
                </a:xfrm>
                <a:prstGeom prst="pie">
                  <a:avLst/>
                </a:prstGeom>
                <a:solidFill>
                  <a:srgbClr val="cc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" name="Pyr3"/>
                <p:cNvSpPr/>
                <p:nvPr/>
              </p:nvSpPr>
              <p:spPr>
                <a:xfrm>
                  <a:off x="7270560" y="5024520"/>
                  <a:ext cx="812520" cy="235080"/>
                </a:xfrm>
                <a:prstGeom prst="pie">
                  <a:avLst/>
                </a:prstGeom>
                <a:solidFill>
                  <a:srgbClr val="ffbe7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Pyr4"/>
                <p:cNvSpPr/>
                <p:nvPr/>
              </p:nvSpPr>
              <p:spPr>
                <a:xfrm>
                  <a:off x="7126920" y="5258520"/>
                  <a:ext cx="1099080" cy="235440"/>
                </a:xfrm>
                <a:prstGeom prst="pie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4" name=""/>
              <p:cNvSpPr/>
              <p:nvPr/>
            </p:nvSpPr>
            <p:spPr>
              <a:xfrm>
                <a:off x="6322320" y="4889880"/>
                <a:ext cx="731520" cy="604080"/>
              </a:xfrm>
              <a:prstGeom prst="flowChartConnector">
                <a:avLst/>
              </a:prstGeom>
              <a:solidFill>
                <a:srgbClr val="ffff99"/>
              </a:solidFill>
              <a:ln w="381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8185680" y="4815360"/>
                <a:ext cx="731520" cy="604080"/>
              </a:xfrm>
              <a:prstGeom prst="flowChartConnector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"/>
            <p:cNvSpPr/>
            <p:nvPr/>
          </p:nvSpPr>
          <p:spPr>
            <a:xfrm>
              <a:off x="839880" y="4437000"/>
              <a:ext cx="1388880" cy="2162160"/>
            </a:xfrm>
            <a:prstGeom prst="flowChartMagneticDisk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965840"/>
              <a:ext cx="839880" cy="1360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rot="10800000">
              <a:off x="-360" y="4362480"/>
              <a:ext cx="839880" cy="681120"/>
            </a:xfrm>
            <a:prstGeom prst="flowChartManualOperation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116000" y="4149720"/>
              <a:ext cx="863640" cy="717480"/>
            </a:xfrm>
            <a:prstGeom prst="ellipse">
              <a:avLst/>
            </a:prstGeom>
            <a:solidFill>
              <a:srgbClr val="ffff66"/>
            </a:solidFill>
            <a:ln w="381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16" dur="2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18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" dur="2000" fill="hold"/>
                                        <p:tgtEl>
                                          <p:spTgt spid="6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" dur="1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2" dur="1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3" dur="1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3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" dur="3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" dur="1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55" dur="1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6" dur="1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65" dur="2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986 -0.16786 L 0.06233 0.0985 E">
                                      <p:cBhvr>
                                        <p:cTn id="77" dur="2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8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3264 -0.16093 L 0.07812 0.09849 E">
                                      <p:cBhvr>
                                        <p:cTn id="79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4" dur="3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89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4" dur="3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7" dur="3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1" dur="2000" fill="hold"/>
                                        <p:tgtEl>
                                          <p:spTgt spid="4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5" dur="1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06" dur="1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07" dur="1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116" dur="1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7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118" dur="1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122" dur="5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3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124" dur="5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28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30" dur="2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35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-1836720" y="-1395360"/>
            <a:ext cx="12312720" cy="6769080"/>
          </a:xfrm>
          <a:prstGeom prst="ellipse">
            <a:avLst/>
          </a:prstGeom>
          <a:solidFill>
            <a:srgbClr val="60d3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08720" y="-243000"/>
            <a:ext cx="3635280" cy="1871640"/>
          </a:xfrm>
          <a:prstGeom prst="cloudCallout">
            <a:avLst>
              <a:gd name="adj1" fmla="val 21879"/>
              <a:gd name="adj2" fmla="val -10898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rot="464400">
            <a:off x="-507960" y="1557360"/>
            <a:ext cx="10277280" cy="85597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7053120" y="4076640"/>
            <a:ext cx="285840" cy="2060640"/>
          </a:xfrm>
          <a:prstGeom prst="line">
            <a:avLst/>
          </a:prstGeom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7413480" y="4005360"/>
            <a:ext cx="285840" cy="2060640"/>
          </a:xfrm>
          <a:prstGeom prst="line">
            <a:avLst/>
          </a:prstGeom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7413480" y="3789360"/>
            <a:ext cx="648000" cy="2303640"/>
          </a:xfrm>
          <a:prstGeom prst="line">
            <a:avLst/>
          </a:prstGeom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395280" y="3141720"/>
            <a:ext cx="1943280" cy="2736720"/>
            <a:chOff x="395280" y="3141720"/>
            <a:chExt cx="1943280" cy="2736720"/>
          </a:xfrm>
        </p:grpSpPr>
        <p:sp>
          <p:nvSpPr>
            <p:cNvPr id="97" name=""/>
            <p:cNvSpPr/>
            <p:nvPr/>
          </p:nvSpPr>
          <p:spPr>
            <a:xfrm>
              <a:off x="395280" y="3141720"/>
              <a:ext cx="1943280" cy="2376360"/>
            </a:xfrm>
            <a:prstGeom prst="triangle">
              <a:avLst>
                <a:gd name="adj" fmla="val 50000"/>
              </a:avLst>
            </a:prstGeom>
            <a:solidFill>
              <a:srgbClr val="0099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rot="6228600">
              <a:off x="973800" y="4218840"/>
              <a:ext cx="226800" cy="520560"/>
            </a:xfrm>
            <a:custGeom>
              <a:avLst/>
              <a:gdLst/>
              <a:ahLst/>
              <a:rect l="l" t="t" r="r" b="b"/>
              <a:pathLst>
                <a:path w="907" h="370">
                  <a:moveTo>
                    <a:pt x="0" y="53"/>
                  </a:moveTo>
                  <a:cubicBezTo>
                    <a:pt x="453" y="26"/>
                    <a:pt x="907" y="0"/>
                    <a:pt x="907" y="53"/>
                  </a:cubicBezTo>
                  <a:cubicBezTo>
                    <a:pt x="907" y="106"/>
                    <a:pt x="144" y="317"/>
                    <a:pt x="0" y="37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 rot="6228600">
              <a:off x="1910160" y="4074120"/>
              <a:ext cx="226800" cy="520920"/>
            </a:xfrm>
            <a:custGeom>
              <a:avLst/>
              <a:gdLst/>
              <a:ahLst/>
              <a:rect l="l" t="t" r="r" b="b"/>
              <a:pathLst>
                <a:path w="907" h="370">
                  <a:moveTo>
                    <a:pt x="0" y="53"/>
                  </a:moveTo>
                  <a:cubicBezTo>
                    <a:pt x="453" y="26"/>
                    <a:pt x="907" y="0"/>
                    <a:pt x="907" y="53"/>
                  </a:cubicBezTo>
                  <a:cubicBezTo>
                    <a:pt x="907" y="106"/>
                    <a:pt x="144" y="317"/>
                    <a:pt x="0" y="37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27280" y="5518080"/>
              <a:ext cx="287280" cy="360360"/>
            </a:xfrm>
            <a:prstGeom prst="triangle">
              <a:avLst>
                <a:gd name="adj" fmla="val 50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548000" y="5518080"/>
              <a:ext cx="287280" cy="360360"/>
            </a:xfrm>
            <a:prstGeom prst="triangle">
              <a:avLst>
                <a:gd name="adj" fmla="val 50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607320" y="2322720"/>
            <a:ext cx="1787040" cy="1553040"/>
            <a:chOff x="607320" y="2322720"/>
            <a:chExt cx="1787040" cy="1553040"/>
          </a:xfrm>
        </p:grpSpPr>
        <p:sp>
          <p:nvSpPr>
            <p:cNvPr id="103" name=""/>
            <p:cNvSpPr/>
            <p:nvPr/>
          </p:nvSpPr>
          <p:spPr>
            <a:xfrm rot="21417600">
              <a:off x="2060280" y="3103920"/>
              <a:ext cx="215640" cy="287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21417600">
              <a:off x="614520" y="3036240"/>
              <a:ext cx="216000" cy="287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21417600">
              <a:off x="738000" y="2360520"/>
              <a:ext cx="1008000" cy="825480"/>
            </a:xfrm>
            <a:prstGeom prst="cloudCallout">
              <a:avLst>
                <a:gd name="adj1" fmla="val -44328"/>
                <a:gd name="adj2" fmla="val 64805"/>
              </a:avLst>
            </a:prstGeom>
            <a:solidFill>
              <a:srgbClr val="a62c2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rot="2377800">
              <a:off x="1390320" y="2544120"/>
              <a:ext cx="914400" cy="609840"/>
            </a:xfrm>
            <a:prstGeom prst="cloudCallout">
              <a:avLst>
                <a:gd name="adj1" fmla="val -43750"/>
                <a:gd name="adj2" fmla="val 70000"/>
              </a:avLst>
            </a:prstGeom>
            <a:solidFill>
              <a:srgbClr val="a62c2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flipV="1" rot="21417600">
              <a:off x="761040" y="2566080"/>
              <a:ext cx="1346400" cy="1274760"/>
            </a:xfrm>
            <a:prstGeom prst="ellipse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rot="21417600">
              <a:off x="1112760" y="3011760"/>
              <a:ext cx="144360" cy="122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rot="21417600">
              <a:off x="1616760" y="2985120"/>
              <a:ext cx="144360" cy="122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rot="10617600">
              <a:off x="1207440" y="3357720"/>
              <a:ext cx="504720" cy="21564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e90d1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1175040" y="2565360"/>
              <a:ext cx="271800" cy="302040"/>
            </a:xfrm>
            <a:prstGeom prst="line">
              <a:avLst/>
            </a:prstGeom>
            <a:ln w="38160">
              <a:solidFill>
                <a:srgbClr val="a62c2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1319040" y="2565360"/>
              <a:ext cx="127440" cy="296280"/>
            </a:xfrm>
            <a:prstGeom prst="line">
              <a:avLst/>
            </a:prstGeom>
            <a:ln w="38160">
              <a:solidFill>
                <a:srgbClr val="a62c2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442880" y="2494080"/>
              <a:ext cx="159480" cy="279000"/>
            </a:xfrm>
            <a:prstGeom prst="line">
              <a:avLst/>
            </a:prstGeom>
            <a:ln w="38160">
              <a:solidFill>
                <a:srgbClr val="a62c2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446840" y="2565360"/>
              <a:ext cx="11520" cy="215640"/>
            </a:xfrm>
            <a:prstGeom prst="line">
              <a:avLst/>
            </a:prstGeom>
            <a:ln w="28440">
              <a:solidFill>
                <a:srgbClr val="a62c2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1026720" y="2565360"/>
              <a:ext cx="420120" cy="238320"/>
            </a:xfrm>
            <a:prstGeom prst="line">
              <a:avLst/>
            </a:prstGeom>
            <a:ln w="28440">
              <a:solidFill>
                <a:srgbClr val="a62c2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4344480" y="1268280"/>
            <a:ext cx="3067560" cy="3069000"/>
            <a:chOff x="4344480" y="1268280"/>
            <a:chExt cx="3067560" cy="3069000"/>
          </a:xfrm>
        </p:grpSpPr>
        <p:grpSp>
          <p:nvGrpSpPr>
            <p:cNvPr id="117" name=""/>
            <p:cNvGrpSpPr/>
            <p:nvPr/>
          </p:nvGrpSpPr>
          <p:grpSpPr>
            <a:xfrm>
              <a:off x="4344480" y="1268280"/>
              <a:ext cx="3067560" cy="3069000"/>
              <a:chOff x="4344480" y="1268280"/>
              <a:chExt cx="3067560" cy="3069000"/>
            </a:xfrm>
          </p:grpSpPr>
          <p:sp>
            <p:nvSpPr>
              <p:cNvPr id="118" name=""/>
              <p:cNvSpPr/>
              <p:nvPr/>
            </p:nvSpPr>
            <p:spPr>
              <a:xfrm rot="1867800">
                <a:off x="4415760" y="2320200"/>
                <a:ext cx="1572840" cy="468000"/>
              </a:xfrm>
              <a:prstGeom prst="ellipse">
                <a:avLst/>
              </a:prstGeom>
              <a:solidFill>
                <a:srgbClr val="e90d1d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544200">
                <a:off x="4683240" y="1962000"/>
                <a:ext cx="1521720" cy="483840"/>
              </a:xfrm>
              <a:prstGeom prst="ellipse">
                <a:avLst/>
              </a:prstGeom>
              <a:solidFill>
                <a:srgbClr val="e90d1d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408000">
                <a:off x="5529600" y="3131640"/>
                <a:ext cx="1521360" cy="483840"/>
              </a:xfrm>
              <a:prstGeom prst="ellipse">
                <a:avLst/>
              </a:prstGeom>
              <a:solidFill>
                <a:srgbClr val="e90d1d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1242600">
                <a:off x="5807520" y="2905560"/>
                <a:ext cx="1572480" cy="468000"/>
              </a:xfrm>
              <a:prstGeom prst="ellipse">
                <a:avLst/>
              </a:prstGeom>
              <a:solidFill>
                <a:srgbClr val="e90d1d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807520" y="2554920"/>
                <a:ext cx="1572480" cy="467640"/>
              </a:xfrm>
              <a:prstGeom prst="ellipse">
                <a:avLst/>
              </a:prstGeom>
              <a:solidFill>
                <a:srgbClr val="e90d1d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9677600">
                <a:off x="5745960" y="2204280"/>
                <a:ext cx="1572480" cy="468000"/>
              </a:xfrm>
              <a:prstGeom prst="ellipse">
                <a:avLst/>
              </a:prstGeom>
              <a:solidFill>
                <a:srgbClr val="e90d1d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7623800">
                <a:off x="5529600" y="1961640"/>
                <a:ext cx="1521720" cy="483840"/>
              </a:xfrm>
              <a:prstGeom prst="ellipse">
                <a:avLst/>
              </a:prstGeom>
              <a:solidFill>
                <a:srgbClr val="e90d1d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5400000">
                <a:off x="5045760" y="1787040"/>
                <a:ext cx="1521360" cy="483840"/>
              </a:xfrm>
              <a:prstGeom prst="ellipse">
                <a:avLst/>
              </a:prstGeom>
              <a:solidFill>
                <a:srgbClr val="e90d1d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88400">
                <a:off x="4356000" y="2671920"/>
                <a:ext cx="1572480" cy="468000"/>
              </a:xfrm>
              <a:prstGeom prst="ellipse">
                <a:avLst/>
              </a:prstGeom>
              <a:solidFill>
                <a:srgbClr val="e90d1d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20186400">
                <a:off x="4415400" y="2963160"/>
                <a:ext cx="1572840" cy="468000"/>
              </a:xfrm>
              <a:prstGeom prst="ellipse">
                <a:avLst/>
              </a:prstGeom>
              <a:solidFill>
                <a:srgbClr val="e90d1d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5680400">
                <a:off x="5167080" y="3306960"/>
                <a:ext cx="1521360" cy="483480"/>
              </a:xfrm>
              <a:prstGeom prst="ellipse">
                <a:avLst/>
              </a:prstGeom>
              <a:solidFill>
                <a:srgbClr val="e90d1d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8114600">
                <a:off x="4743360" y="3190680"/>
                <a:ext cx="1521360" cy="483840"/>
              </a:xfrm>
              <a:prstGeom prst="ellipse">
                <a:avLst/>
              </a:prstGeom>
              <a:solidFill>
                <a:srgbClr val="e90d1d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" name=""/>
            <p:cNvGrpSpPr/>
            <p:nvPr/>
          </p:nvGrpSpPr>
          <p:grpSpPr>
            <a:xfrm>
              <a:off x="5221080" y="2320920"/>
              <a:ext cx="1087560" cy="993600"/>
              <a:chOff x="5221080" y="2320920"/>
              <a:chExt cx="1087560" cy="993600"/>
            </a:xfrm>
          </p:grpSpPr>
          <p:sp>
            <p:nvSpPr>
              <p:cNvPr id="131" name=""/>
              <p:cNvSpPr/>
              <p:nvPr/>
            </p:nvSpPr>
            <p:spPr>
              <a:xfrm>
                <a:off x="5221080" y="2320920"/>
                <a:ext cx="1087560" cy="993600"/>
              </a:xfrm>
              <a:custGeom>
                <a:avLst/>
                <a:gdLst>
                  <a:gd name="textAreaLeft" fmla="*/ 248040 w 1087560"/>
                  <a:gd name="textAreaRight" fmla="*/ 839520 w 1087560"/>
                  <a:gd name="textAreaTop" fmla="*/ 226800 h 993600"/>
                  <a:gd name="textAreaBottom" fmla="*/ 766800 h 993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652" y="12384"/>
                    </a:lnTo>
                    <a:lnTo>
                      <a:pt x="786" y="14846"/>
                    </a:lnTo>
                    <a:lnTo>
                      <a:pt x="3839" y="15321"/>
                    </a:lnTo>
                    <a:lnTo>
                      <a:pt x="3163" y="18437"/>
                    </a:lnTo>
                    <a:lnTo>
                      <a:pt x="6159" y="17681"/>
                    </a:lnTo>
                    <a:lnTo>
                      <a:pt x="6580" y="20741"/>
                    </a:lnTo>
                    <a:lnTo>
                      <a:pt x="9074" y="18919"/>
                    </a:lnTo>
                    <a:lnTo>
                      <a:pt x="10800" y="21600"/>
                    </a:lnTo>
                    <a:lnTo>
                      <a:pt x="12384" y="18948"/>
                    </a:lnTo>
                    <a:lnTo>
                      <a:pt x="14846" y="20814"/>
                    </a:lnTo>
                    <a:lnTo>
                      <a:pt x="15321" y="17761"/>
                    </a:lnTo>
                    <a:lnTo>
                      <a:pt x="18437" y="18437"/>
                    </a:lnTo>
                    <a:lnTo>
                      <a:pt x="17681" y="15441"/>
                    </a:lnTo>
                    <a:lnTo>
                      <a:pt x="20741" y="15020"/>
                    </a:lnTo>
                    <a:lnTo>
                      <a:pt x="18919" y="12526"/>
                    </a:lnTo>
                    <a:lnTo>
                      <a:pt x="21600" y="10800"/>
                    </a:lnTo>
                    <a:lnTo>
                      <a:pt x="18948" y="9216"/>
                    </a:lnTo>
                    <a:lnTo>
                      <a:pt x="20814" y="6754"/>
                    </a:lnTo>
                    <a:lnTo>
                      <a:pt x="17761" y="6279"/>
                    </a:lnTo>
                    <a:lnTo>
                      <a:pt x="18437" y="3163"/>
                    </a:lnTo>
                    <a:lnTo>
                      <a:pt x="15441" y="3919"/>
                    </a:lnTo>
                    <a:lnTo>
                      <a:pt x="15020" y="859"/>
                    </a:lnTo>
                    <a:lnTo>
                      <a:pt x="12526" y="2681"/>
                    </a:lnTo>
                    <a:lnTo>
                      <a:pt x="10800" y="0"/>
                    </a:lnTo>
                    <a:lnTo>
                      <a:pt x="9216" y="2652"/>
                    </a:lnTo>
                    <a:lnTo>
                      <a:pt x="6754" y="786"/>
                    </a:lnTo>
                    <a:lnTo>
                      <a:pt x="6279" y="3839"/>
                    </a:lnTo>
                    <a:lnTo>
                      <a:pt x="3163" y="3163"/>
                    </a:lnTo>
                    <a:lnTo>
                      <a:pt x="3919" y="6159"/>
                    </a:lnTo>
                    <a:lnTo>
                      <a:pt x="859" y="6580"/>
                    </a:lnTo>
                    <a:lnTo>
                      <a:pt x="2681" y="9074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e72403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402160" y="2438280"/>
                <a:ext cx="767520" cy="743400"/>
              </a:xfrm>
              <a:custGeom>
                <a:avLst/>
                <a:gdLst>
                  <a:gd name="textAreaLeft" fmla="*/ 174960 w 767520"/>
                  <a:gd name="textAreaRight" fmla="*/ 592560 w 767520"/>
                  <a:gd name="textAreaTop" fmla="*/ 169560 h 743400"/>
                  <a:gd name="textAreaBottom" fmla="*/ 573840 h 743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652" y="12384"/>
                    </a:lnTo>
                    <a:lnTo>
                      <a:pt x="786" y="14846"/>
                    </a:lnTo>
                    <a:lnTo>
                      <a:pt x="3839" y="15321"/>
                    </a:lnTo>
                    <a:lnTo>
                      <a:pt x="3163" y="18437"/>
                    </a:lnTo>
                    <a:lnTo>
                      <a:pt x="6159" y="17681"/>
                    </a:lnTo>
                    <a:lnTo>
                      <a:pt x="6580" y="20741"/>
                    </a:lnTo>
                    <a:lnTo>
                      <a:pt x="9074" y="18919"/>
                    </a:lnTo>
                    <a:lnTo>
                      <a:pt x="10800" y="21600"/>
                    </a:lnTo>
                    <a:lnTo>
                      <a:pt x="12384" y="18948"/>
                    </a:lnTo>
                    <a:lnTo>
                      <a:pt x="14846" y="20814"/>
                    </a:lnTo>
                    <a:lnTo>
                      <a:pt x="15321" y="17761"/>
                    </a:lnTo>
                    <a:lnTo>
                      <a:pt x="18437" y="18437"/>
                    </a:lnTo>
                    <a:lnTo>
                      <a:pt x="17681" y="15441"/>
                    </a:lnTo>
                    <a:lnTo>
                      <a:pt x="20741" y="15020"/>
                    </a:lnTo>
                    <a:lnTo>
                      <a:pt x="18919" y="12526"/>
                    </a:lnTo>
                    <a:lnTo>
                      <a:pt x="21600" y="10800"/>
                    </a:lnTo>
                    <a:lnTo>
                      <a:pt x="18948" y="9216"/>
                    </a:lnTo>
                    <a:lnTo>
                      <a:pt x="20814" y="6754"/>
                    </a:lnTo>
                    <a:lnTo>
                      <a:pt x="17761" y="6279"/>
                    </a:lnTo>
                    <a:lnTo>
                      <a:pt x="18437" y="3163"/>
                    </a:lnTo>
                    <a:lnTo>
                      <a:pt x="15441" y="3919"/>
                    </a:lnTo>
                    <a:lnTo>
                      <a:pt x="15020" y="859"/>
                    </a:lnTo>
                    <a:lnTo>
                      <a:pt x="12526" y="2681"/>
                    </a:lnTo>
                    <a:lnTo>
                      <a:pt x="10800" y="0"/>
                    </a:lnTo>
                    <a:lnTo>
                      <a:pt x="9216" y="2652"/>
                    </a:lnTo>
                    <a:lnTo>
                      <a:pt x="6754" y="786"/>
                    </a:lnTo>
                    <a:lnTo>
                      <a:pt x="6279" y="3839"/>
                    </a:lnTo>
                    <a:lnTo>
                      <a:pt x="3163" y="3163"/>
                    </a:lnTo>
                    <a:lnTo>
                      <a:pt x="3919" y="6159"/>
                    </a:lnTo>
                    <a:lnTo>
                      <a:pt x="859" y="6580"/>
                    </a:lnTo>
                    <a:lnTo>
                      <a:pt x="2681" y="9074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84420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3" name=""/>
          <p:cNvGrpSpPr/>
          <p:nvPr/>
        </p:nvGrpSpPr>
        <p:grpSpPr>
          <a:xfrm>
            <a:off x="4127760" y="1125360"/>
            <a:ext cx="3500640" cy="3360240"/>
            <a:chOff x="4127760" y="1125360"/>
            <a:chExt cx="3500640" cy="3360240"/>
          </a:xfrm>
        </p:grpSpPr>
        <p:grpSp>
          <p:nvGrpSpPr>
            <p:cNvPr id="134" name=""/>
            <p:cNvGrpSpPr/>
            <p:nvPr/>
          </p:nvGrpSpPr>
          <p:grpSpPr>
            <a:xfrm>
              <a:off x="4127760" y="1125360"/>
              <a:ext cx="3500640" cy="3360240"/>
              <a:chOff x="4127760" y="1125360"/>
              <a:chExt cx="3500640" cy="3360240"/>
            </a:xfrm>
          </p:grpSpPr>
          <p:sp>
            <p:nvSpPr>
              <p:cNvPr id="135" name=""/>
              <p:cNvSpPr/>
              <p:nvPr/>
            </p:nvSpPr>
            <p:spPr>
              <a:xfrm rot="1867800">
                <a:off x="4208040" y="2276640"/>
                <a:ext cx="1797480" cy="512280"/>
              </a:xfrm>
              <a:prstGeom prst="ellipse">
                <a:avLst/>
              </a:prstGeom>
              <a:solidFill>
                <a:srgbClr val="e90d1d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3544200">
                <a:off x="4551120" y="1872720"/>
                <a:ext cx="1665360" cy="552960"/>
              </a:xfrm>
              <a:prstGeom prst="ellipse">
                <a:avLst/>
              </a:prstGeom>
              <a:solidFill>
                <a:srgbClr val="e90d1d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rot="3408000">
                <a:off x="5518800" y="3152880"/>
                <a:ext cx="1665000" cy="552960"/>
              </a:xfrm>
              <a:prstGeom prst="ellipse">
                <a:avLst/>
              </a:prstGeom>
              <a:solidFill>
                <a:srgbClr val="e90d1d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rot="1242600">
                <a:off x="5798880" y="2917080"/>
                <a:ext cx="1797120" cy="512280"/>
              </a:xfrm>
              <a:prstGeom prst="ellipse">
                <a:avLst/>
              </a:prstGeom>
              <a:solidFill>
                <a:srgbClr val="e90d1d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798880" y="2533680"/>
                <a:ext cx="1797120" cy="511920"/>
              </a:xfrm>
              <a:prstGeom prst="ellipse">
                <a:avLst/>
              </a:prstGeom>
              <a:solidFill>
                <a:srgbClr val="e90d1d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rot="19677600">
                <a:off x="5728680" y="2149200"/>
                <a:ext cx="1797120" cy="512280"/>
              </a:xfrm>
              <a:prstGeom prst="ellipse">
                <a:avLst/>
              </a:prstGeom>
              <a:solidFill>
                <a:srgbClr val="e90d1d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rot="17623800">
                <a:off x="5518080" y="1872720"/>
                <a:ext cx="1665360" cy="552960"/>
              </a:xfrm>
              <a:prstGeom prst="ellipse">
                <a:avLst/>
              </a:prstGeom>
              <a:solidFill>
                <a:srgbClr val="e90d1d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rot="5400000">
                <a:off x="4965480" y="1681200"/>
                <a:ext cx="1665000" cy="552960"/>
              </a:xfrm>
              <a:prstGeom prst="ellipse">
                <a:avLst/>
              </a:prstGeom>
              <a:solidFill>
                <a:srgbClr val="e90d1d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rot="188400">
                <a:off x="4140360" y="2661480"/>
                <a:ext cx="1797120" cy="512280"/>
              </a:xfrm>
              <a:prstGeom prst="ellipse">
                <a:avLst/>
              </a:prstGeom>
              <a:solidFill>
                <a:srgbClr val="e90d1d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rot="20186400">
                <a:off x="4208400" y="2980440"/>
                <a:ext cx="1797480" cy="512280"/>
              </a:xfrm>
              <a:prstGeom prst="ellipse">
                <a:avLst/>
              </a:prstGeom>
              <a:solidFill>
                <a:srgbClr val="e90d1d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15680400">
                <a:off x="5104080" y="3344400"/>
                <a:ext cx="1665000" cy="552600"/>
              </a:xfrm>
              <a:prstGeom prst="ellipse">
                <a:avLst/>
              </a:prstGeom>
              <a:solidFill>
                <a:srgbClr val="e90d1d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8114600">
                <a:off x="4619520" y="3217320"/>
                <a:ext cx="1665000" cy="552960"/>
              </a:xfrm>
              <a:prstGeom prst="ellipse">
                <a:avLst/>
              </a:prstGeom>
              <a:solidFill>
                <a:srgbClr val="e90d1d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" name=""/>
            <p:cNvGrpSpPr/>
            <p:nvPr/>
          </p:nvGrpSpPr>
          <p:grpSpPr>
            <a:xfrm>
              <a:off x="5220000" y="2178000"/>
              <a:ext cx="1296720" cy="1282320"/>
              <a:chOff x="5220000" y="2178000"/>
              <a:chExt cx="1296720" cy="1282320"/>
            </a:xfrm>
          </p:grpSpPr>
          <p:sp>
            <p:nvSpPr>
              <p:cNvPr id="148" name=""/>
              <p:cNvSpPr/>
              <p:nvPr/>
            </p:nvSpPr>
            <p:spPr>
              <a:xfrm>
                <a:off x="5220000" y="2178000"/>
                <a:ext cx="1296720" cy="1282320"/>
              </a:xfrm>
              <a:custGeom>
                <a:avLst/>
                <a:gdLst>
                  <a:gd name="textAreaLeft" fmla="*/ 295920 w 1296720"/>
                  <a:gd name="textAreaRight" fmla="*/ 1000800 w 1296720"/>
                  <a:gd name="textAreaTop" fmla="*/ 292680 h 1282320"/>
                  <a:gd name="textAreaBottom" fmla="*/ 989640 h 1282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652" y="12384"/>
                    </a:lnTo>
                    <a:lnTo>
                      <a:pt x="786" y="14846"/>
                    </a:lnTo>
                    <a:lnTo>
                      <a:pt x="3839" y="15321"/>
                    </a:lnTo>
                    <a:lnTo>
                      <a:pt x="3163" y="18437"/>
                    </a:lnTo>
                    <a:lnTo>
                      <a:pt x="6159" y="17681"/>
                    </a:lnTo>
                    <a:lnTo>
                      <a:pt x="6580" y="20741"/>
                    </a:lnTo>
                    <a:lnTo>
                      <a:pt x="9074" y="18919"/>
                    </a:lnTo>
                    <a:lnTo>
                      <a:pt x="10800" y="21600"/>
                    </a:lnTo>
                    <a:lnTo>
                      <a:pt x="12384" y="18948"/>
                    </a:lnTo>
                    <a:lnTo>
                      <a:pt x="14846" y="20814"/>
                    </a:lnTo>
                    <a:lnTo>
                      <a:pt x="15321" y="17761"/>
                    </a:lnTo>
                    <a:lnTo>
                      <a:pt x="18437" y="18437"/>
                    </a:lnTo>
                    <a:lnTo>
                      <a:pt x="17681" y="15441"/>
                    </a:lnTo>
                    <a:lnTo>
                      <a:pt x="20741" y="15020"/>
                    </a:lnTo>
                    <a:lnTo>
                      <a:pt x="18919" y="12526"/>
                    </a:lnTo>
                    <a:lnTo>
                      <a:pt x="21600" y="10800"/>
                    </a:lnTo>
                    <a:lnTo>
                      <a:pt x="18948" y="9216"/>
                    </a:lnTo>
                    <a:lnTo>
                      <a:pt x="20814" y="6754"/>
                    </a:lnTo>
                    <a:lnTo>
                      <a:pt x="17761" y="6279"/>
                    </a:lnTo>
                    <a:lnTo>
                      <a:pt x="18437" y="3163"/>
                    </a:lnTo>
                    <a:lnTo>
                      <a:pt x="15441" y="3919"/>
                    </a:lnTo>
                    <a:lnTo>
                      <a:pt x="15020" y="859"/>
                    </a:lnTo>
                    <a:lnTo>
                      <a:pt x="12526" y="2681"/>
                    </a:lnTo>
                    <a:lnTo>
                      <a:pt x="10800" y="0"/>
                    </a:lnTo>
                    <a:lnTo>
                      <a:pt x="9216" y="2652"/>
                    </a:lnTo>
                    <a:lnTo>
                      <a:pt x="6754" y="786"/>
                    </a:lnTo>
                    <a:lnTo>
                      <a:pt x="6279" y="3839"/>
                    </a:lnTo>
                    <a:lnTo>
                      <a:pt x="3163" y="3163"/>
                    </a:lnTo>
                    <a:lnTo>
                      <a:pt x="3919" y="6159"/>
                    </a:lnTo>
                    <a:lnTo>
                      <a:pt x="859" y="6580"/>
                    </a:lnTo>
                    <a:lnTo>
                      <a:pt x="2681" y="9074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e72403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5436000" y="2329200"/>
                <a:ext cx="915120" cy="959400"/>
              </a:xfrm>
              <a:custGeom>
                <a:avLst/>
                <a:gdLst>
                  <a:gd name="textAreaLeft" fmla="*/ 208800 w 915120"/>
                  <a:gd name="textAreaRight" fmla="*/ 706320 w 915120"/>
                  <a:gd name="textAreaTop" fmla="*/ 218880 h 959400"/>
                  <a:gd name="textAreaBottom" fmla="*/ 740520 h 959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652" y="12384"/>
                    </a:lnTo>
                    <a:lnTo>
                      <a:pt x="786" y="14846"/>
                    </a:lnTo>
                    <a:lnTo>
                      <a:pt x="3839" y="15321"/>
                    </a:lnTo>
                    <a:lnTo>
                      <a:pt x="3163" y="18437"/>
                    </a:lnTo>
                    <a:lnTo>
                      <a:pt x="6159" y="17681"/>
                    </a:lnTo>
                    <a:lnTo>
                      <a:pt x="6580" y="20741"/>
                    </a:lnTo>
                    <a:lnTo>
                      <a:pt x="9074" y="18919"/>
                    </a:lnTo>
                    <a:lnTo>
                      <a:pt x="10800" y="21600"/>
                    </a:lnTo>
                    <a:lnTo>
                      <a:pt x="12384" y="18948"/>
                    </a:lnTo>
                    <a:lnTo>
                      <a:pt x="14846" y="20814"/>
                    </a:lnTo>
                    <a:lnTo>
                      <a:pt x="15321" y="17761"/>
                    </a:lnTo>
                    <a:lnTo>
                      <a:pt x="18437" y="18437"/>
                    </a:lnTo>
                    <a:lnTo>
                      <a:pt x="17681" y="15441"/>
                    </a:lnTo>
                    <a:lnTo>
                      <a:pt x="20741" y="15020"/>
                    </a:lnTo>
                    <a:lnTo>
                      <a:pt x="18919" y="12526"/>
                    </a:lnTo>
                    <a:lnTo>
                      <a:pt x="21600" y="10800"/>
                    </a:lnTo>
                    <a:lnTo>
                      <a:pt x="18948" y="9216"/>
                    </a:lnTo>
                    <a:lnTo>
                      <a:pt x="20814" y="6754"/>
                    </a:lnTo>
                    <a:lnTo>
                      <a:pt x="17761" y="6279"/>
                    </a:lnTo>
                    <a:lnTo>
                      <a:pt x="18437" y="3163"/>
                    </a:lnTo>
                    <a:lnTo>
                      <a:pt x="15441" y="3919"/>
                    </a:lnTo>
                    <a:lnTo>
                      <a:pt x="15020" y="859"/>
                    </a:lnTo>
                    <a:lnTo>
                      <a:pt x="12526" y="2681"/>
                    </a:lnTo>
                    <a:lnTo>
                      <a:pt x="10800" y="0"/>
                    </a:lnTo>
                    <a:lnTo>
                      <a:pt x="9216" y="2652"/>
                    </a:lnTo>
                    <a:lnTo>
                      <a:pt x="6754" y="786"/>
                    </a:lnTo>
                    <a:lnTo>
                      <a:pt x="6279" y="3839"/>
                    </a:lnTo>
                    <a:lnTo>
                      <a:pt x="3163" y="3163"/>
                    </a:lnTo>
                    <a:lnTo>
                      <a:pt x="3919" y="6159"/>
                    </a:lnTo>
                    <a:lnTo>
                      <a:pt x="859" y="6580"/>
                    </a:lnTo>
                    <a:lnTo>
                      <a:pt x="2681" y="9074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84420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0" name=""/>
          <p:cNvGrpSpPr/>
          <p:nvPr/>
        </p:nvGrpSpPr>
        <p:grpSpPr>
          <a:xfrm>
            <a:off x="3911040" y="981000"/>
            <a:ext cx="3861000" cy="3553200"/>
            <a:chOff x="3911040" y="981000"/>
            <a:chExt cx="3861000" cy="3553200"/>
          </a:xfrm>
        </p:grpSpPr>
        <p:grpSp>
          <p:nvGrpSpPr>
            <p:cNvPr id="151" name=""/>
            <p:cNvGrpSpPr/>
            <p:nvPr/>
          </p:nvGrpSpPr>
          <p:grpSpPr>
            <a:xfrm>
              <a:off x="3911040" y="981000"/>
              <a:ext cx="3861000" cy="3553200"/>
              <a:chOff x="3911040" y="981000"/>
              <a:chExt cx="3861000" cy="3553200"/>
            </a:xfrm>
          </p:grpSpPr>
          <p:sp>
            <p:nvSpPr>
              <p:cNvPr id="152" name=""/>
              <p:cNvSpPr/>
              <p:nvPr/>
            </p:nvSpPr>
            <p:spPr>
              <a:xfrm rot="1867800">
                <a:off x="3999600" y="2197440"/>
                <a:ext cx="1984680" cy="541440"/>
              </a:xfrm>
              <a:prstGeom prst="ellipse">
                <a:avLst/>
              </a:prstGeom>
              <a:solidFill>
                <a:srgbClr val="e90d1d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rot="3544200">
                <a:off x="4417200" y="1757880"/>
                <a:ext cx="1759680" cy="610560"/>
              </a:xfrm>
              <a:prstGeom prst="ellipse">
                <a:avLst/>
              </a:prstGeom>
              <a:solidFill>
                <a:srgbClr val="e90d1d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rot="3408000">
                <a:off x="5485680" y="3110040"/>
                <a:ext cx="1759320" cy="610560"/>
              </a:xfrm>
              <a:prstGeom prst="ellipse">
                <a:avLst/>
              </a:prstGeom>
              <a:solidFill>
                <a:srgbClr val="e90d1d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rot="1242600">
                <a:off x="5755680" y="2874600"/>
                <a:ext cx="1984320" cy="541440"/>
              </a:xfrm>
              <a:prstGeom prst="ellipse">
                <a:avLst/>
              </a:prstGeom>
              <a:solidFill>
                <a:srgbClr val="e90d1d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5756040" y="2469240"/>
                <a:ext cx="1984320" cy="541080"/>
              </a:xfrm>
              <a:prstGeom prst="ellipse">
                <a:avLst/>
              </a:prstGeom>
              <a:solidFill>
                <a:srgbClr val="e90d1d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rot="19677600">
                <a:off x="5678280" y="2063520"/>
                <a:ext cx="1984320" cy="541440"/>
              </a:xfrm>
              <a:prstGeom prst="ellipse">
                <a:avLst/>
              </a:prstGeom>
              <a:solidFill>
                <a:srgbClr val="e90d1d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17623800">
                <a:off x="5485320" y="1757520"/>
                <a:ext cx="1759680" cy="610560"/>
              </a:xfrm>
              <a:prstGeom prst="ellipse">
                <a:avLst/>
              </a:prstGeom>
              <a:solidFill>
                <a:srgbClr val="e90d1d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rot="5400000">
                <a:off x="4875120" y="1555200"/>
                <a:ext cx="1759320" cy="610560"/>
              </a:xfrm>
              <a:prstGeom prst="ellipse">
                <a:avLst/>
              </a:prstGeom>
              <a:solidFill>
                <a:srgbClr val="e90d1d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rot="188400">
                <a:off x="3924000" y="2604600"/>
                <a:ext cx="1984320" cy="541440"/>
              </a:xfrm>
              <a:prstGeom prst="ellipse">
                <a:avLst/>
              </a:prstGeom>
              <a:solidFill>
                <a:srgbClr val="e90d1d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rot="20186400">
                <a:off x="3999240" y="2941200"/>
                <a:ext cx="1984680" cy="541440"/>
              </a:xfrm>
              <a:prstGeom prst="ellipse">
                <a:avLst/>
              </a:prstGeom>
              <a:solidFill>
                <a:srgbClr val="e90d1d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rot="15680400">
                <a:off x="5028480" y="3313440"/>
                <a:ext cx="1759320" cy="610200"/>
              </a:xfrm>
              <a:prstGeom prst="ellipse">
                <a:avLst/>
              </a:prstGeom>
              <a:solidFill>
                <a:srgbClr val="e90d1d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rot="18114600">
                <a:off x="4493160" y="3179160"/>
                <a:ext cx="1759320" cy="610560"/>
              </a:xfrm>
              <a:prstGeom prst="ellipse">
                <a:avLst/>
              </a:prstGeom>
              <a:solidFill>
                <a:srgbClr val="e90d1d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5005440" y="1989000"/>
              <a:ext cx="1296720" cy="1282320"/>
              <a:chOff x="5005440" y="1989000"/>
              <a:chExt cx="1296720" cy="1282320"/>
            </a:xfrm>
          </p:grpSpPr>
          <p:sp>
            <p:nvSpPr>
              <p:cNvPr id="165" name=""/>
              <p:cNvSpPr/>
              <p:nvPr/>
            </p:nvSpPr>
            <p:spPr>
              <a:xfrm>
                <a:off x="5005440" y="1989000"/>
                <a:ext cx="1296720" cy="1282320"/>
              </a:xfrm>
              <a:custGeom>
                <a:avLst/>
                <a:gdLst>
                  <a:gd name="textAreaLeft" fmla="*/ 295920 w 1296720"/>
                  <a:gd name="textAreaRight" fmla="*/ 1000800 w 1296720"/>
                  <a:gd name="textAreaTop" fmla="*/ 292680 h 1282320"/>
                  <a:gd name="textAreaBottom" fmla="*/ 989640 h 1282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652" y="12384"/>
                    </a:lnTo>
                    <a:lnTo>
                      <a:pt x="786" y="14846"/>
                    </a:lnTo>
                    <a:lnTo>
                      <a:pt x="3839" y="15321"/>
                    </a:lnTo>
                    <a:lnTo>
                      <a:pt x="3163" y="18437"/>
                    </a:lnTo>
                    <a:lnTo>
                      <a:pt x="6159" y="17681"/>
                    </a:lnTo>
                    <a:lnTo>
                      <a:pt x="6580" y="20741"/>
                    </a:lnTo>
                    <a:lnTo>
                      <a:pt x="9074" y="18919"/>
                    </a:lnTo>
                    <a:lnTo>
                      <a:pt x="10800" y="21600"/>
                    </a:lnTo>
                    <a:lnTo>
                      <a:pt x="12384" y="18948"/>
                    </a:lnTo>
                    <a:lnTo>
                      <a:pt x="14846" y="20814"/>
                    </a:lnTo>
                    <a:lnTo>
                      <a:pt x="15321" y="17761"/>
                    </a:lnTo>
                    <a:lnTo>
                      <a:pt x="18437" y="18437"/>
                    </a:lnTo>
                    <a:lnTo>
                      <a:pt x="17681" y="15441"/>
                    </a:lnTo>
                    <a:lnTo>
                      <a:pt x="20741" y="15020"/>
                    </a:lnTo>
                    <a:lnTo>
                      <a:pt x="18919" y="12526"/>
                    </a:lnTo>
                    <a:lnTo>
                      <a:pt x="21600" y="10800"/>
                    </a:lnTo>
                    <a:lnTo>
                      <a:pt x="18948" y="9216"/>
                    </a:lnTo>
                    <a:lnTo>
                      <a:pt x="20814" y="6754"/>
                    </a:lnTo>
                    <a:lnTo>
                      <a:pt x="17761" y="6279"/>
                    </a:lnTo>
                    <a:lnTo>
                      <a:pt x="18437" y="3163"/>
                    </a:lnTo>
                    <a:lnTo>
                      <a:pt x="15441" y="3919"/>
                    </a:lnTo>
                    <a:lnTo>
                      <a:pt x="15020" y="859"/>
                    </a:lnTo>
                    <a:lnTo>
                      <a:pt x="12526" y="2681"/>
                    </a:lnTo>
                    <a:lnTo>
                      <a:pt x="10800" y="0"/>
                    </a:lnTo>
                    <a:lnTo>
                      <a:pt x="9216" y="2652"/>
                    </a:lnTo>
                    <a:lnTo>
                      <a:pt x="6754" y="786"/>
                    </a:lnTo>
                    <a:lnTo>
                      <a:pt x="6279" y="3839"/>
                    </a:lnTo>
                    <a:lnTo>
                      <a:pt x="3163" y="3163"/>
                    </a:lnTo>
                    <a:lnTo>
                      <a:pt x="3919" y="6159"/>
                    </a:lnTo>
                    <a:lnTo>
                      <a:pt x="859" y="6580"/>
                    </a:lnTo>
                    <a:lnTo>
                      <a:pt x="2681" y="9074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e72403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5221440" y="2140200"/>
                <a:ext cx="915120" cy="959400"/>
              </a:xfrm>
              <a:custGeom>
                <a:avLst/>
                <a:gdLst>
                  <a:gd name="textAreaLeft" fmla="*/ 208800 w 915120"/>
                  <a:gd name="textAreaRight" fmla="*/ 706320 w 915120"/>
                  <a:gd name="textAreaTop" fmla="*/ 218880 h 959400"/>
                  <a:gd name="textAreaBottom" fmla="*/ 740520 h 959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652" y="12384"/>
                    </a:lnTo>
                    <a:lnTo>
                      <a:pt x="786" y="14846"/>
                    </a:lnTo>
                    <a:lnTo>
                      <a:pt x="3839" y="15321"/>
                    </a:lnTo>
                    <a:lnTo>
                      <a:pt x="3163" y="18437"/>
                    </a:lnTo>
                    <a:lnTo>
                      <a:pt x="6159" y="17681"/>
                    </a:lnTo>
                    <a:lnTo>
                      <a:pt x="6580" y="20741"/>
                    </a:lnTo>
                    <a:lnTo>
                      <a:pt x="9074" y="18919"/>
                    </a:lnTo>
                    <a:lnTo>
                      <a:pt x="10800" y="21600"/>
                    </a:lnTo>
                    <a:lnTo>
                      <a:pt x="12384" y="18948"/>
                    </a:lnTo>
                    <a:lnTo>
                      <a:pt x="14846" y="20814"/>
                    </a:lnTo>
                    <a:lnTo>
                      <a:pt x="15321" y="17761"/>
                    </a:lnTo>
                    <a:lnTo>
                      <a:pt x="18437" y="18437"/>
                    </a:lnTo>
                    <a:lnTo>
                      <a:pt x="17681" y="15441"/>
                    </a:lnTo>
                    <a:lnTo>
                      <a:pt x="20741" y="15020"/>
                    </a:lnTo>
                    <a:lnTo>
                      <a:pt x="18919" y="12526"/>
                    </a:lnTo>
                    <a:lnTo>
                      <a:pt x="21600" y="10800"/>
                    </a:lnTo>
                    <a:lnTo>
                      <a:pt x="18948" y="9216"/>
                    </a:lnTo>
                    <a:lnTo>
                      <a:pt x="20814" y="6754"/>
                    </a:lnTo>
                    <a:lnTo>
                      <a:pt x="17761" y="6279"/>
                    </a:lnTo>
                    <a:lnTo>
                      <a:pt x="18437" y="3163"/>
                    </a:lnTo>
                    <a:lnTo>
                      <a:pt x="15441" y="3919"/>
                    </a:lnTo>
                    <a:lnTo>
                      <a:pt x="15020" y="859"/>
                    </a:lnTo>
                    <a:lnTo>
                      <a:pt x="12526" y="2681"/>
                    </a:lnTo>
                    <a:lnTo>
                      <a:pt x="10800" y="0"/>
                    </a:lnTo>
                    <a:lnTo>
                      <a:pt x="9216" y="2652"/>
                    </a:lnTo>
                    <a:lnTo>
                      <a:pt x="6754" y="786"/>
                    </a:lnTo>
                    <a:lnTo>
                      <a:pt x="6279" y="3839"/>
                    </a:lnTo>
                    <a:lnTo>
                      <a:pt x="3163" y="3163"/>
                    </a:lnTo>
                    <a:lnTo>
                      <a:pt x="3919" y="6159"/>
                    </a:lnTo>
                    <a:lnTo>
                      <a:pt x="859" y="6580"/>
                    </a:lnTo>
                    <a:lnTo>
                      <a:pt x="2681" y="9074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84420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"/>
          <p:cNvGrpSpPr/>
          <p:nvPr/>
        </p:nvGrpSpPr>
        <p:grpSpPr>
          <a:xfrm>
            <a:off x="3692880" y="907920"/>
            <a:ext cx="4302000" cy="4088880"/>
            <a:chOff x="3692880" y="907920"/>
            <a:chExt cx="4302000" cy="4088880"/>
          </a:xfrm>
        </p:grpSpPr>
        <p:grpSp>
          <p:nvGrpSpPr>
            <p:cNvPr id="168" name=""/>
            <p:cNvGrpSpPr/>
            <p:nvPr/>
          </p:nvGrpSpPr>
          <p:grpSpPr>
            <a:xfrm>
              <a:off x="3692880" y="907920"/>
              <a:ext cx="4302000" cy="4088880"/>
              <a:chOff x="3692880" y="907920"/>
              <a:chExt cx="4302000" cy="4088880"/>
            </a:xfrm>
          </p:grpSpPr>
          <p:sp>
            <p:nvSpPr>
              <p:cNvPr id="169" name=""/>
              <p:cNvSpPr/>
              <p:nvPr/>
            </p:nvSpPr>
            <p:spPr>
              <a:xfrm rot="1867800">
                <a:off x="3791880" y="2308320"/>
                <a:ext cx="2209320" cy="623160"/>
              </a:xfrm>
              <a:prstGeom prst="ellipse">
                <a:avLst/>
              </a:prstGeom>
              <a:solidFill>
                <a:srgbClr val="e90d1d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rot="3544200">
                <a:off x="4223520" y="1814040"/>
                <a:ext cx="2026080" cy="679680"/>
              </a:xfrm>
              <a:prstGeom prst="ellipse">
                <a:avLst/>
              </a:prstGeom>
              <a:solidFill>
                <a:srgbClr val="e90d1d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rot="3408000">
                <a:off x="5412960" y="3371040"/>
                <a:ext cx="2025720" cy="679680"/>
              </a:xfrm>
              <a:prstGeom prst="ellipse">
                <a:avLst/>
              </a:prstGeom>
              <a:solidFill>
                <a:srgbClr val="e90d1d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rot="1242600">
                <a:off x="5746680" y="3088080"/>
                <a:ext cx="2208960" cy="623160"/>
              </a:xfrm>
              <a:prstGeom prst="ellipse">
                <a:avLst/>
              </a:prstGeom>
              <a:solidFill>
                <a:srgbClr val="e90d1d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5747040" y="2621160"/>
                <a:ext cx="2208960" cy="622800"/>
              </a:xfrm>
              <a:prstGeom prst="ellipse">
                <a:avLst/>
              </a:prstGeom>
              <a:solidFill>
                <a:srgbClr val="e90d1d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19677600">
                <a:off x="5660640" y="2153520"/>
                <a:ext cx="2208960" cy="623160"/>
              </a:xfrm>
              <a:prstGeom prst="ellipse">
                <a:avLst/>
              </a:prstGeom>
              <a:solidFill>
                <a:srgbClr val="e90d1d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rot="17623800">
                <a:off x="5412240" y="1813680"/>
                <a:ext cx="2026080" cy="679680"/>
              </a:xfrm>
              <a:prstGeom prst="ellipse">
                <a:avLst/>
              </a:prstGeom>
              <a:solidFill>
                <a:srgbClr val="e90d1d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rot="5400000">
                <a:off x="4732920" y="1580760"/>
                <a:ext cx="2025720" cy="679680"/>
              </a:xfrm>
              <a:prstGeom prst="ellipse">
                <a:avLst/>
              </a:prstGeom>
              <a:solidFill>
                <a:srgbClr val="e90d1d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188400">
                <a:off x="3708000" y="2777040"/>
                <a:ext cx="2208960" cy="623160"/>
              </a:xfrm>
              <a:prstGeom prst="ellipse">
                <a:avLst/>
              </a:prstGeom>
              <a:solidFill>
                <a:srgbClr val="e90d1d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rot="20186400">
                <a:off x="3792240" y="3164760"/>
                <a:ext cx="2209320" cy="623160"/>
              </a:xfrm>
              <a:prstGeom prst="ellipse">
                <a:avLst/>
              </a:prstGeom>
              <a:solidFill>
                <a:srgbClr val="e90d1d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rot="15680400">
                <a:off x="4903200" y="3604680"/>
                <a:ext cx="2025720" cy="679320"/>
              </a:xfrm>
              <a:prstGeom prst="ellipse">
                <a:avLst/>
              </a:prstGeom>
              <a:solidFill>
                <a:srgbClr val="e90d1d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rot="18114600">
                <a:off x="4308120" y="3449880"/>
                <a:ext cx="2025720" cy="679680"/>
              </a:xfrm>
              <a:prstGeom prst="ellipse">
                <a:avLst/>
              </a:prstGeom>
              <a:solidFill>
                <a:srgbClr val="e90d1d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" name=""/>
            <p:cNvSpPr/>
            <p:nvPr/>
          </p:nvSpPr>
          <p:spPr>
            <a:xfrm>
              <a:off x="5221080" y="2438280"/>
              <a:ext cx="1068480" cy="1024200"/>
            </a:xfrm>
            <a:custGeom>
              <a:avLst/>
              <a:gdLst>
                <a:gd name="textAreaLeft" fmla="*/ 243720 w 1068480"/>
                <a:gd name="textAreaRight" fmla="*/ 824760 w 1068480"/>
                <a:gd name="textAreaTop" fmla="*/ 233640 h 1024200"/>
                <a:gd name="textAreaBottom" fmla="*/ 790560 h 1024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84420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5005800" y="663480"/>
            <a:ext cx="2969640" cy="2201400"/>
            <a:chOff x="5005800" y="663480"/>
            <a:chExt cx="2969640" cy="2201400"/>
          </a:xfrm>
        </p:grpSpPr>
        <p:sp>
          <p:nvSpPr>
            <p:cNvPr id="183" name=""/>
            <p:cNvSpPr/>
            <p:nvPr/>
          </p:nvSpPr>
          <p:spPr>
            <a:xfrm flipH="1" rot="2421600">
              <a:off x="6322320" y="2157120"/>
              <a:ext cx="1008360" cy="432000"/>
            </a:xfrm>
            <a:prstGeom prst="ellipse">
              <a:avLst/>
            </a:prstGeom>
            <a:solidFill>
              <a:srgbClr val="ff9900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 rot="162000">
              <a:off x="5278320" y="1667880"/>
              <a:ext cx="1008000" cy="431640"/>
            </a:xfrm>
            <a:prstGeom prst="ellipse">
              <a:avLst/>
            </a:prstGeom>
            <a:solidFill>
              <a:srgbClr val="ff9900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 rot="1293600">
              <a:off x="6426720" y="1525320"/>
              <a:ext cx="1440000" cy="863640"/>
            </a:xfrm>
            <a:prstGeom prst="ellipse">
              <a:avLst/>
            </a:prstGeom>
            <a:solidFill>
              <a:srgbClr val="ff9900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 rot="1293600">
              <a:off x="5113800" y="929520"/>
              <a:ext cx="1440000" cy="863640"/>
            </a:xfrm>
            <a:prstGeom prst="ellipse">
              <a:avLst/>
            </a:prstGeom>
            <a:solidFill>
              <a:srgbClr val="ff9900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1293600">
              <a:off x="5480280" y="1812960"/>
              <a:ext cx="216000" cy="144000"/>
            </a:xfrm>
            <a:prstGeom prst="ellipse">
              <a:avLst/>
            </a:prstGeom>
            <a:solidFill>
              <a:srgbClr val="cc6600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1293600">
              <a:off x="5340600" y="1108800"/>
              <a:ext cx="431640" cy="339840"/>
            </a:xfrm>
            <a:prstGeom prst="ellipse">
              <a:avLst/>
            </a:prstGeom>
            <a:solidFill>
              <a:srgbClr val="ffcc00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 rot="1293600">
              <a:off x="6130800" y="1726560"/>
              <a:ext cx="360360" cy="576360"/>
            </a:xfrm>
            <a:prstGeom prst="ellipse">
              <a:avLst/>
            </a:prstGeom>
            <a:solidFill>
              <a:srgbClr val="ff9900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1293600">
              <a:off x="6109560" y="1130040"/>
              <a:ext cx="865080" cy="792000"/>
            </a:xfrm>
            <a:prstGeom prst="ellipse">
              <a:avLst/>
            </a:prstGeom>
            <a:solidFill>
              <a:srgbClr val="ff9900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 rot="1293600">
              <a:off x="6373800" y="696600"/>
              <a:ext cx="217440" cy="195120"/>
            </a:xfrm>
            <a:prstGeom prst="ellipse">
              <a:avLst/>
            </a:prstGeom>
            <a:solidFill>
              <a:srgbClr val="ff9900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rot="1293600">
              <a:off x="6645240" y="1406160"/>
              <a:ext cx="142920" cy="144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293600">
              <a:off x="6310080" y="1274040"/>
              <a:ext cx="142920" cy="144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6504200">
              <a:off x="6369480" y="1623240"/>
              <a:ext cx="180720" cy="164880"/>
            </a:xfrm>
            <a:custGeom>
              <a:avLst/>
              <a:gdLst/>
              <a:ahLst/>
              <a:rect l="l" t="t" r="r" b="b"/>
              <a:pathLst>
                <a:path w="438" h="317">
                  <a:moveTo>
                    <a:pt x="0" y="45"/>
                  </a:moveTo>
                  <a:cubicBezTo>
                    <a:pt x="189" y="22"/>
                    <a:pt x="378" y="0"/>
                    <a:pt x="408" y="45"/>
                  </a:cubicBezTo>
                  <a:cubicBezTo>
                    <a:pt x="438" y="90"/>
                    <a:pt x="219" y="272"/>
                    <a:pt x="181" y="317"/>
                  </a:cubicBezTo>
                </a:path>
              </a:pathLst>
            </a:custGeom>
            <a:noFill/>
            <a:ln w="2844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 rot="1293600">
              <a:off x="7257960" y="1946880"/>
              <a:ext cx="431640" cy="339480"/>
            </a:xfrm>
            <a:prstGeom prst="ellipse">
              <a:avLst/>
            </a:prstGeom>
            <a:solidFill>
              <a:srgbClr val="ffcc00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 rot="1293600">
              <a:off x="6860520" y="2436840"/>
              <a:ext cx="216000" cy="144000"/>
            </a:xfrm>
            <a:prstGeom prst="ellipse">
              <a:avLst/>
            </a:prstGeom>
            <a:solidFill>
              <a:srgbClr val="cc6600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 rot="17640600">
              <a:off x="6129000" y="830160"/>
              <a:ext cx="577440" cy="43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 flipV="1" rot="6546600">
              <a:off x="6783480" y="1168200"/>
              <a:ext cx="57744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rot="1293600">
              <a:off x="7151760" y="1082160"/>
              <a:ext cx="217440" cy="195120"/>
            </a:xfrm>
            <a:prstGeom prst="ellipse">
              <a:avLst/>
            </a:prstGeom>
            <a:solidFill>
              <a:srgbClr val="ff9900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6636960" y="1159920"/>
              <a:ext cx="52560" cy="13284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689520" y="1159920"/>
              <a:ext cx="108000" cy="11988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>
              <a:off x="6502680" y="1159920"/>
              <a:ext cx="186840" cy="7992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506760" y="1185480"/>
            <a:ext cx="2000520" cy="2064240"/>
            <a:chOff x="3506760" y="1185480"/>
            <a:chExt cx="2000520" cy="2064240"/>
          </a:xfrm>
        </p:grpSpPr>
        <p:sp>
          <p:nvSpPr>
            <p:cNvPr id="204" name=""/>
            <p:cNvSpPr/>
            <p:nvPr/>
          </p:nvSpPr>
          <p:spPr>
            <a:xfrm rot="7002000">
              <a:off x="5254200" y="2626200"/>
              <a:ext cx="216000" cy="215640"/>
            </a:xfrm>
            <a:prstGeom prst="ellipse">
              <a:avLst/>
            </a:prstGeom>
            <a:solidFill>
              <a:srgbClr val="cc6600"/>
            </a:solidFill>
            <a:ln w="93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rot="7002000">
              <a:off x="5092200" y="2948040"/>
              <a:ext cx="216000" cy="215640"/>
            </a:xfrm>
            <a:prstGeom prst="ellipse">
              <a:avLst/>
            </a:prstGeom>
            <a:solidFill>
              <a:srgbClr val="cc6600"/>
            </a:solidFill>
            <a:ln w="93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rot="5626800">
              <a:off x="4084560" y="2005200"/>
              <a:ext cx="720720" cy="936720"/>
            </a:xfrm>
            <a:prstGeom prst="wedgeEllipseCallout">
              <a:avLst>
                <a:gd name="adj1" fmla="val -42069"/>
                <a:gd name="adj2" fmla="val 66611"/>
              </a:avLst>
            </a:prstGeom>
            <a:solidFill>
              <a:srgbClr val="ffff00"/>
            </a:solidFill>
            <a:ln w="93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 rot="7002000">
              <a:off x="4300560" y="2210760"/>
              <a:ext cx="792000" cy="6984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 rot="7002000">
              <a:off x="4758120" y="2477160"/>
              <a:ext cx="649440" cy="5540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PubChord"/>
            <p:cNvSpPr/>
            <p:nvPr/>
          </p:nvSpPr>
          <p:spPr>
            <a:xfrm flipH="1" rot="21470400">
              <a:off x="3514680" y="2741400"/>
              <a:ext cx="1204920" cy="485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3163" y="3163"/>
                  </a:moveTo>
                  <a:arcTo wR="10800" hR="10800" stAng="-8100000" swAng="-10800000"/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cc66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PubChord"/>
            <p:cNvSpPr/>
            <p:nvPr/>
          </p:nvSpPr>
          <p:spPr>
            <a:xfrm rot="14332200">
              <a:off x="4097520" y="1583640"/>
              <a:ext cx="1204920" cy="485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3163" y="3163"/>
                  </a:moveTo>
                  <a:arcTo wR="10800" hR="10800" stAng="-8100000" swAng="-10800000"/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cc66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5079600" y="4425840"/>
            <a:ext cx="4289400" cy="3004200"/>
            <a:chOff x="5079600" y="4425840"/>
            <a:chExt cx="4289400" cy="3004200"/>
          </a:xfrm>
        </p:grpSpPr>
        <p:sp>
          <p:nvSpPr>
            <p:cNvPr id="212" name=""/>
            <p:cNvSpPr/>
            <p:nvPr/>
          </p:nvSpPr>
          <p:spPr>
            <a:xfrm rot="12415800">
              <a:off x="5254560" y="5214960"/>
              <a:ext cx="3276720" cy="1557360"/>
            </a:xfrm>
            <a:prstGeom prst="lightningBolt">
              <a:avLst/>
            </a:prstGeom>
            <a:solidFill>
              <a:srgbClr val="009900"/>
            </a:solidFill>
            <a:ln w="572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 rot="12324600">
              <a:off x="5940000" y="5027040"/>
              <a:ext cx="3203640" cy="1773000"/>
            </a:xfrm>
            <a:prstGeom prst="lightningBolt">
              <a:avLst/>
            </a:prstGeom>
            <a:solidFill>
              <a:srgbClr val="009900"/>
            </a:solidFill>
            <a:ln w="572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"/>
          <p:cNvSpPr/>
          <p:nvPr/>
        </p:nvSpPr>
        <p:spPr>
          <a:xfrm rot="13643400">
            <a:off x="6716520" y="4890960"/>
            <a:ext cx="2844720" cy="1692360"/>
          </a:xfrm>
          <a:prstGeom prst="lightningBolt">
            <a:avLst/>
          </a:prstGeom>
          <a:solidFill>
            <a:srgbClr val="009900"/>
          </a:solidFill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rot="14529000">
            <a:off x="7308720" y="4589280"/>
            <a:ext cx="2844720" cy="1692360"/>
          </a:xfrm>
          <a:prstGeom prst="lightningBolt">
            <a:avLst/>
          </a:prstGeom>
          <a:solidFill>
            <a:srgbClr val="009900"/>
          </a:solidFill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1618920" y="1268280"/>
            <a:ext cx="1080000" cy="576360"/>
            <a:chOff x="1618920" y="1268280"/>
            <a:chExt cx="1080000" cy="576360"/>
          </a:xfrm>
        </p:grpSpPr>
        <p:sp>
          <p:nvSpPr>
            <p:cNvPr id="217" name=""/>
            <p:cNvSpPr/>
            <p:nvPr/>
          </p:nvSpPr>
          <p:spPr>
            <a:xfrm>
              <a:off x="1619280" y="1268280"/>
              <a:ext cx="1079640" cy="576360"/>
            </a:xfrm>
            <a:prstGeom prst="rect">
              <a:avLst/>
            </a:prstGeom>
            <a:solidFill>
              <a:srgbClr val="9966ff"/>
            </a:solidFill>
            <a:ln w="28440">
              <a:solidFill>
                <a:srgbClr val="99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1618920" y="1268280"/>
              <a:ext cx="1079640" cy="504720"/>
            </a:xfrm>
            <a:prstGeom prst="line">
              <a:avLst/>
            </a:prstGeom>
            <a:ln w="28440">
              <a:solidFill>
                <a:srgbClr val="99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619280" y="1268280"/>
              <a:ext cx="1079640" cy="576360"/>
            </a:xfrm>
            <a:prstGeom prst="line">
              <a:avLst/>
            </a:prstGeom>
            <a:ln w="28440">
              <a:solidFill>
                <a:srgbClr val="99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3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3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-0.33295 E">
                                      <p:cBhvr>
                                        <p:cTn id="151" dur="2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2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-0.33295 E">
                                      <p:cBhvr>
                                        <p:cTn id="153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7" dur="1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58" dur="1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59" dur="1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6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6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3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3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93" dur="1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94" dur="1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3" dur="50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295 E">
                                      <p:cBhvr>
                                        <p:cTn id="213" dur="2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7" dur="1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18" dur="1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19" dur="1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2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2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0.33294 L -2.5E-006 4.56647E-006 E">
                                      <p:cBhvr>
                                        <p:cTn id="228" dur="2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2" dur="2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33" dur="2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34" dur="2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3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6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37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8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3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9" dur="1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50" dur="1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51" dur="1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5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5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5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5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60" dur="2000" fill="hold"/>
                                        <p:tgtEl>
                                          <p:spTgt spid="2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3.46821E-006 C 0.01043 -0.00347 0.00921 -0.00971 0.01737 -0.01688 C 0.01928 -0.02058 0.0231 -0.02312 0.02379 -0.02751 C 0.02501 -0.03514 0.02466 -0.043 0.02536 -0.05063 C 0.0257 -0.05364 0.0264 -0.05642 0.02692 -0.05919 C 0.0264 -0.06405 0.02709 -0.06959 0.02536 -0.07399 C 0.02362 -0.07838 0.01997 -0.08092 0.01737 -0.08439 C 0.01199 -0.09179 0.00765 -0.0978 0.00157 -0.10358 C -0.00659 -0.11977 0.004 -0.10173 -0.00642 -0.11191 C -0.01423 -0.11954 -0.01926 -0.1311 -0.02864 -0.13526 C -0.03784 -0.14335 -0.04843 -0.14451 -0.05885 -0.14798 C -0.12343 -0.14196 -0.18819 -0.14358 -0.25242 -0.15006 C -0.26284 -0.14959 -0.3052 -0.14983 -0.32551 -0.14589 C -0.35728 -0.13965 -0.38732 -0.12277 -0.4177 -0.10983 C -0.42638 -0.1022 -0.43628 -0.0978 -0.446 -0.09295 C -0.45885 -0.0867 -0.44669 -0.09156 -0.45711 -0.08439 C -0.46701 -0.07769 -0.48315 -0.07561 -0.49374 -0.07399 C -0.51076 -0.05803 -0.4868 -0.07954 -0.50329 -0.06751 C -0.50971 -0.06289 -0.51388 -0.05572 -0.52065 -0.05272 C -0.52881 -0.03653 -0.51822 -0.05457 -0.52864 -0.04439 C -0.53159 -0.04139 -0.53332 -0.0363 -0.53662 -0.03376 C -0.54253 -0.02913 -0.54687 -0.02405 -0.55242 -0.01896 C -0.55989 -0.00416 -0.5703 0.00624 -0.57777 0.02127 C -0.57864 0.02312 -0.57846 0.02567 -0.57933 0.02752 C -0.58176 0.0326 -0.58732 0.04231 -0.58732 0.04231 C -0.58905 0.05226 -0.59131 0.0622 -0.59374 0.07191 C -0.59773 0.10497 -0.59999 0.13827 -0.60485 0.17133 C -0.60433 0.23491 -0.61839 0.36809 -0.58419 0.44393 C -0.57968 0.46867 -0.5861 0.43815 -0.57933 0.45873 C -0.57273 0.47908 -0.58298 0.45688 -0.57464 0.47353 C -0.57152 0.48624 -0.56405 0.49804 -0.55885 0.5096 C -0.55694 0.51399 -0.55242 0.52231 -0.55242 0.52231 C -0.54826 0.54428 -0.53315 0.55838 -0.52221 0.57503 C -0.5203 0.57804 -0.51857 0.5815 -0.51596 0.58358 C -0.51301 0.5859 -0.50642 0.58775 -0.50642 0.58775 C -0.47013 0.58613 -0.45728 0.58451 -0.42707 0.57711 C -0.40798 0.56717 -0.3861 0.57133 -0.36822 0.55607 C -0.36423 0.54798 -0.3585 0.54243 -0.35242 0.53711 C -0.34947 0.53087 -0.34964 0.52948 -0.34444 0.52647 C -0.34131 0.52463 -0.33489 0.52231 -0.33489 0.52231 C -0.32326 0.51145 -0.31214 0.51145 -0.29843 0.50752 C -0.28992 0.50497 -0.28298 0.49942 -0.27464 0.49688 C -0.27308 0.49549 -0.27135 0.49434 -0.26996 0.49272 C -0.26718 0.48948 -0.26197 0.48208 -0.26197 0.48208 E">
                                      <p:cBhvr>
                                        <p:cTn id="264" dur="3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1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69" dur="1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70" dur="1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7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7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7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7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0695 0.04786 C 0.22656 0.03953 0.24705 0.0326 0.26736 0.0282 C 0.27379 0.02543 0.27986 0.02474 0.28472 0.01872 C 0.28733 0.01549 0.29011 0.01248 0.29271 0.00924 C 0.29375 0.00786 0.29583 0.00508 0.29583 0.00531 C 0.30226 -0.01573 0.29167 0.01549 0.30226 -0.0044 C 0.30347 -0.00671 0.30295 -0.00971 0.30382 -0.01226 C 0.30747 -0.02266 0.31198 -0.03214 0.31493 -0.04324 C 0.31684 -0.05989 0.31736 -0.077 0.31979 -0.09388 C 0.31927 -0.11469 0.31945 -0.13549 0.31806 -0.15607 C 0.31736 -0.16671 0.30851 -0.17619 0.3007 -0.17919 C 0.28316 -0.18567 0.26493 -0.19006 0.2467 -0.1926 C 0.20139 -0.19122 0.16181 -0.18821 0.11649 -0.18706 C 0.09844 -0.18336 0.08073 -0.1822 0.0625 -0.18104 C 0.04861 -0.17873 0.03524 -0.17526 0.02136 -0.17341 C 0.00781 -0.16925 -0.00677 -0.16833 -0.01996 -0.1637 C -0.02361 -0.16232 -0.02743 -0.16116 -0.03108 -0.15977 C -0.03524 -0.15862 -0.04375 -0.15607 -0.04375 -0.15584 C -0.04792 -0.1526 -0.0526 -0.15006 -0.05642 -0.14613 C -0.07969 -0.12255 -0.0592 -0.13919 -0.07239 -0.12879 C -0.07483 -0.11677 -0.07969 -0.1059 -0.08194 -0.09388 C -0.08576 -0.07376 -0.08802 -0.05388 -0.09132 -0.03376 C -0.0934 0.00138 -0.09132 0.03352 -0.08507 0.06751 C -0.08351 0.07583 -0.0842 0.08555 -0.08021 0.09271 C -0.07309 0.10543 -0.0776 0.09133 -0.07239 0.10427 C -0.06996 0.11052 -0.05903 0.13387 -0.05486 0.13734 C -0.05174 0.13988 -0.04739 0.13965 -0.04375 0.14104 C -0.04097 0.14474 -0.03993 0.14682 -0.03576 0.1489 C -0.03281 0.15075 -0.02639 0.15283 -0.02639 0.15306 C -0.01667 0.1704 -0.00243 0.16531 0.01493 0.16647 C 0.02604 0.16855 0.03715 0.16971 0.04826 0.17225 C 0.07031 0.17133 0.08872 0.17433 0.10868 0.16647 C 0.11181 0.1637 0.11493 0.16115 0.11806 0.15861 C 0.12274 0.15491 0.12431 0.1489 0.12917 0.1452 C 0.1349 0.13479 0.14115 0.12485 0.14826 0.11583 C 0.15486 0.09133 0.15139 0.10844 0.15139 0.06358 E">
                                      <p:cBhvr>
                                        <p:cTn id="279" dur="3000" fill="hold"/>
                                        <p:tgtEl>
                                          <p:spTgt spid="2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3" dur="1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84" dur="1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85" dur="1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8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8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8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8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4" dur="5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95" dur="5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96" dur="5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97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98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99" dur="1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00" dur="1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01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5" dur="5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06" dur="5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07" dur="5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08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09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10" dur="1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11" dur="1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12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406 0.10104 L 0.34566 0.48647 E">
                                      <p:cBhvr>
                                        <p:cTn id="316" dur="2000" fill="hold"/>
                                        <p:tgtEl>
                                          <p:spTgt spid="2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9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2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5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8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1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6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9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2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5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1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4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0.33295 L -3.61111E-006 3.12139E-006 E">
                                      <p:cBhvr>
                                        <p:cTn id="358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198 -0.33572 L -2.22222E-006 -3.52601E-006 E">
                                      <p:cBhvr>
                                        <p:cTn id="360" dur="2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5" dur="3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9" dur="3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70" dur="3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71" dur="3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72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73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74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75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76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1" dur="5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17 -0.0007 -0.0434 -0.0007 -0.0651 -0.00231 C -0.08611 -0.00324 -0.1052 -0.02104 -0.12534 -0.02752 C -0.14166 -0.03307 -0.15833 -0.03515 -0.17465 -0.04023 C -0.1901 -0.04532 -0.19097 -0.04856 -0.21111 -0.05295 C -0.22586 -0.05619 -0.24079 -0.0585 -0.25555 -0.06127 C -0.3375 -0.05989 -0.45729 -0.1489 -0.50156 -0.05734 C -0.5026 -0.05503 -0.50329 -0.05226 -0.50468 -0.05064 C -0.50746 -0.0474 -0.51111 -0.04532 -0.51423 -0.04254 C -0.52031 -0.037 -0.51736 -0.03931 -0.52378 -0.03607 C -0.53107 -0.0215 -0.52673 -0.0252 -0.53489 -0.02104 C -0.54062 -0.01364 -0.54965 -0.00463 -0.55399 0.00393 C -0.56111 0.0185 -0.55746 0.01318 -0.56354 0.02104 C -0.56406 0.02312 -0.5644 0.0252 -0.5651 0.02751 C -0.56597 0.02983 -0.5677 0.03121 -0.56822 0.03376 C -0.57291 0.05225 -0.56979 0.07306 -0.56979 0.09295 E">
                                      <p:cBhvr>
                                        <p:cTn id="385" dur="5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59 0.03168 C -0.0118 0.14012 0.00174 0.30636 0.00104 0.37364 C 0.00104 0.37665 -0.00052 0.3822 -0.00052 0.38243 E">
                                      <p:cBhvr>
                                        <p:cTn id="394" dur="3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-1549440" y="4149720"/>
            <a:ext cx="12385800" cy="331164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-3637080" y="0"/>
            <a:ext cx="18288000" cy="5733360"/>
            <a:chOff x="-3637080" y="0"/>
            <a:chExt cx="18288000" cy="5733360"/>
          </a:xfrm>
        </p:grpSpPr>
        <p:sp>
          <p:nvSpPr>
            <p:cNvPr id="222" name=""/>
            <p:cNvSpPr/>
            <p:nvPr/>
          </p:nvSpPr>
          <p:spPr>
            <a:xfrm>
              <a:off x="-3637080" y="0"/>
              <a:ext cx="18288000" cy="4410360"/>
            </a:xfrm>
            <a:custGeom>
              <a:avLst/>
              <a:gdLst>
                <a:gd name="textAreaLeft" fmla="*/ 0 w 18288000"/>
                <a:gd name="textAreaRight" fmla="*/ 18288360 w 18288000"/>
                <a:gd name="textAreaTop" fmla="*/ 0 h 4410360"/>
                <a:gd name="textAreaBottom" fmla="*/ 4410720 h 441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461" y="10800"/>
                  </a:moveTo>
                  <a:arcTo wR="-9339" hR="-9339" stAng="-10800000" swAng="-10800000"/>
                  <a:lnTo>
                    <a:pt x="0" y="10800"/>
                  </a:lnTo>
                  <a:arcTo wR="10800" hR="10800" stAng="10800000" swAng="10800000"/>
                  <a:lnTo>
                    <a:pt x="24300" y="10800"/>
                  </a:lnTo>
                  <a:lnTo>
                    <a:pt x="20870" y="14231"/>
                  </a:lnTo>
                  <a:lnTo>
                    <a:pt x="17439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-3233520" y="294480"/>
              <a:ext cx="17087760" cy="3824640"/>
            </a:xfrm>
            <a:custGeom>
              <a:avLst/>
              <a:gdLst>
                <a:gd name="textAreaLeft" fmla="*/ 0 w 17087760"/>
                <a:gd name="textAreaRight" fmla="*/ 17088120 w 17087760"/>
                <a:gd name="textAreaTop" fmla="*/ 0 h 3824640"/>
                <a:gd name="textAreaBottom" fmla="*/ 3825000 h 3824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461" y="10800"/>
                  </a:moveTo>
                  <a:arcTo wR="-9339" hR="-9339" stAng="-10800000" swAng="-10800000"/>
                  <a:lnTo>
                    <a:pt x="0" y="10800"/>
                  </a:lnTo>
                  <a:arcTo wR="10800" hR="10800" stAng="10800000" swAng="10800000"/>
                  <a:lnTo>
                    <a:pt x="24300" y="10800"/>
                  </a:lnTo>
                  <a:lnTo>
                    <a:pt x="20870" y="14231"/>
                  </a:lnTo>
                  <a:lnTo>
                    <a:pt x="17439" y="1080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-2840040" y="586440"/>
              <a:ext cx="16298640" cy="3970440"/>
            </a:xfrm>
            <a:custGeom>
              <a:avLst/>
              <a:gdLst>
                <a:gd name="textAreaLeft" fmla="*/ 0 w 16298640"/>
                <a:gd name="textAreaRight" fmla="*/ 16299000 w 16298640"/>
                <a:gd name="textAreaTop" fmla="*/ 0 h 3970440"/>
                <a:gd name="textAreaBottom" fmla="*/ 3970800 h 397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461" y="10800"/>
                  </a:moveTo>
                  <a:arcTo wR="-9339" hR="-9339" stAng="-10800000" swAng="-10800000"/>
                  <a:lnTo>
                    <a:pt x="0" y="10800"/>
                  </a:lnTo>
                  <a:arcTo wR="10800" hR="10800" stAng="10800000" swAng="10800000"/>
                  <a:lnTo>
                    <a:pt x="24300" y="10800"/>
                  </a:lnTo>
                  <a:lnTo>
                    <a:pt x="20870" y="14231"/>
                  </a:lnTo>
                  <a:lnTo>
                    <a:pt x="17439" y="10800"/>
                  </a:ln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-2436480" y="880920"/>
              <a:ext cx="15098400" cy="3970440"/>
            </a:xfrm>
            <a:custGeom>
              <a:avLst/>
              <a:gdLst>
                <a:gd name="textAreaLeft" fmla="*/ 0 w 15098400"/>
                <a:gd name="textAreaRight" fmla="*/ 15098760 w 15098400"/>
                <a:gd name="textAreaTop" fmla="*/ 0 h 3970440"/>
                <a:gd name="textAreaBottom" fmla="*/ 3970800 h 397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461" y="10800"/>
                  </a:moveTo>
                  <a:arcTo wR="-9339" hR="-9339" stAng="-10800000" swAng="-10800000"/>
                  <a:lnTo>
                    <a:pt x="0" y="10800"/>
                  </a:lnTo>
                  <a:arcTo wR="10800" hR="10800" stAng="10800000" swAng="10800000"/>
                  <a:lnTo>
                    <a:pt x="24300" y="10800"/>
                  </a:lnTo>
                  <a:lnTo>
                    <a:pt x="20870" y="14231"/>
                  </a:lnTo>
                  <a:lnTo>
                    <a:pt x="17439" y="1080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-2043000" y="1175760"/>
              <a:ext cx="14301720" cy="3970440"/>
            </a:xfrm>
            <a:custGeom>
              <a:avLst/>
              <a:gdLst>
                <a:gd name="textAreaLeft" fmla="*/ 0 w 14301720"/>
                <a:gd name="textAreaRight" fmla="*/ 14302080 w 14301720"/>
                <a:gd name="textAreaTop" fmla="*/ 0 h 3970440"/>
                <a:gd name="textAreaBottom" fmla="*/ 3970800 h 397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461" y="10800"/>
                  </a:moveTo>
                  <a:arcTo wR="-9339" hR="-9339" stAng="-10800000" swAng="-10800000"/>
                  <a:lnTo>
                    <a:pt x="0" y="10800"/>
                  </a:lnTo>
                  <a:arcTo wR="10800" hR="10800" stAng="10800000" swAng="10800000"/>
                  <a:lnTo>
                    <a:pt x="24300" y="10800"/>
                  </a:lnTo>
                  <a:lnTo>
                    <a:pt x="20870" y="14231"/>
                  </a:lnTo>
                  <a:lnTo>
                    <a:pt x="17439" y="10800"/>
                  </a:lnTo>
                  <a:close/>
                </a:path>
              </a:pathLst>
            </a:custGeom>
            <a:solidFill>
              <a:srgbClr val="33ccff"/>
            </a:solidFill>
            <a:ln w="936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-1647720" y="1467720"/>
              <a:ext cx="13512600" cy="3970440"/>
            </a:xfrm>
            <a:custGeom>
              <a:avLst/>
              <a:gdLst>
                <a:gd name="textAreaLeft" fmla="*/ 0 w 13512600"/>
                <a:gd name="textAreaRight" fmla="*/ 13512960 w 13512600"/>
                <a:gd name="textAreaTop" fmla="*/ 0 h 3970440"/>
                <a:gd name="textAreaBottom" fmla="*/ 3970800 h 397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461" y="10800"/>
                  </a:moveTo>
                  <a:arcTo wR="-9339" hR="-9339" stAng="-10800000" swAng="-10800000"/>
                  <a:lnTo>
                    <a:pt x="0" y="10800"/>
                  </a:lnTo>
                  <a:arcTo wR="10800" hR="10800" stAng="10800000" swAng="10800000"/>
                  <a:lnTo>
                    <a:pt x="24300" y="10800"/>
                  </a:lnTo>
                  <a:lnTo>
                    <a:pt x="20870" y="14231"/>
                  </a:lnTo>
                  <a:lnTo>
                    <a:pt x="17439" y="10800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-1647720" y="1762920"/>
              <a:ext cx="13512600" cy="3970440"/>
            </a:xfrm>
            <a:custGeom>
              <a:avLst/>
              <a:gdLst>
                <a:gd name="textAreaLeft" fmla="*/ 0 w 13512600"/>
                <a:gd name="textAreaRight" fmla="*/ 13512960 w 13512600"/>
                <a:gd name="textAreaTop" fmla="*/ 0 h 3970440"/>
                <a:gd name="textAreaBottom" fmla="*/ 3970800 h 397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461" y="10800"/>
                  </a:moveTo>
                  <a:arcTo wR="-9339" hR="-9339" stAng="-10800000" swAng="-10800000"/>
                  <a:lnTo>
                    <a:pt x="0" y="10800"/>
                  </a:lnTo>
                  <a:arcTo wR="10800" hR="10800" stAng="10800000" swAng="10800000"/>
                  <a:lnTo>
                    <a:pt x="24300" y="10800"/>
                  </a:lnTo>
                  <a:lnTo>
                    <a:pt x="20870" y="14231"/>
                  </a:lnTo>
                  <a:lnTo>
                    <a:pt x="17439" y="10800"/>
                  </a:lnTo>
                  <a:close/>
                </a:path>
              </a:pathLst>
            </a:custGeom>
            <a:solidFill>
              <a:srgbClr val="9933ff"/>
            </a:solidFill>
            <a:ln w="9360">
              <a:solidFill>
                <a:srgbClr val="99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1979640" y="1674000"/>
            <a:ext cx="1998000" cy="3555360"/>
            <a:chOff x="1979640" y="1674000"/>
            <a:chExt cx="1998000" cy="3555360"/>
          </a:xfrm>
        </p:grpSpPr>
        <p:grpSp>
          <p:nvGrpSpPr>
            <p:cNvPr id="230" name=""/>
            <p:cNvGrpSpPr/>
            <p:nvPr/>
          </p:nvGrpSpPr>
          <p:grpSpPr>
            <a:xfrm>
              <a:off x="1979640" y="2492640"/>
              <a:ext cx="1942920" cy="2736720"/>
              <a:chOff x="1979640" y="2492640"/>
              <a:chExt cx="1942920" cy="2736720"/>
            </a:xfrm>
          </p:grpSpPr>
          <p:sp>
            <p:nvSpPr>
              <p:cNvPr id="231" name=""/>
              <p:cNvSpPr/>
              <p:nvPr/>
            </p:nvSpPr>
            <p:spPr>
              <a:xfrm>
                <a:off x="1979640" y="2492640"/>
                <a:ext cx="1942920" cy="2376360"/>
              </a:xfrm>
              <a:prstGeom prst="triangle">
                <a:avLst>
                  <a:gd name="adj" fmla="val 50000"/>
                </a:avLst>
              </a:prstGeom>
              <a:solidFill>
                <a:srgbClr val="009999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6228600">
                <a:off x="2557440" y="3569400"/>
                <a:ext cx="226800" cy="520200"/>
              </a:xfrm>
              <a:custGeom>
                <a:avLst/>
                <a:gdLst/>
                <a:ahLst/>
                <a:rect l="l" t="t" r="r" b="b"/>
                <a:pathLst>
                  <a:path w="907" h="370">
                    <a:moveTo>
                      <a:pt x="0" y="53"/>
                    </a:moveTo>
                    <a:cubicBezTo>
                      <a:pt x="453" y="26"/>
                      <a:pt x="907" y="0"/>
                      <a:pt x="907" y="53"/>
                    </a:cubicBezTo>
                    <a:cubicBezTo>
                      <a:pt x="907" y="106"/>
                      <a:pt x="144" y="317"/>
                      <a:pt x="0" y="370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6228600">
                <a:off x="3494160" y="3425400"/>
                <a:ext cx="226800" cy="520560"/>
              </a:xfrm>
              <a:custGeom>
                <a:avLst/>
                <a:gdLst/>
                <a:ahLst/>
                <a:rect l="l" t="t" r="r" b="b"/>
                <a:pathLst>
                  <a:path w="907" h="370">
                    <a:moveTo>
                      <a:pt x="0" y="53"/>
                    </a:moveTo>
                    <a:cubicBezTo>
                      <a:pt x="453" y="26"/>
                      <a:pt x="907" y="0"/>
                      <a:pt x="907" y="53"/>
                    </a:cubicBezTo>
                    <a:cubicBezTo>
                      <a:pt x="907" y="106"/>
                      <a:pt x="144" y="317"/>
                      <a:pt x="0" y="370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411280" y="4869000"/>
                <a:ext cx="286920" cy="360360"/>
              </a:xfrm>
              <a:prstGeom prst="triangle">
                <a:avLst>
                  <a:gd name="adj" fmla="val 50000"/>
                </a:avLst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3132000" y="4869000"/>
                <a:ext cx="286920" cy="360360"/>
              </a:xfrm>
              <a:prstGeom prst="triangle">
                <a:avLst>
                  <a:gd name="adj" fmla="val 50000"/>
                </a:avLst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6" name=""/>
            <p:cNvGrpSpPr/>
            <p:nvPr/>
          </p:nvGrpSpPr>
          <p:grpSpPr>
            <a:xfrm>
              <a:off x="2191320" y="1674000"/>
              <a:ext cx="1786320" cy="1552680"/>
              <a:chOff x="2191320" y="1674000"/>
              <a:chExt cx="1786320" cy="1552680"/>
            </a:xfrm>
          </p:grpSpPr>
          <p:sp>
            <p:nvSpPr>
              <p:cNvPr id="237" name=""/>
              <p:cNvSpPr/>
              <p:nvPr/>
            </p:nvSpPr>
            <p:spPr>
              <a:xfrm rot="21417600">
                <a:off x="3643920" y="2454840"/>
                <a:ext cx="215280" cy="287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21417600">
                <a:off x="2198520" y="2387160"/>
                <a:ext cx="215640" cy="287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21417600">
                <a:off x="2321640" y="1711440"/>
                <a:ext cx="1007640" cy="825480"/>
              </a:xfrm>
              <a:prstGeom prst="cloudCallout">
                <a:avLst>
                  <a:gd name="adj1" fmla="val -44328"/>
                  <a:gd name="adj2" fmla="val 64805"/>
                </a:avLst>
              </a:prstGeom>
              <a:solidFill>
                <a:srgbClr val="a62c2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2377800">
                <a:off x="2974320" y="1895400"/>
                <a:ext cx="914040" cy="609840"/>
              </a:xfrm>
              <a:prstGeom prst="cloudCallout">
                <a:avLst>
                  <a:gd name="adj1" fmla="val -43750"/>
                  <a:gd name="adj2" fmla="val 70000"/>
                </a:avLst>
              </a:prstGeom>
              <a:solidFill>
                <a:srgbClr val="a62c2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flipV="1" rot="21417600">
                <a:off x="2344680" y="1917000"/>
                <a:ext cx="1346040" cy="1274760"/>
              </a:xfrm>
              <a:prstGeom prst="ellipse">
                <a:avLst/>
              </a:prstGeom>
              <a:solidFill>
                <a:srgbClr val="ffff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21417600">
                <a:off x="2696400" y="2362680"/>
                <a:ext cx="144000" cy="1220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21417600">
                <a:off x="3200400" y="2336040"/>
                <a:ext cx="144000" cy="1220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10617600">
                <a:off x="2790720" y="2708640"/>
                <a:ext cx="504360" cy="21564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e90d1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flipH="1">
                <a:off x="2758320" y="1916280"/>
                <a:ext cx="271440" cy="302040"/>
              </a:xfrm>
              <a:prstGeom prst="line">
                <a:avLst/>
              </a:prstGeom>
              <a:ln w="38160">
                <a:solidFill>
                  <a:srgbClr val="a62c2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H="1">
                <a:off x="2903040" y="1916280"/>
                <a:ext cx="127080" cy="295920"/>
              </a:xfrm>
              <a:prstGeom prst="line">
                <a:avLst/>
              </a:prstGeom>
              <a:ln w="38160">
                <a:solidFill>
                  <a:srgbClr val="a62c2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3026520" y="1845000"/>
                <a:ext cx="159120" cy="279000"/>
              </a:xfrm>
              <a:prstGeom prst="line">
                <a:avLst/>
              </a:prstGeom>
              <a:ln w="38160">
                <a:solidFill>
                  <a:srgbClr val="a62c2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030480" y="1916280"/>
                <a:ext cx="11520" cy="215640"/>
              </a:xfrm>
              <a:prstGeom prst="line">
                <a:avLst/>
              </a:prstGeom>
              <a:ln w="28440">
                <a:solidFill>
                  <a:srgbClr val="a62c2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H="1">
                <a:off x="2610000" y="1916280"/>
                <a:ext cx="419760" cy="238320"/>
              </a:xfrm>
              <a:prstGeom prst="line">
                <a:avLst/>
              </a:prstGeom>
              <a:ln w="28440">
                <a:solidFill>
                  <a:srgbClr val="a62c2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0" name=""/>
          <p:cNvSpPr/>
          <p:nvPr/>
        </p:nvSpPr>
        <p:spPr>
          <a:xfrm rot="1573800">
            <a:off x="4140360" y="2204640"/>
            <a:ext cx="4279680" cy="244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КОХЛЕ – ОХЛ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ЖЕЛЕ – ЗЕЛЕ –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ГЕЛЕ – СЕЛЕ - Ф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3764520" y="1374120"/>
            <a:ext cx="5143680" cy="4182840"/>
            <a:chOff x="3764520" y="1374120"/>
            <a:chExt cx="5143680" cy="4182840"/>
          </a:xfrm>
        </p:grpSpPr>
        <p:sp>
          <p:nvSpPr>
            <p:cNvPr id="252" name=""/>
            <p:cNvSpPr/>
            <p:nvPr/>
          </p:nvSpPr>
          <p:spPr>
            <a:xfrm rot="1523400">
              <a:off x="4079520" y="2221200"/>
              <a:ext cx="4512960" cy="2487960"/>
            </a:xfrm>
            <a:prstGeom prst="rect">
              <a:avLst/>
            </a:prstGeom>
            <a:solidFill>
              <a:srgbClr val="9966ff"/>
            </a:solidFill>
            <a:ln w="28440">
              <a:solidFill>
                <a:srgbClr val="99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82320" y="1484280"/>
              <a:ext cx="2908080" cy="3960360"/>
            </a:xfrm>
            <a:prstGeom prst="line">
              <a:avLst/>
            </a:prstGeom>
            <a:ln w="28440">
              <a:solidFill>
                <a:srgbClr val="99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 flipV="1">
              <a:off x="3780000" y="3234600"/>
              <a:ext cx="5111280" cy="459000"/>
            </a:xfrm>
            <a:prstGeom prst="line">
              <a:avLst/>
            </a:prstGeom>
            <a:ln w="28440">
              <a:solidFill>
                <a:srgbClr val="99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5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1" dur="5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0" y="4653000"/>
            <a:ext cx="9396360" cy="3816360"/>
          </a:xfrm>
          <a:prstGeom prst="ellipse">
            <a:avLst/>
          </a:prstGeom>
          <a:solidFill>
            <a:srgbClr val="cbed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rot="18451800">
            <a:off x="1264320" y="1915200"/>
            <a:ext cx="1008000" cy="431640"/>
          </a:xfrm>
          <a:prstGeom prst="ellipse">
            <a:avLst/>
          </a:prstGeom>
          <a:solidFill>
            <a:srgbClr val="ffff66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rot="20711400">
            <a:off x="2180880" y="1217520"/>
            <a:ext cx="1008000" cy="432000"/>
          </a:xfrm>
          <a:prstGeom prst="ellipse">
            <a:avLst/>
          </a:prstGeom>
          <a:solidFill>
            <a:srgbClr val="ffff66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rot="19581000">
            <a:off x="647640" y="1359000"/>
            <a:ext cx="1440000" cy="863640"/>
          </a:xfrm>
          <a:prstGeom prst="ellipse">
            <a:avLst/>
          </a:prstGeom>
          <a:solidFill>
            <a:srgbClr val="ffccff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rot="19581000">
            <a:off x="1806480" y="501480"/>
            <a:ext cx="1440000" cy="863640"/>
          </a:xfrm>
          <a:prstGeom prst="ellipse">
            <a:avLst/>
          </a:prstGeom>
          <a:solidFill>
            <a:srgbClr val="ffccff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rot="19581000">
            <a:off x="2768760" y="1321920"/>
            <a:ext cx="215640" cy="144720"/>
          </a:xfrm>
          <a:prstGeom prst="ellipse">
            <a:avLst/>
          </a:prstGeom>
          <a:solidFill>
            <a:srgbClr val="ffccff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rot="19581000">
            <a:off x="2563920" y="624960"/>
            <a:ext cx="431640" cy="339840"/>
          </a:xfrm>
          <a:prstGeom prst="ellipse">
            <a:avLst/>
          </a:prstGeom>
          <a:solidFill>
            <a:srgbClr val="ffff66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rot="19581000">
            <a:off x="2015640" y="1383840"/>
            <a:ext cx="360360" cy="576360"/>
          </a:xfrm>
          <a:prstGeom prst="ellipse">
            <a:avLst/>
          </a:prstGeom>
          <a:solidFill>
            <a:srgbClr val="ff9933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 rot="19581000">
            <a:off x="1434240" y="845640"/>
            <a:ext cx="865440" cy="792000"/>
          </a:xfrm>
          <a:prstGeom prst="ellipse">
            <a:avLst/>
          </a:prstGeom>
          <a:solidFill>
            <a:srgbClr val="ff9933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rot="19581000">
            <a:off x="1663200" y="417240"/>
            <a:ext cx="217800" cy="195120"/>
          </a:xfrm>
          <a:prstGeom prst="ellipse">
            <a:avLst/>
          </a:prstGeom>
          <a:solidFill>
            <a:srgbClr val="ffff66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9581000">
            <a:off x="1615680" y="1161720"/>
            <a:ext cx="1429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rot="19581000">
            <a:off x="1916280" y="961560"/>
            <a:ext cx="1425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rot="4369800">
            <a:off x="1895040" y="1319040"/>
            <a:ext cx="181080" cy="165240"/>
          </a:xfrm>
          <a:custGeom>
            <a:avLst/>
            <a:gdLst/>
            <a:ahLst/>
            <a:rect l="l" t="t" r="r" b="b"/>
            <a:pathLst>
              <a:path w="438" h="317">
                <a:moveTo>
                  <a:pt x="0" y="45"/>
                </a:moveTo>
                <a:cubicBezTo>
                  <a:pt x="189" y="22"/>
                  <a:pt x="378" y="0"/>
                  <a:pt x="408" y="45"/>
                </a:cubicBezTo>
                <a:cubicBezTo>
                  <a:pt x="438" y="90"/>
                  <a:pt x="219" y="272"/>
                  <a:pt x="181" y="317"/>
                </a:cubicBezTo>
              </a:path>
            </a:pathLst>
          </a:custGeom>
          <a:noFill/>
          <a:ln w="284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rot="19581000">
            <a:off x="865080" y="1846440"/>
            <a:ext cx="432000" cy="339480"/>
          </a:xfrm>
          <a:prstGeom prst="ellipse">
            <a:avLst/>
          </a:prstGeom>
          <a:solidFill>
            <a:srgbClr val="ffff66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19581000">
            <a:off x="1549080" y="2220840"/>
            <a:ext cx="216000" cy="144360"/>
          </a:xfrm>
          <a:prstGeom prst="ellipse">
            <a:avLst/>
          </a:prstGeom>
          <a:solidFill>
            <a:srgbClr val="ffccff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 flipV="1" rot="3233400">
            <a:off x="1600200" y="531720"/>
            <a:ext cx="577440" cy="431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 rot="14327400">
            <a:off x="1031400" y="1000440"/>
            <a:ext cx="577440" cy="430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H="1" rot="19581000">
            <a:off x="983520" y="956880"/>
            <a:ext cx="217440" cy="195120"/>
          </a:xfrm>
          <a:prstGeom prst="ellipse">
            <a:avLst/>
          </a:prstGeom>
          <a:solidFill>
            <a:srgbClr val="ffff66"/>
          </a:solidFill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648080" y="916920"/>
            <a:ext cx="79200" cy="11880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1566720" y="915480"/>
            <a:ext cx="80640" cy="13932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647360" y="915840"/>
            <a:ext cx="199800" cy="3852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6710760" y="-89640"/>
            <a:ext cx="2103120" cy="2048400"/>
            <a:chOff x="6710760" y="-89640"/>
            <a:chExt cx="2103120" cy="2048400"/>
          </a:xfrm>
        </p:grpSpPr>
        <p:sp>
          <p:nvSpPr>
            <p:cNvPr id="277" name=""/>
            <p:cNvSpPr/>
            <p:nvPr/>
          </p:nvSpPr>
          <p:spPr>
            <a:xfrm rot="13892400">
              <a:off x="6978240" y="1686240"/>
              <a:ext cx="216000" cy="215640"/>
            </a:xfrm>
            <a:prstGeom prst="ellipse">
              <a:avLst/>
            </a:prstGeom>
            <a:solidFill>
              <a:srgbClr val="cc6600"/>
            </a:solidFill>
            <a:ln w="93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92400">
              <a:off x="6753960" y="1404000"/>
              <a:ext cx="216000" cy="215640"/>
            </a:xfrm>
            <a:prstGeom prst="ellipse">
              <a:avLst/>
            </a:prstGeom>
            <a:solidFill>
              <a:srgbClr val="cc6600"/>
            </a:solidFill>
            <a:ln w="93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12517200">
              <a:off x="7347960" y="602640"/>
              <a:ext cx="720720" cy="936720"/>
            </a:xfrm>
            <a:prstGeom prst="wedgeEllipseCallout">
              <a:avLst>
                <a:gd name="adj1" fmla="val -42069"/>
                <a:gd name="adj2" fmla="val 66611"/>
              </a:avLst>
            </a:prstGeom>
            <a:solidFill>
              <a:srgbClr val="ffcc00"/>
            </a:solidFill>
            <a:ln w="93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rot="13892400">
              <a:off x="7128000" y="913680"/>
              <a:ext cx="792000" cy="6984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13892400">
              <a:off x="6860520" y="1254960"/>
              <a:ext cx="649440" cy="5540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PubChord"/>
            <p:cNvSpPr/>
            <p:nvPr/>
          </p:nvSpPr>
          <p:spPr>
            <a:xfrm flipH="1" rot="6760200">
              <a:off x="6779520" y="316800"/>
              <a:ext cx="1204920" cy="485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3163" y="3163"/>
                  </a:moveTo>
                  <a:arcTo wR="10800" hR="10800" stAng="-8100000" swAng="-10800000"/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cc66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PubChord"/>
            <p:cNvSpPr/>
            <p:nvPr/>
          </p:nvSpPr>
          <p:spPr>
            <a:xfrm rot="21222600">
              <a:off x="7585560" y="1331640"/>
              <a:ext cx="1204920" cy="485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3163" y="3163"/>
                  </a:moveTo>
                  <a:arcTo wR="10800" hR="10800" stAng="-8100000" swAng="-10800000"/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cc66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3061080" y="158760"/>
            <a:ext cx="2969640" cy="2201400"/>
            <a:chOff x="3061080" y="158760"/>
            <a:chExt cx="2969640" cy="2201400"/>
          </a:xfrm>
        </p:grpSpPr>
        <p:sp>
          <p:nvSpPr>
            <p:cNvPr id="285" name=""/>
            <p:cNvSpPr/>
            <p:nvPr/>
          </p:nvSpPr>
          <p:spPr>
            <a:xfrm flipH="1" rot="2421600">
              <a:off x="4377600" y="1652400"/>
              <a:ext cx="1008360" cy="432000"/>
            </a:xfrm>
            <a:prstGeom prst="ellipse">
              <a:avLst/>
            </a:prstGeom>
            <a:solidFill>
              <a:srgbClr val="ff9900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 rot="162000">
              <a:off x="3333600" y="1163160"/>
              <a:ext cx="1008000" cy="431640"/>
            </a:xfrm>
            <a:prstGeom prst="ellipse">
              <a:avLst/>
            </a:prstGeom>
            <a:solidFill>
              <a:srgbClr val="ff9900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 rot="1293600">
              <a:off x="4482000" y="1020600"/>
              <a:ext cx="1440000" cy="863640"/>
            </a:xfrm>
            <a:prstGeom prst="ellipse">
              <a:avLst/>
            </a:prstGeom>
            <a:solidFill>
              <a:srgbClr val="ff9900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 rot="1293600">
              <a:off x="3169080" y="424800"/>
              <a:ext cx="1440000" cy="863640"/>
            </a:xfrm>
            <a:prstGeom prst="ellipse">
              <a:avLst/>
            </a:prstGeom>
            <a:solidFill>
              <a:srgbClr val="ff9900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 rot="1293600">
              <a:off x="3535560" y="1308240"/>
              <a:ext cx="216000" cy="144000"/>
            </a:xfrm>
            <a:prstGeom prst="ellipse">
              <a:avLst/>
            </a:prstGeom>
            <a:solidFill>
              <a:srgbClr val="cc6600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 rot="1293600">
              <a:off x="3395880" y="604080"/>
              <a:ext cx="431640" cy="339840"/>
            </a:xfrm>
            <a:prstGeom prst="ellipse">
              <a:avLst/>
            </a:prstGeom>
            <a:solidFill>
              <a:srgbClr val="ffcc00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 rot="1293600">
              <a:off x="4186080" y="1221840"/>
              <a:ext cx="360360" cy="576360"/>
            </a:xfrm>
            <a:prstGeom prst="ellipse">
              <a:avLst/>
            </a:prstGeom>
            <a:solidFill>
              <a:srgbClr val="ff9900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rot="1293600">
              <a:off x="4164840" y="625320"/>
              <a:ext cx="865080" cy="792000"/>
            </a:xfrm>
            <a:prstGeom prst="ellipse">
              <a:avLst/>
            </a:prstGeom>
            <a:solidFill>
              <a:srgbClr val="ff9900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 rot="1293600">
              <a:off x="4429080" y="191880"/>
              <a:ext cx="217440" cy="195120"/>
            </a:xfrm>
            <a:prstGeom prst="ellipse">
              <a:avLst/>
            </a:prstGeom>
            <a:solidFill>
              <a:srgbClr val="ff9900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flipH="1" rot="1293600">
              <a:off x="4700520" y="901440"/>
              <a:ext cx="142920" cy="144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flipH="1" rot="1293600">
              <a:off x="4365360" y="769320"/>
              <a:ext cx="142920" cy="144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 rot="16504200">
              <a:off x="4424760" y="1118520"/>
              <a:ext cx="180720" cy="164880"/>
            </a:xfrm>
            <a:custGeom>
              <a:avLst/>
              <a:gdLst/>
              <a:ahLst/>
              <a:rect l="l" t="t" r="r" b="b"/>
              <a:pathLst>
                <a:path w="438" h="317">
                  <a:moveTo>
                    <a:pt x="0" y="45"/>
                  </a:moveTo>
                  <a:cubicBezTo>
                    <a:pt x="189" y="22"/>
                    <a:pt x="378" y="0"/>
                    <a:pt x="408" y="45"/>
                  </a:cubicBezTo>
                  <a:cubicBezTo>
                    <a:pt x="438" y="90"/>
                    <a:pt x="219" y="272"/>
                    <a:pt x="181" y="317"/>
                  </a:cubicBezTo>
                </a:path>
              </a:pathLst>
            </a:custGeom>
            <a:noFill/>
            <a:ln w="2844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 flipH="1" rot="1293600">
              <a:off x="5313240" y="1442160"/>
              <a:ext cx="431640" cy="339480"/>
            </a:xfrm>
            <a:prstGeom prst="ellipse">
              <a:avLst/>
            </a:prstGeom>
            <a:solidFill>
              <a:srgbClr val="ffcc00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 rot="1293600">
              <a:off x="4915800" y="1932120"/>
              <a:ext cx="216000" cy="144000"/>
            </a:xfrm>
            <a:prstGeom prst="ellipse">
              <a:avLst/>
            </a:prstGeom>
            <a:solidFill>
              <a:srgbClr val="cc6600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 rot="17640600">
              <a:off x="4184280" y="325440"/>
              <a:ext cx="577440" cy="43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 flipV="1" rot="6546600">
              <a:off x="4838760" y="663480"/>
              <a:ext cx="57744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rot="1293600">
              <a:off x="5207040" y="577440"/>
              <a:ext cx="217440" cy="195120"/>
            </a:xfrm>
            <a:prstGeom prst="ellipse">
              <a:avLst/>
            </a:prstGeom>
            <a:solidFill>
              <a:srgbClr val="ff9900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>
              <a:off x="4692240" y="655200"/>
              <a:ext cx="52560" cy="13284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744800" y="655200"/>
              <a:ext cx="108000" cy="11988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4557960" y="655200"/>
              <a:ext cx="186840" cy="7992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1258920" y="2538720"/>
            <a:ext cx="1998720" cy="3555720"/>
            <a:chOff x="1258920" y="2538720"/>
            <a:chExt cx="1998720" cy="3555720"/>
          </a:xfrm>
        </p:grpSpPr>
        <p:grpSp>
          <p:nvGrpSpPr>
            <p:cNvPr id="306" name=""/>
            <p:cNvGrpSpPr/>
            <p:nvPr/>
          </p:nvGrpSpPr>
          <p:grpSpPr>
            <a:xfrm>
              <a:off x="1258920" y="3357720"/>
              <a:ext cx="1942920" cy="2736720"/>
              <a:chOff x="1258920" y="3357720"/>
              <a:chExt cx="1942920" cy="2736720"/>
            </a:xfrm>
          </p:grpSpPr>
          <p:sp>
            <p:nvSpPr>
              <p:cNvPr id="307" name=""/>
              <p:cNvSpPr/>
              <p:nvPr/>
            </p:nvSpPr>
            <p:spPr>
              <a:xfrm>
                <a:off x="1258920" y="3357720"/>
                <a:ext cx="1942920" cy="2376360"/>
              </a:xfrm>
              <a:prstGeom prst="triangle">
                <a:avLst>
                  <a:gd name="adj" fmla="val 50000"/>
                </a:avLst>
              </a:prstGeom>
              <a:solidFill>
                <a:srgbClr val="009999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228600">
                <a:off x="1836720" y="4434480"/>
                <a:ext cx="226800" cy="520200"/>
              </a:xfrm>
              <a:custGeom>
                <a:avLst/>
                <a:gdLst/>
                <a:ahLst/>
                <a:rect l="l" t="t" r="r" b="b"/>
                <a:pathLst>
                  <a:path w="907" h="370">
                    <a:moveTo>
                      <a:pt x="0" y="53"/>
                    </a:moveTo>
                    <a:cubicBezTo>
                      <a:pt x="453" y="26"/>
                      <a:pt x="907" y="0"/>
                      <a:pt x="907" y="53"/>
                    </a:cubicBezTo>
                    <a:cubicBezTo>
                      <a:pt x="907" y="106"/>
                      <a:pt x="144" y="317"/>
                      <a:pt x="0" y="370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6228600">
                <a:off x="2773440" y="4290480"/>
                <a:ext cx="226800" cy="520560"/>
              </a:xfrm>
              <a:custGeom>
                <a:avLst/>
                <a:gdLst/>
                <a:ahLst/>
                <a:rect l="l" t="t" r="r" b="b"/>
                <a:pathLst>
                  <a:path w="907" h="370">
                    <a:moveTo>
                      <a:pt x="0" y="53"/>
                    </a:moveTo>
                    <a:cubicBezTo>
                      <a:pt x="453" y="26"/>
                      <a:pt x="907" y="0"/>
                      <a:pt x="907" y="53"/>
                    </a:cubicBezTo>
                    <a:cubicBezTo>
                      <a:pt x="907" y="106"/>
                      <a:pt x="144" y="317"/>
                      <a:pt x="0" y="370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1690560" y="5734080"/>
                <a:ext cx="286920" cy="360360"/>
              </a:xfrm>
              <a:prstGeom prst="triangle">
                <a:avLst>
                  <a:gd name="adj" fmla="val 50000"/>
                </a:avLst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2411280" y="5734080"/>
                <a:ext cx="286920" cy="360360"/>
              </a:xfrm>
              <a:prstGeom prst="triangle">
                <a:avLst>
                  <a:gd name="adj" fmla="val 50000"/>
                </a:avLst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1470600" y="2538720"/>
              <a:ext cx="1787040" cy="1553040"/>
              <a:chOff x="1470600" y="2538720"/>
              <a:chExt cx="1787040" cy="1553040"/>
            </a:xfrm>
          </p:grpSpPr>
          <p:sp>
            <p:nvSpPr>
              <p:cNvPr id="313" name=""/>
              <p:cNvSpPr/>
              <p:nvPr/>
            </p:nvSpPr>
            <p:spPr>
              <a:xfrm rot="21417600">
                <a:off x="2923560" y="3319920"/>
                <a:ext cx="215640" cy="287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21417600">
                <a:off x="1477800" y="3252240"/>
                <a:ext cx="216000" cy="287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21417600">
                <a:off x="1601280" y="2576520"/>
                <a:ext cx="1008000" cy="825480"/>
              </a:xfrm>
              <a:prstGeom prst="cloudCallout">
                <a:avLst>
                  <a:gd name="adj1" fmla="val -44328"/>
                  <a:gd name="adj2" fmla="val 64805"/>
                </a:avLst>
              </a:prstGeom>
              <a:solidFill>
                <a:srgbClr val="a62c2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2377800">
                <a:off x="2253600" y="2760120"/>
                <a:ext cx="914400" cy="609840"/>
              </a:xfrm>
              <a:prstGeom prst="cloudCallout">
                <a:avLst>
                  <a:gd name="adj1" fmla="val -43750"/>
                  <a:gd name="adj2" fmla="val 70000"/>
                </a:avLst>
              </a:prstGeom>
              <a:solidFill>
                <a:srgbClr val="a62c2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flipV="1" rot="21417600">
                <a:off x="1624320" y="2782080"/>
                <a:ext cx="1346400" cy="1274760"/>
              </a:xfrm>
              <a:prstGeom prst="ellipse">
                <a:avLst/>
              </a:prstGeom>
              <a:solidFill>
                <a:srgbClr val="ffff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21417600">
                <a:off x="1976040" y="3227760"/>
                <a:ext cx="144360" cy="1220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21417600">
                <a:off x="2480040" y="3201120"/>
                <a:ext cx="144360" cy="1220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0617600">
                <a:off x="2070720" y="3573720"/>
                <a:ext cx="504720" cy="21564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e90d1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flipH="1">
                <a:off x="2038320" y="2781360"/>
                <a:ext cx="271800" cy="302040"/>
              </a:xfrm>
              <a:prstGeom prst="line">
                <a:avLst/>
              </a:prstGeom>
              <a:ln w="38160">
                <a:solidFill>
                  <a:srgbClr val="a62c2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flipH="1">
                <a:off x="2182320" y="2781360"/>
                <a:ext cx="127440" cy="296280"/>
              </a:xfrm>
              <a:prstGeom prst="line">
                <a:avLst/>
              </a:prstGeom>
              <a:ln w="38160">
                <a:solidFill>
                  <a:srgbClr val="a62c2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2306160" y="2710080"/>
                <a:ext cx="159480" cy="279000"/>
              </a:xfrm>
              <a:prstGeom prst="line">
                <a:avLst/>
              </a:prstGeom>
              <a:ln w="38160">
                <a:solidFill>
                  <a:srgbClr val="a62c2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310120" y="2781360"/>
                <a:ext cx="11520" cy="215640"/>
              </a:xfrm>
              <a:prstGeom prst="line">
                <a:avLst/>
              </a:prstGeom>
              <a:ln w="28440">
                <a:solidFill>
                  <a:srgbClr val="a62c2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flipH="1">
                <a:off x="1890000" y="2781360"/>
                <a:ext cx="420120" cy="238320"/>
              </a:xfrm>
              <a:prstGeom prst="line">
                <a:avLst/>
              </a:prstGeom>
              <a:ln w="28440">
                <a:solidFill>
                  <a:srgbClr val="a62c2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6" name=""/>
          <p:cNvSpPr txBox="1"/>
          <p:nvPr/>
        </p:nvSpPr>
        <p:spPr>
          <a:xfrm>
            <a:off x="3132000" y="3500280"/>
            <a:ext cx="5548320" cy="81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о скорой встречи, друзья!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3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3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3" dur="1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424" dur="1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25" dur="1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2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2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2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2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4" dur="500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a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569080" cy="4824360"/>
          </a:xfrm>
          <a:prstGeom prst="rect">
            <a:avLst/>
          </a:prstGeom>
          <a:solidFill>
            <a:srgbClr val="cbedb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езентация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дготовлена учителем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МОУ «Кардымовская средняя школа» Пономаревой О.И.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 уроку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«Наглядная геометрия», 1 класс, (авторы Т.В.Жильцова, Л.А.Обухова)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Урок № 2.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Тем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6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ри подготовке использована литератур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.В.Жильцова, Л.А.Обух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Поурочные разработки по наглядной геометрии». 1 – 4 класс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сква «ВАКО», 2004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-4284720" y="3990960"/>
            <a:ext cx="18288000" cy="5733360"/>
            <a:chOff x="-4284720" y="3990960"/>
            <a:chExt cx="18288000" cy="5733360"/>
          </a:xfrm>
        </p:grpSpPr>
        <p:sp>
          <p:nvSpPr>
            <p:cNvPr id="331" name=""/>
            <p:cNvSpPr/>
            <p:nvPr/>
          </p:nvSpPr>
          <p:spPr>
            <a:xfrm>
              <a:off x="-4284720" y="3990960"/>
              <a:ext cx="18288000" cy="4410360"/>
            </a:xfrm>
            <a:custGeom>
              <a:avLst/>
              <a:gdLst>
                <a:gd name="textAreaLeft" fmla="*/ 0 w 18288000"/>
                <a:gd name="textAreaRight" fmla="*/ 18288360 w 18288000"/>
                <a:gd name="textAreaTop" fmla="*/ 0 h 4410360"/>
                <a:gd name="textAreaBottom" fmla="*/ 4410720 h 441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461" y="10800"/>
                  </a:moveTo>
                  <a:arcTo wR="-9339" hR="-9339" stAng="-10800000" swAng="-10800000"/>
                  <a:lnTo>
                    <a:pt x="0" y="10800"/>
                  </a:lnTo>
                  <a:arcTo wR="10800" hR="10800" stAng="10800000" swAng="10800000"/>
                  <a:lnTo>
                    <a:pt x="24300" y="10800"/>
                  </a:lnTo>
                  <a:lnTo>
                    <a:pt x="20870" y="14231"/>
                  </a:lnTo>
                  <a:lnTo>
                    <a:pt x="17439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-3881160" y="4285440"/>
              <a:ext cx="17087760" cy="3824640"/>
            </a:xfrm>
            <a:custGeom>
              <a:avLst/>
              <a:gdLst>
                <a:gd name="textAreaLeft" fmla="*/ 0 w 17087760"/>
                <a:gd name="textAreaRight" fmla="*/ 17088120 w 17087760"/>
                <a:gd name="textAreaTop" fmla="*/ 0 h 3824640"/>
                <a:gd name="textAreaBottom" fmla="*/ 3825000 h 3824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461" y="10800"/>
                  </a:moveTo>
                  <a:arcTo wR="-9339" hR="-9339" stAng="-10800000" swAng="-10800000"/>
                  <a:lnTo>
                    <a:pt x="0" y="10800"/>
                  </a:lnTo>
                  <a:arcTo wR="10800" hR="10800" stAng="10800000" swAng="10800000"/>
                  <a:lnTo>
                    <a:pt x="24300" y="10800"/>
                  </a:lnTo>
                  <a:lnTo>
                    <a:pt x="20870" y="14231"/>
                  </a:lnTo>
                  <a:lnTo>
                    <a:pt x="17439" y="1080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-3487680" y="4577400"/>
              <a:ext cx="16298640" cy="3970440"/>
            </a:xfrm>
            <a:custGeom>
              <a:avLst/>
              <a:gdLst>
                <a:gd name="textAreaLeft" fmla="*/ 0 w 16298640"/>
                <a:gd name="textAreaRight" fmla="*/ 16299000 w 16298640"/>
                <a:gd name="textAreaTop" fmla="*/ 0 h 3970440"/>
                <a:gd name="textAreaBottom" fmla="*/ 3970800 h 397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461" y="10800"/>
                  </a:moveTo>
                  <a:arcTo wR="-9339" hR="-9339" stAng="-10800000" swAng="-10800000"/>
                  <a:lnTo>
                    <a:pt x="0" y="10800"/>
                  </a:lnTo>
                  <a:arcTo wR="10800" hR="10800" stAng="10800000" swAng="10800000"/>
                  <a:lnTo>
                    <a:pt x="24300" y="10800"/>
                  </a:lnTo>
                  <a:lnTo>
                    <a:pt x="20870" y="14231"/>
                  </a:lnTo>
                  <a:lnTo>
                    <a:pt x="17439" y="10800"/>
                  </a:ln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-3084120" y="4871880"/>
              <a:ext cx="15098400" cy="3970440"/>
            </a:xfrm>
            <a:custGeom>
              <a:avLst/>
              <a:gdLst>
                <a:gd name="textAreaLeft" fmla="*/ 0 w 15098400"/>
                <a:gd name="textAreaRight" fmla="*/ 15098760 w 15098400"/>
                <a:gd name="textAreaTop" fmla="*/ 0 h 3970440"/>
                <a:gd name="textAreaBottom" fmla="*/ 3970800 h 397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461" y="10800"/>
                  </a:moveTo>
                  <a:arcTo wR="-9339" hR="-9339" stAng="-10800000" swAng="-10800000"/>
                  <a:lnTo>
                    <a:pt x="0" y="10800"/>
                  </a:lnTo>
                  <a:arcTo wR="10800" hR="10800" stAng="10800000" swAng="10800000"/>
                  <a:lnTo>
                    <a:pt x="24300" y="10800"/>
                  </a:lnTo>
                  <a:lnTo>
                    <a:pt x="20870" y="14231"/>
                  </a:lnTo>
                  <a:lnTo>
                    <a:pt x="17439" y="10800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-2690640" y="5166720"/>
              <a:ext cx="14301720" cy="3970440"/>
            </a:xfrm>
            <a:custGeom>
              <a:avLst/>
              <a:gdLst>
                <a:gd name="textAreaLeft" fmla="*/ 0 w 14301720"/>
                <a:gd name="textAreaRight" fmla="*/ 14302080 w 14301720"/>
                <a:gd name="textAreaTop" fmla="*/ 0 h 3970440"/>
                <a:gd name="textAreaBottom" fmla="*/ 3970800 h 397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461" y="10800"/>
                  </a:moveTo>
                  <a:arcTo wR="-9339" hR="-9339" stAng="-10800000" swAng="-10800000"/>
                  <a:lnTo>
                    <a:pt x="0" y="10800"/>
                  </a:lnTo>
                  <a:arcTo wR="10800" hR="10800" stAng="10800000" swAng="10800000"/>
                  <a:lnTo>
                    <a:pt x="24300" y="10800"/>
                  </a:lnTo>
                  <a:lnTo>
                    <a:pt x="20870" y="14231"/>
                  </a:lnTo>
                  <a:lnTo>
                    <a:pt x="17439" y="10800"/>
                  </a:lnTo>
                  <a:close/>
                </a:path>
              </a:pathLst>
            </a:custGeom>
            <a:solidFill>
              <a:srgbClr val="33ccff"/>
            </a:solidFill>
            <a:ln w="936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-2295360" y="5458680"/>
              <a:ext cx="13512600" cy="3970440"/>
            </a:xfrm>
            <a:custGeom>
              <a:avLst/>
              <a:gdLst>
                <a:gd name="textAreaLeft" fmla="*/ 0 w 13512600"/>
                <a:gd name="textAreaRight" fmla="*/ 13512960 w 13512600"/>
                <a:gd name="textAreaTop" fmla="*/ 0 h 3970440"/>
                <a:gd name="textAreaBottom" fmla="*/ 3970800 h 397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461" y="10800"/>
                  </a:moveTo>
                  <a:arcTo wR="-9339" hR="-9339" stAng="-10800000" swAng="-10800000"/>
                  <a:lnTo>
                    <a:pt x="0" y="10800"/>
                  </a:lnTo>
                  <a:arcTo wR="10800" hR="10800" stAng="10800000" swAng="10800000"/>
                  <a:lnTo>
                    <a:pt x="24300" y="10800"/>
                  </a:lnTo>
                  <a:lnTo>
                    <a:pt x="20870" y="14231"/>
                  </a:lnTo>
                  <a:lnTo>
                    <a:pt x="17439" y="10800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-2295360" y="5753880"/>
              <a:ext cx="13512600" cy="3970440"/>
            </a:xfrm>
            <a:custGeom>
              <a:avLst/>
              <a:gdLst>
                <a:gd name="textAreaLeft" fmla="*/ 0 w 13512600"/>
                <a:gd name="textAreaRight" fmla="*/ 13512960 w 13512600"/>
                <a:gd name="textAreaTop" fmla="*/ 0 h 3970440"/>
                <a:gd name="textAreaBottom" fmla="*/ 3970800 h 397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461" y="10800"/>
                  </a:moveTo>
                  <a:arcTo wR="-9339" hR="-9339" stAng="-10800000" swAng="-10800000"/>
                  <a:lnTo>
                    <a:pt x="0" y="10800"/>
                  </a:lnTo>
                  <a:arcTo wR="10800" hR="10800" stAng="10800000" swAng="10800000"/>
                  <a:lnTo>
                    <a:pt x="24300" y="10800"/>
                  </a:lnTo>
                  <a:lnTo>
                    <a:pt x="20870" y="14231"/>
                  </a:lnTo>
                  <a:lnTo>
                    <a:pt x="17439" y="10800"/>
                  </a:lnTo>
                  <a:close/>
                </a:path>
              </a:pathLst>
            </a:custGeom>
            <a:solidFill>
              <a:srgbClr val="9933ff"/>
            </a:solidFill>
            <a:ln w="9360">
              <a:solidFill>
                <a:srgbClr val="99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6T12:35:27Z</dcterms:created>
  <dc:creator>Customer</dc:creator>
  <dc:description/>
  <dc:language>en-US</dc:language>
  <cp:lastModifiedBy>Admin</cp:lastModifiedBy>
  <dcterms:modified xsi:type="dcterms:W3CDTF">2012-01-29T19:27:57Z</dcterms:modified>
  <cp:revision>7</cp:revision>
  <dc:subject/>
  <dc:title>Слайд 1</dc:title>
</cp:coreProperties>
</file>