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9.gif" ContentType="image/gif"/>
  <Override PartName="/ppt/media/image8.gif" ContentType="image/gif"/>
  <Override PartName="/ppt/media/image18.jpeg" ContentType="image/jpeg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3.jpeg" ContentType="image/jpeg"/>
  <Override PartName="/ppt/media/chimes.wav" ContentType="audio/x-wav"/>
  <Override PartName="/ppt/media/image21.gif" ContentType="image/gif"/>
  <Override PartName="/ppt/media/image2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.png" ContentType="image/png"/>
  <Override PartName="/ppt/media/image1.gif" ContentType="image/gif"/>
  <Override PartName="/ppt/media/image17.gif" ContentType="image/gif"/>
  <Override PartName="/ppt/media/image16.gif" ContentType="image/gif"/>
  <Override PartName="/ppt/media/image14.jpeg" ContentType="image/jpeg"/>
  <Override PartName="/ppt/media/image5.png" ContentType="image/png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C68E-882B-4AD1-9ECC-D0277B71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446D-1C87-43E2-A104-973B221B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F0C6-393F-49C8-B507-183983B38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AB76-C1AB-41A0-B879-BD61F8DB8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0069-57F6-42C5-B19C-1BE4AACC0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B193-5F9F-46E0-A726-BB1ACE87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0B6C-9EF0-483E-8B5B-86384B0F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C63B-64E4-46AC-8D01-A6C3FABE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73FA-413D-44E6-B878-23387B3C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43E5-680F-4C0A-860A-99B5CCB5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1BC0-E8C3-4061-B549-F767E151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BAE8-9F03-4A01-AB6E-F01CC098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3994-6928-4DFF-9B6D-424D244F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D3D8-01D0-4EAF-92A0-C8B14EAA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1DB0D-94A5-4DB8-A3F2-2DDB2143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674C-7201-4956-8BA8-5740E76E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9485-9AAF-4C7E-A83B-5C7EEB235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5552-D30A-4B9A-B1A9-DF27E392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392C-A469-4D55-ADFC-094D1CEA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E0EF-0377-4AED-BBDE-54838CB7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06F9-BB71-40FA-AADC-9BFD9D67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C353-5E4E-4A5F-8531-95A48EDB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B6ED-74FD-48B7-98D0-1B81B2A3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9008-F765-4BD5-8AC9-71AFE43B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A7A7-8D08-4B6B-986E-07191DF6E20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ccff99"/>
                </a:gs>
                <a:gs pos="50000">
                  <a:srgbClr val="009900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ccff99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effbf0"/>
                </a:gs>
                <a:gs pos="100000">
                  <a:srgbClr val="cc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FB42-733C-4B29-AAA9-FD5D12A8A27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9.gif"/><Relationship Id="rId12" Type="http://schemas.openxmlformats.org/officeDocument/2006/relationships/image" Target="../media/image10.gif"/><Relationship Id="rId13" Type="http://schemas.openxmlformats.org/officeDocument/2006/relationships/image" Target="../media/image11.gif"/><Relationship Id="rId14" Type="http://schemas.openxmlformats.org/officeDocument/2006/relationships/image" Target="../media/image6.gif"/><Relationship Id="rId15" Type="http://schemas.openxmlformats.org/officeDocument/2006/relationships/image" Target="../media/image6.gif"/><Relationship Id="rId16" Type="http://schemas.openxmlformats.org/officeDocument/2006/relationships/image" Target="../media/image12.gif"/><Relationship Id="rId17" Type="http://schemas.openxmlformats.org/officeDocument/2006/relationships/image" Target="../media/image9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9.gif"/><Relationship Id="rId21" Type="http://schemas.openxmlformats.org/officeDocument/2006/relationships/image" Target="../media/image9.gif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431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ahoma"/>
              </a:rPr>
              <a:t>Вперёд  к  знаниям!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10" name="Picture 7" descr="Крокодил "/>
          <p:cNvPicPr/>
          <p:nvPr/>
        </p:nvPicPr>
        <p:blipFill>
          <a:blip r:embed="rId1"/>
          <a:stretch/>
        </p:blipFill>
        <p:spPr>
          <a:xfrm>
            <a:off x="7740720" y="4724280"/>
            <a:ext cx="1114200" cy="971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Крокодил "/>
          <p:cNvPicPr/>
          <p:nvPr/>
        </p:nvPicPr>
        <p:blipFill>
          <a:blip r:embed="rId2"/>
          <a:stretch/>
        </p:blipFill>
        <p:spPr>
          <a:xfrm>
            <a:off x="6012000" y="3716280"/>
            <a:ext cx="1751040" cy="1527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7" descr="Крокодил "/>
          <p:cNvPicPr/>
          <p:nvPr/>
        </p:nvPicPr>
        <p:blipFill>
          <a:blip r:embed="rId3"/>
          <a:stretch/>
        </p:blipFill>
        <p:spPr>
          <a:xfrm>
            <a:off x="4211640" y="2924280"/>
            <a:ext cx="2087640" cy="1819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Шары-screen56 "/>
          <p:cNvPicPr/>
          <p:nvPr/>
        </p:nvPicPr>
        <p:blipFill>
          <a:blip r:embed="rId4"/>
          <a:stretch/>
        </p:blipFill>
        <p:spPr>
          <a:xfrm>
            <a:off x="0" y="1700280"/>
            <a:ext cx="4124160" cy="5157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Резинка и карандаш"/>
          <p:cNvPicPr/>
          <p:nvPr/>
        </p:nvPicPr>
        <p:blipFill>
          <a:blip r:embed="rId5"/>
          <a:stretch/>
        </p:blipFill>
        <p:spPr>
          <a:xfrm>
            <a:off x="1258920" y="6149880"/>
            <a:ext cx="1751040" cy="708120"/>
          </a:xfrm>
          <a:prstGeom prst="rect">
            <a:avLst/>
          </a:prstGeom>
          <a:ln w="0">
            <a:noFill/>
          </a:ln>
        </p:spPr>
      </p:pic>
      <p:pic>
        <p:nvPicPr>
          <p:cNvPr id="115" name="125_Когда мои друзья со мной.mp3" descr=""/>
          <p:cNvPicPr/>
          <p:nvPr/>
        </p:nvPicPr>
        <p:blipFill>
          <a:blip r:embed="rId6"/>
          <a:stretch/>
        </p:blipFill>
        <p:spPr>
          <a:xfrm>
            <a:off x="539640" y="1197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5438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ahoma"/>
              </a:rPr>
              <a:t>Источники информации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Т.В. Жильцова, Л.А.Обухова «Поурочные разработки по наглядной геометрии: 1-4 класс» - Москва «ВАКО», 2004. – 288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»Занимательная геометрия: Пропись-раскраска./Сост. О.Н.Левик. – Краснодар: издательства «Флер», «Свет», 199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0" y="4941720"/>
            <a:ext cx="9144000" cy="1764000"/>
            <a:chOff x="0" y="4941720"/>
            <a:chExt cx="9144000" cy="1764000"/>
          </a:xfrm>
        </p:grpSpPr>
        <p:sp>
          <p:nvSpPr>
            <p:cNvPr id="196" name=""/>
            <p:cNvSpPr/>
            <p:nvPr/>
          </p:nvSpPr>
          <p:spPr>
            <a:xfrm>
              <a:off x="1979640" y="5661000"/>
              <a:ext cx="914400" cy="9144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43280" y="5373720"/>
              <a:ext cx="1214280" cy="1214280"/>
            </a:xfrm>
            <a:prstGeom prst="cube">
              <a:avLst>
                <a:gd name="adj" fmla="val 25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67280" y="5300640"/>
              <a:ext cx="914400" cy="1214640"/>
            </a:xfrm>
            <a:prstGeom prst="can">
              <a:avLst>
                <a:gd name="adj" fmla="val 25000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11640" y="4941720"/>
              <a:ext cx="647640" cy="6256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5003640" y="5445000"/>
              <a:ext cx="1214640" cy="1214640"/>
            </a:xfrm>
            <a:prstGeom prst="cube">
              <a:avLst>
                <a:gd name="adj" fmla="val 25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27640" y="5734080"/>
              <a:ext cx="914400" cy="9144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64360" y="5734080"/>
              <a:ext cx="1979640" cy="971640"/>
            </a:xfrm>
            <a:prstGeom prst="beve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5661000"/>
              <a:ext cx="2014560" cy="971640"/>
            </a:xfrm>
            <a:prstGeom prst="beve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5"/>
          <p:cNvSpPr txBox="1"/>
          <p:nvPr/>
        </p:nvSpPr>
        <p:spPr>
          <a:xfrm>
            <a:off x="755640" y="-603360"/>
            <a:ext cx="720108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утешествие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 удивительный мир геометрии.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7" name="Picture 7" descr="Пентроуз"/>
          <p:cNvPicPr/>
          <p:nvPr/>
        </p:nvPicPr>
        <p:blipFill>
          <a:blip r:embed="rId6"/>
          <a:stretch/>
        </p:blipFill>
        <p:spPr>
          <a:xfrm>
            <a:off x="2533680" y="2666880"/>
            <a:ext cx="762120" cy="609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7" descr="аним_зиг-заг"/>
          <p:cNvPicPr/>
          <p:nvPr/>
        </p:nvPicPr>
        <p:blipFill>
          <a:blip r:embed="rId7"/>
          <a:stretch/>
        </p:blipFill>
        <p:spPr>
          <a:xfrm>
            <a:off x="5435640" y="2565360"/>
            <a:ext cx="838080" cy="542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0" descr="Рисунок234"/>
          <p:cNvPicPr/>
          <p:nvPr/>
        </p:nvPicPr>
        <p:blipFill>
          <a:blip r:embed="rId8"/>
          <a:stretch/>
        </p:blipFill>
        <p:spPr>
          <a:xfrm>
            <a:off x="7093080" y="4941720"/>
            <a:ext cx="1908000" cy="1703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6" descr="Пентроуз"/>
          <p:cNvPicPr/>
          <p:nvPr/>
        </p:nvPicPr>
        <p:blipFill>
          <a:blip r:embed="rId9"/>
          <a:stretch/>
        </p:blipFill>
        <p:spPr>
          <a:xfrm>
            <a:off x="7236000" y="2997360"/>
            <a:ext cx="761760" cy="609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9" descr="Пентроуз"/>
          <p:cNvPicPr/>
          <p:nvPr/>
        </p:nvPicPr>
        <p:blipFill>
          <a:blip r:embed="rId10"/>
          <a:stretch/>
        </p:blipFill>
        <p:spPr>
          <a:xfrm>
            <a:off x="755640" y="2492280"/>
            <a:ext cx="762120" cy="609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Пирамида"/>
          <p:cNvPicPr/>
          <p:nvPr/>
        </p:nvPicPr>
        <p:blipFill>
          <a:blip r:embed="rId11"/>
          <a:stretch/>
        </p:blipFill>
        <p:spPr>
          <a:xfrm>
            <a:off x="7959600" y="260280"/>
            <a:ext cx="1184400" cy="781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Спираль"/>
          <p:cNvPicPr/>
          <p:nvPr/>
        </p:nvPicPr>
        <p:blipFill>
          <a:blip r:embed="rId12"/>
          <a:stretch/>
        </p:blipFill>
        <p:spPr>
          <a:xfrm>
            <a:off x="0" y="0"/>
            <a:ext cx="1619280" cy="1266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3" descr="Шарики прыгающие"/>
          <p:cNvPicPr/>
          <p:nvPr/>
        </p:nvPicPr>
        <p:blipFill>
          <a:blip r:embed="rId13"/>
          <a:stretch/>
        </p:blipFill>
        <p:spPr>
          <a:xfrm rot="5400000">
            <a:off x="2641320" y="2406240"/>
            <a:ext cx="3141720" cy="5761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2" descr="Пентроуз"/>
          <p:cNvPicPr/>
          <p:nvPr/>
        </p:nvPicPr>
        <p:blipFill>
          <a:blip r:embed="rId14"/>
          <a:stretch/>
        </p:blipFill>
        <p:spPr>
          <a:xfrm>
            <a:off x="8172360" y="2781360"/>
            <a:ext cx="762120" cy="609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5" descr="Пентроуз"/>
          <p:cNvPicPr/>
          <p:nvPr/>
        </p:nvPicPr>
        <p:blipFill>
          <a:blip r:embed="rId15"/>
          <a:stretch/>
        </p:blipFill>
        <p:spPr>
          <a:xfrm>
            <a:off x="7380360" y="2060640"/>
            <a:ext cx="761760" cy="609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6" descr="go_back"/>
          <p:cNvPicPr/>
          <p:nvPr/>
        </p:nvPicPr>
        <p:blipFill>
          <a:blip r:embed="rId16"/>
          <a:stretch/>
        </p:blipFill>
        <p:spPr>
          <a:xfrm>
            <a:off x="6443640" y="260280"/>
            <a:ext cx="900000" cy="1079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6" descr="Пирамида"/>
          <p:cNvPicPr/>
          <p:nvPr/>
        </p:nvPicPr>
        <p:blipFill>
          <a:blip r:embed="rId17"/>
          <a:stretch/>
        </p:blipFill>
        <p:spPr>
          <a:xfrm>
            <a:off x="0" y="3213000"/>
            <a:ext cx="1184400" cy="781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7" descr="Пирамида"/>
          <p:cNvPicPr/>
          <p:nvPr/>
        </p:nvPicPr>
        <p:blipFill>
          <a:blip r:embed="rId18"/>
          <a:stretch/>
        </p:blipFill>
        <p:spPr>
          <a:xfrm>
            <a:off x="0" y="3645000"/>
            <a:ext cx="1182600" cy="780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8" descr="Пирамида"/>
          <p:cNvPicPr/>
          <p:nvPr/>
        </p:nvPicPr>
        <p:blipFill>
          <a:blip r:embed="rId19"/>
          <a:stretch/>
        </p:blipFill>
        <p:spPr>
          <a:xfrm>
            <a:off x="7308720" y="260280"/>
            <a:ext cx="1184400" cy="781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9" descr="Пирамида"/>
          <p:cNvPicPr/>
          <p:nvPr/>
        </p:nvPicPr>
        <p:blipFill>
          <a:blip r:embed="rId20"/>
          <a:stretch/>
        </p:blipFill>
        <p:spPr>
          <a:xfrm>
            <a:off x="0" y="4076640"/>
            <a:ext cx="1184400" cy="781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0" descr="Пирамида"/>
          <p:cNvPicPr/>
          <p:nvPr/>
        </p:nvPicPr>
        <p:blipFill>
          <a:blip r:embed="rId21"/>
          <a:stretch/>
        </p:blipFill>
        <p:spPr>
          <a:xfrm>
            <a:off x="0" y="4508640"/>
            <a:ext cx="1184400" cy="780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250560" y="6165360"/>
            <a:ext cx="88920" cy="4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1500" autoRev="1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animClr clrSpc="rgb">
                                      <p:cBhvr>
                                        <p:cTn id="19" dur="1500" autoRev="1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20" dur="1500" autoRev="1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0920" y="304920"/>
            <a:ext cx="8281800" cy="110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ahoma"/>
              </a:rPr>
              <a:t>Давайте знакомиться!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35" name="Picture 7" descr="Геометрия - РЕЗИНОЧКА0001"/>
          <p:cNvPicPr/>
          <p:nvPr/>
        </p:nvPicPr>
        <p:blipFill>
          <a:blip r:embed="rId1"/>
          <a:srcRect l="20397" t="0" r="16540" b="0"/>
          <a:stretch/>
        </p:blipFill>
        <p:spPr>
          <a:xfrm>
            <a:off x="250920" y="1557360"/>
            <a:ext cx="2881080" cy="460836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136" name="Picture 8" descr="ГЕОМЕТРИЯ - Ластик0001"/>
          <p:cNvPicPr/>
          <p:nvPr/>
        </p:nvPicPr>
        <p:blipFill>
          <a:blip r:embed="rId2"/>
          <a:srcRect l="1850" t="0" r="6919" b="0"/>
          <a:stretch/>
        </p:blipFill>
        <p:spPr>
          <a:xfrm>
            <a:off x="5543640" y="1557360"/>
            <a:ext cx="3600360" cy="446400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sp>
        <p:nvSpPr>
          <p:cNvPr id="137" name="Rectangle 9"/>
          <p:cNvSpPr/>
          <p:nvPr/>
        </p:nvSpPr>
        <p:spPr>
          <a:xfrm>
            <a:off x="1080" y="6164640"/>
            <a:ext cx="41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ahoma"/>
              </a:rPr>
              <a:t>Меня зовут – Резиноч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10"/>
          <p:cNvSpPr/>
          <p:nvPr/>
        </p:nvSpPr>
        <p:spPr>
          <a:xfrm>
            <a:off x="5598360" y="6164640"/>
            <a:ext cx="32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Я – Учёный Ласти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3059280" y="1557360"/>
            <a:ext cx="2592360" cy="4608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М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поможем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теб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путешествова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п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чудесной  стран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- ГЕОМЕТР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ff99"/>
                                      </p:to>
                                    </p:animClr>
                                    <p:set>
                                      <p:cBhvr>
                                        <p:cTn id="110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000" y="304560"/>
            <a:ext cx="7926120" cy="132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Что такое ГЕОМЕТРИЯ?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41" name="Picture 6" descr="ГЕОМЕТРИЯ - Ластик и Резиночка0001"/>
          <p:cNvPicPr/>
          <p:nvPr/>
        </p:nvPicPr>
        <p:blipFill>
          <a:blip r:embed="rId1"/>
          <a:stretch/>
        </p:blipFill>
        <p:spPr>
          <a:xfrm>
            <a:off x="684360" y="1717560"/>
            <a:ext cx="7991280" cy="514044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543800" cy="1431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В переводе с греческого </a:t>
            </a:r>
            <a:br>
              <a:rPr sz="3600"/>
            </a:b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это слово означает «землемерие»</a:t>
            </a:r>
            <a:endParaRPr b="1" lang="en-US" sz="36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43" name="Picture 6" descr="ГЕОМЕТРИЯ - Ластик и Резиночка0001"/>
          <p:cNvPicPr/>
          <p:nvPr/>
        </p:nvPicPr>
        <p:blipFill>
          <a:blip r:embed="rId1"/>
          <a:stretch/>
        </p:blipFill>
        <p:spPr>
          <a:xfrm>
            <a:off x="2050920" y="1628640"/>
            <a:ext cx="5569200" cy="358308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144" name="Picture 7" descr="Земной шар"/>
          <p:cNvPicPr/>
          <p:nvPr/>
        </p:nvPicPr>
        <p:blipFill>
          <a:blip r:embed="rId2"/>
          <a:stretch/>
        </p:blipFill>
        <p:spPr>
          <a:xfrm>
            <a:off x="1187280" y="530064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zem"/>
          <p:cNvPicPr/>
          <p:nvPr/>
        </p:nvPicPr>
        <p:blipFill>
          <a:blip r:embed="rId3"/>
          <a:stretch/>
        </p:blipFill>
        <p:spPr>
          <a:xfrm>
            <a:off x="6156360" y="4915080"/>
            <a:ext cx="1942920" cy="19429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1"/>
          <p:cNvSpPr/>
          <p:nvPr/>
        </p:nvSpPr>
        <p:spPr>
          <a:xfrm>
            <a:off x="324000" y="4796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«гео» - земля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4643280" y="479664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ahoma"/>
              </a:rPr>
              <a:t>«метрио» - измеря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3214440" y="5630040"/>
            <a:ext cx="11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ГЕО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4284720" y="5630040"/>
            <a:ext cx="21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МЕТР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15"/>
          <p:cNvSpPr/>
          <p:nvPr/>
        </p:nvSpPr>
        <p:spPr>
          <a:xfrm>
            <a:off x="6156360" y="562392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6227640" y="566028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ff99"/>
                                      </p:to>
                                    </p:animClr>
                                    <p:set>
                                      <p:cBhvr>
                                        <p:cTn id="117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3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5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7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99"/>
                                      </p:to>
                                    </p:animClr>
                                    <p:set>
                                      <p:cBhvr>
                                        <p:cTn id="152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99"/>
                                      </p:to>
                                    </p:animClr>
                                    <p:set>
                                      <p:cBhvr>
                                        <p:cTn id="18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99"/>
                                      </p:to>
                                    </p:animClr>
                                    <p:set>
                                      <p:cBhvr>
                                        <p:cTn id="18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99"/>
                                      </p:to>
                                    </p:animClr>
                                    <p:set>
                                      <p:cBhvr>
                                        <p:cTn id="19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99"/>
                                      </p:to>
                                    </p:animClr>
                                    <p:animClr clrSpc="rgb">
                                      <p:cBhvr>
                                        <p:cTn id="2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99"/>
                                      </p:to>
                                    </p:animClr>
                                    <p:set>
                                      <p:cBhvr>
                                        <p:cTn id="207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0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209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99"/>
                                      </p:to>
                                    </p:animClr>
                                    <p:animClr clrSpc="rgb">
                                      <p:cBhvr>
                                        <p:cTn id="21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99"/>
                                      </p:to>
                                    </p:animClr>
                                    <p:set>
                                      <p:cBhvr>
                                        <p:cTn id="212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214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99"/>
                                      </p:to>
                                    </p:animClr>
                                    <p:animClr clrSpc="rgb">
                                      <p:cBhvr>
                                        <p:cTn id="21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99"/>
                                      </p:to>
                                    </p:animClr>
                                    <p:set>
                                      <p:cBhvr>
                                        <p:cTn id="217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99"/>
                                      </p:to>
                                    </p:animClr>
                                    <p:animClr clrSpc="rgb">
                                      <p:cBhvr>
                                        <p:cTn id="22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99"/>
                                      </p:to>
                                    </p:animClr>
                                    <p:set>
                                      <p:cBhvr>
                                        <p:cTn id="224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2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226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99"/>
                                      </p:to>
                                    </p:animClr>
                                    <p:animClr clrSpc="rgb">
                                      <p:cBhvr>
                                        <p:cTn id="22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99"/>
                                      </p:to>
                                    </p:animClr>
                                    <p:set>
                                      <p:cBhvr>
                                        <p:cTn id="229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3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231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99"/>
                                      </p:to>
                                    </p:animClr>
                                    <p:animClr clrSpc="rgb">
                                      <p:cBhvr>
                                        <p:cTn id="23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99"/>
                                      </p:to>
                                    </p:animClr>
                                    <p:set>
                                      <p:cBhvr>
                                        <p:cTn id="234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3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ff99"/>
                                      </p:to>
                                    </p:animClr>
                                    <p:set>
                                      <p:cBhvr>
                                        <p:cTn id="240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5" descr="ГЕОМЕТРИЯ - ножницы0001"/>
          <p:cNvPicPr/>
          <p:nvPr/>
        </p:nvPicPr>
        <p:blipFill>
          <a:blip r:embed="rId1"/>
          <a:stretch/>
        </p:blipFill>
        <p:spPr>
          <a:xfrm>
            <a:off x="3059280" y="5570640"/>
            <a:ext cx="1076040" cy="128736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16"/>
          <p:cNvSpPr/>
          <p:nvPr/>
        </p:nvSpPr>
        <p:spPr>
          <a:xfrm>
            <a:off x="7093080" y="4076640"/>
            <a:ext cx="1346040" cy="1130400"/>
          </a:xfrm>
          <a:prstGeom prst="rtTriangl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14" descr="ГЕОМЕТРИЯ - Циркуль0001"/>
          <p:cNvPicPr/>
          <p:nvPr/>
        </p:nvPicPr>
        <p:blipFill>
          <a:blip r:embed="rId2"/>
          <a:srcRect l="30231" t="26444" r="20347" b="20279"/>
          <a:stretch/>
        </p:blipFill>
        <p:spPr>
          <a:xfrm>
            <a:off x="1979640" y="4221000"/>
            <a:ext cx="745920" cy="1109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ГЕОМЕТРИЯ - Линейка0001"/>
          <p:cNvPicPr/>
          <p:nvPr/>
        </p:nvPicPr>
        <p:blipFill>
          <a:blip r:embed="rId3"/>
          <a:srcRect l="937" t="8877" r="0" b="0"/>
          <a:stretch/>
        </p:blipFill>
        <p:spPr>
          <a:xfrm>
            <a:off x="4317840" y="2421000"/>
            <a:ext cx="4826160" cy="936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Карандаш "/>
          <p:cNvPicPr/>
          <p:nvPr/>
        </p:nvPicPr>
        <p:blipFill>
          <a:blip r:embed="rId4"/>
          <a:stretch/>
        </p:blipFill>
        <p:spPr>
          <a:xfrm>
            <a:off x="1042920" y="1739880"/>
            <a:ext cx="3097440" cy="22510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111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66"/>
                </a:solidFill>
                <a:latin typeface="Tahoma"/>
              </a:rPr>
              <a:t>Знакомство</a:t>
            </a:r>
            <a:br>
              <a:rPr sz="4000"/>
            </a:br>
            <a:r>
              <a:rPr b="0" lang="en-US" sz="4000" spc="-1" strike="noStrike">
                <a:solidFill>
                  <a:srgbClr val="339966"/>
                </a:solidFill>
                <a:latin typeface="Tahoma"/>
              </a:rPr>
              <a:t> с геометрическими инструментами</a:t>
            </a:r>
            <a:endParaRPr b="1" lang="en-US" sz="40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24000" y="1628280"/>
            <a:ext cx="4032000" cy="2333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 Палочка волшебна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Есть у меня, друзь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алочкою это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огу построить я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Башню, дом и самолет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 большущий пароход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4140360" y="1628640"/>
            <a:ext cx="5003640" cy="2333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. В тетради я быва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Косая и пряма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В другом совсем значен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Я планка для черч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, наконец, поро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В шеренгу вас построю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395280" y="4076640"/>
            <a:ext cx="4032360" cy="12956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. Сговорились две ног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Делать дуги и круги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4859280" y="3933720"/>
            <a:ext cx="4284720" cy="180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. Три вершины, три угла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Три сторонки - вот и я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2124000" y="5373720"/>
            <a:ext cx="4032360" cy="1484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. Два конца, два кольца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осредине гвоздик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vert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0"/>
          <p:cNvSpPr/>
          <p:nvPr/>
        </p:nvSpPr>
        <p:spPr>
          <a:xfrm>
            <a:off x="5076720" y="4158360"/>
            <a:ext cx="316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ahoma"/>
              </a:rPr>
              <a:t>Ластик и резиночк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6877080" cy="1432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Все  запомнил инструменты?</a:t>
            </a:r>
            <a:r>
              <a:rPr b="1" lang="en-US" sz="4400" spc="-1" strike="noStrike">
                <a:solidFill>
                  <a:srgbClr val="0033cc"/>
                </a:solidFill>
                <a:latin typeface="Tahoma"/>
              </a:rPr>
              <a:t> Повтори!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65" name="Picture 4" descr="ГЕОМЕТРИЯ - Ластик0001"/>
          <p:cNvPicPr/>
          <p:nvPr/>
        </p:nvPicPr>
        <p:blipFill>
          <a:blip r:embed="rId1"/>
          <a:stretch/>
        </p:blipFill>
        <p:spPr>
          <a:xfrm>
            <a:off x="6907320" y="0"/>
            <a:ext cx="2236680" cy="25304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7"/>
          <p:cNvSpPr/>
          <p:nvPr/>
        </p:nvSpPr>
        <p:spPr>
          <a:xfrm>
            <a:off x="1174320" y="2109240"/>
            <a:ext cx="292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Карандаш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1301400" y="3212280"/>
            <a:ext cx="254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Линейк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1232280" y="4365000"/>
            <a:ext cx="250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Tahoma"/>
              </a:rPr>
              <a:t>Циркул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1319040" y="5444280"/>
            <a:ext cx="359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ff"/>
                </a:solidFill>
                <a:latin typeface="Tahoma"/>
              </a:rPr>
              <a:t>Треугольник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4980240" y="306792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Ножниц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5364000" y="4229640"/>
            <a:ext cx="13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ahoma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16" descr="ГЕОМЕТРИЯ - ластик и ножницы00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3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99"/>
                                      </p:to>
                                    </p:animClr>
                                    <p:set>
                                      <p:cBhvr>
                                        <p:cTn id="311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ff99"/>
                                      </p:to>
                                    </p:animClr>
                                    <p:set>
                                      <p:cBhvr>
                                        <p:cTn id="326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ff99"/>
                                      </p:to>
                                    </p:animClr>
                                    <p:set>
                                      <p:cBhvr>
                                        <p:cTn id="33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0" y="4941720"/>
            <a:ext cx="9144000" cy="1764000"/>
            <a:chOff x="0" y="4941720"/>
            <a:chExt cx="9144000" cy="1764000"/>
          </a:xfrm>
        </p:grpSpPr>
        <p:sp>
          <p:nvSpPr>
            <p:cNvPr id="174" name=""/>
            <p:cNvSpPr/>
            <p:nvPr/>
          </p:nvSpPr>
          <p:spPr>
            <a:xfrm>
              <a:off x="1979640" y="5661000"/>
              <a:ext cx="914400" cy="9144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43280" y="5373720"/>
              <a:ext cx="1214280" cy="1214280"/>
            </a:xfrm>
            <a:prstGeom prst="cube">
              <a:avLst>
                <a:gd name="adj" fmla="val 25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67280" y="5300640"/>
              <a:ext cx="914400" cy="1214640"/>
            </a:xfrm>
            <a:prstGeom prst="can">
              <a:avLst>
                <a:gd name="adj" fmla="val 25000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11640" y="4941720"/>
              <a:ext cx="647640" cy="6256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5003640" y="5445000"/>
              <a:ext cx="1214640" cy="1214640"/>
            </a:xfrm>
            <a:prstGeom prst="cube">
              <a:avLst>
                <a:gd name="adj" fmla="val 25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27640" y="5734080"/>
              <a:ext cx="914400" cy="9144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164360" y="5734080"/>
              <a:ext cx="1979640" cy="971640"/>
            </a:xfrm>
            <a:prstGeom prst="beve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5661000"/>
              <a:ext cx="2014560" cy="971640"/>
            </a:xfrm>
            <a:prstGeom prst="beve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2" name=""/>
          <p:cNvSpPr txBox="1"/>
          <p:nvPr/>
        </p:nvSpPr>
        <p:spPr>
          <a:xfrm>
            <a:off x="539640" y="2205000"/>
            <a:ext cx="7704360" cy="14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Спасибо  за  внимание.</a:t>
            </a:r>
            <a:endParaRPr b="1" lang="en-US" sz="1800" spc="1" strike="noStrike">
              <a:ln w="38160">
                <a:solidFill>
                  <a:srgbClr val="ccffcc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785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зентацию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Путешестви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удивительный мир геометрии»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готовила Пономарева Ольга Ивановна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итель начальных классов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У «Кардымовская средняя школа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моленская обла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рдымовский райо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0" y="4941720"/>
            <a:ext cx="9144000" cy="1764000"/>
            <a:chOff x="0" y="4941720"/>
            <a:chExt cx="9144000" cy="1764000"/>
          </a:xfrm>
        </p:grpSpPr>
        <p:sp>
          <p:nvSpPr>
            <p:cNvPr id="185" name=""/>
            <p:cNvSpPr/>
            <p:nvPr/>
          </p:nvSpPr>
          <p:spPr>
            <a:xfrm>
              <a:off x="1979640" y="5661000"/>
              <a:ext cx="914400" cy="9144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43280" y="5373720"/>
              <a:ext cx="1214280" cy="1214280"/>
            </a:xfrm>
            <a:prstGeom prst="cube">
              <a:avLst>
                <a:gd name="adj" fmla="val 25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67280" y="5300640"/>
              <a:ext cx="914400" cy="1214640"/>
            </a:xfrm>
            <a:prstGeom prst="can">
              <a:avLst>
                <a:gd name="adj" fmla="val 25000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11640" y="4941720"/>
              <a:ext cx="647640" cy="6256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5003640" y="5445000"/>
              <a:ext cx="1214640" cy="1214640"/>
            </a:xfrm>
            <a:prstGeom prst="cube">
              <a:avLst>
                <a:gd name="adj" fmla="val 25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227640" y="5734080"/>
              <a:ext cx="914400" cy="9144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164360" y="5734080"/>
              <a:ext cx="1979640" cy="971640"/>
            </a:xfrm>
            <a:prstGeom prst="beve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0" y="5661000"/>
              <a:ext cx="2014560" cy="971640"/>
            </a:xfrm>
            <a:prstGeom prst="beve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19:16:14Z</dcterms:created>
  <dc:creator>Admin</dc:creator>
  <dc:description/>
  <dc:language>en-US</dc:language>
  <cp:lastModifiedBy>Admin</cp:lastModifiedBy>
  <dcterms:modified xsi:type="dcterms:W3CDTF">2012-01-30T14:37:09Z</dcterms:modified>
  <cp:revision>10</cp:revision>
  <dc:subject/>
  <dc:title>Слайд 1</dc:title>
</cp:coreProperties>
</file>