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7DB3-D925-4BE9-8610-EAD0129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E8363-CB1F-409E-921B-5050AA71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315E-5671-4CA8-8830-F9C167AC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933CC-27D4-414F-B4D6-A4952CB0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272F-FB45-4B60-AE75-ED9D6DC1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A685-09BC-4B7C-B920-62E1E0DF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D5F0-2207-4049-9FF7-4713FB3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856F-3A8E-4C04-A44D-4B54753F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F94B-5715-490F-9FAF-1160544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6C76-19E5-49D7-8FBC-236105E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D870C-AEE6-47E4-A12D-3152AE46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53F2-A16E-4F74-BE70-0656302F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0167B-60C9-4D34-8466-1871BB9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B584-DF3A-4500-9730-D693A69F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B2CE-D630-4E74-AAF0-259DF2C0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5F4F-4B40-40AD-9E66-7ADE5B23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017E-2CFE-466B-A1DE-38DDAF9C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95ED6-5E17-476A-A9BC-DA4FA67A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A8C3-8DED-4A8A-B195-E8B7C96B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EE1B9-19CA-4482-A645-656F5EBD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E1CF-B51F-4D17-B0FC-8BB552D4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327A6-8E02-418C-91C9-ED8EB3AB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6B1A2-E2C5-41B0-8EC5-47126C8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794A5-D613-4281-A79B-B6BEFE27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484D-A5A3-4352-81D2-E2B2C425988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0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2f978d"/>
                </a:gs>
                <a:gs pos="100000">
                  <a:srgbClr val="70cac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6962-D865-4D28-BB9E-AD797AAC790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png"/><Relationship Id="rId3" Type="http://schemas.openxmlformats.org/officeDocument/2006/relationships/image" Target="../media/image4.gif"/><Relationship Id="rId4" Type="http://schemas.openxmlformats.org/officeDocument/2006/relationships/image" Target="../media/image12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orum.materinstvo.ru/index.php?s=d0c1a26d8e62fe7927b9208c2de446cd&amp;showforum=223" TargetMode="External"/><Relationship Id="rId2" Type="http://schemas.openxmlformats.org/officeDocument/2006/relationships/hyperlink" Target="http://forum.materinstvo.ru/index.php?s=d0c1a26d8e62fe7927b9208c2de446cd&amp;showforum=223" TargetMode="External"/><Relationship Id="rId3" Type="http://schemas.openxmlformats.org/officeDocument/2006/relationships/hyperlink" Target="http://r.foto.radikal.ru/0702/24866c8143ae.png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file:///tmp/home/.config/libreoffice/4/user/gallery/&#1084;&#1086;&#1088;&#1082;&#1086;&#1074;&#1100;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260280"/>
            <a:ext cx="85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8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Изучаем геометрические фигуры</a:t>
            </a:r>
            <a:endParaRPr b="1" lang="en-US" sz="1800" spc="1" strike="noStrike">
              <a:ln w="38160">
                <a:solidFill>
                  <a:srgbClr val="008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59280" y="1700280"/>
            <a:ext cx="496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К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ПОЛУКРУ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ОВАЛ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ША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84360" y="5805360"/>
            <a:ext cx="489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"/>
              </a:rPr>
              <a:t>НАЧАЛЬНАЯ  ШКО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6891840" y="1541160"/>
            <a:ext cx="2199960" cy="2727720"/>
            <a:chOff x="6891840" y="1541160"/>
            <a:chExt cx="2199960" cy="2727720"/>
          </a:xfrm>
        </p:grpSpPr>
        <p:grpSp>
          <p:nvGrpSpPr>
            <p:cNvPr id="241" name=""/>
            <p:cNvGrpSpPr/>
            <p:nvPr/>
          </p:nvGrpSpPr>
          <p:grpSpPr>
            <a:xfrm>
              <a:off x="6891840" y="1541160"/>
              <a:ext cx="2199960" cy="2727720"/>
              <a:chOff x="6891840" y="1541160"/>
              <a:chExt cx="2199960" cy="2727720"/>
            </a:xfrm>
          </p:grpSpPr>
          <p:sp>
            <p:nvSpPr>
              <p:cNvPr id="242" name=""/>
              <p:cNvSpPr/>
              <p:nvPr/>
            </p:nvSpPr>
            <p:spPr>
              <a:xfrm rot="353400">
                <a:off x="8121240" y="4080240"/>
                <a:ext cx="252720" cy="176040"/>
              </a:xfrm>
              <a:custGeom>
                <a:avLst/>
                <a:gdLst/>
                <a:ahLst/>
                <a:rect l="l" t="t" r="r" b="b"/>
                <a:pathLst>
                  <a:path w="202" h="168">
                    <a:moveTo>
                      <a:pt x="79" y="16"/>
                    </a:moveTo>
                    <a:lnTo>
                      <a:pt x="74" y="22"/>
                    </a:lnTo>
                    <a:lnTo>
                      <a:pt x="60" y="37"/>
                    </a:lnTo>
                    <a:lnTo>
                      <a:pt x="42" y="58"/>
                    </a:lnTo>
                    <a:lnTo>
                      <a:pt x="23" y="84"/>
                    </a:lnTo>
                    <a:lnTo>
                      <a:pt x="8" y="111"/>
                    </a:lnTo>
                    <a:lnTo>
                      <a:pt x="0" y="136"/>
                    </a:lnTo>
                    <a:lnTo>
                      <a:pt x="4" y="156"/>
                    </a:lnTo>
                    <a:lnTo>
                      <a:pt x="23" y="168"/>
                    </a:lnTo>
                    <a:lnTo>
                      <a:pt x="27" y="168"/>
                    </a:lnTo>
                    <a:lnTo>
                      <a:pt x="35" y="167"/>
                    </a:lnTo>
                    <a:lnTo>
                      <a:pt x="48" y="166"/>
                    </a:lnTo>
                    <a:lnTo>
                      <a:pt x="66" y="163"/>
                    </a:lnTo>
                    <a:lnTo>
                      <a:pt x="84" y="161"/>
                    </a:lnTo>
                    <a:lnTo>
                      <a:pt x="104" y="156"/>
                    </a:lnTo>
                    <a:lnTo>
                      <a:pt x="126" y="151"/>
                    </a:lnTo>
                    <a:lnTo>
                      <a:pt x="147" y="143"/>
                    </a:lnTo>
                    <a:lnTo>
                      <a:pt x="165" y="135"/>
                    </a:lnTo>
                    <a:lnTo>
                      <a:pt x="181" y="123"/>
                    </a:lnTo>
                    <a:lnTo>
                      <a:pt x="193" y="111"/>
                    </a:lnTo>
                    <a:lnTo>
                      <a:pt x="201" y="97"/>
                    </a:lnTo>
                    <a:lnTo>
                      <a:pt x="202" y="80"/>
                    </a:lnTo>
                    <a:lnTo>
                      <a:pt x="198" y="61"/>
                    </a:lnTo>
                    <a:lnTo>
                      <a:pt x="185" y="40"/>
                    </a:lnTo>
                    <a:lnTo>
                      <a:pt x="164" y="16"/>
                    </a:lnTo>
                    <a:lnTo>
                      <a:pt x="161" y="14"/>
                    </a:lnTo>
                    <a:lnTo>
                      <a:pt x="157" y="11"/>
                    </a:lnTo>
                    <a:lnTo>
                      <a:pt x="149" y="6"/>
                    </a:lnTo>
                    <a:lnTo>
                      <a:pt x="139" y="2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5" y="5"/>
                    </a:lnTo>
                    <a:lnTo>
                      <a:pt x="7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353400">
                <a:off x="6954840" y="2810520"/>
                <a:ext cx="1654200" cy="1310400"/>
              </a:xfrm>
              <a:custGeom>
                <a:avLst/>
                <a:gdLst/>
                <a:ahLst/>
                <a:rect l="l" t="t" r="r" b="b"/>
                <a:pathLst>
                  <a:path w="1320" h="1249">
                    <a:moveTo>
                      <a:pt x="955" y="0"/>
                    </a:moveTo>
                    <a:lnTo>
                      <a:pt x="957" y="1"/>
                    </a:lnTo>
                    <a:lnTo>
                      <a:pt x="963" y="3"/>
                    </a:lnTo>
                    <a:lnTo>
                      <a:pt x="972" y="8"/>
                    </a:lnTo>
                    <a:lnTo>
                      <a:pt x="984" y="13"/>
                    </a:lnTo>
                    <a:lnTo>
                      <a:pt x="999" y="21"/>
                    </a:lnTo>
                    <a:lnTo>
                      <a:pt x="1018" y="30"/>
                    </a:lnTo>
                    <a:lnTo>
                      <a:pt x="1037" y="42"/>
                    </a:lnTo>
                    <a:lnTo>
                      <a:pt x="1059" y="56"/>
                    </a:lnTo>
                    <a:lnTo>
                      <a:pt x="1083" y="72"/>
                    </a:lnTo>
                    <a:lnTo>
                      <a:pt x="1108" y="91"/>
                    </a:lnTo>
                    <a:lnTo>
                      <a:pt x="1133" y="112"/>
                    </a:lnTo>
                    <a:lnTo>
                      <a:pt x="1160" y="135"/>
                    </a:lnTo>
                    <a:lnTo>
                      <a:pt x="1186" y="161"/>
                    </a:lnTo>
                    <a:lnTo>
                      <a:pt x="1214" y="190"/>
                    </a:lnTo>
                    <a:lnTo>
                      <a:pt x="1241" y="222"/>
                    </a:lnTo>
                    <a:lnTo>
                      <a:pt x="1267" y="257"/>
                    </a:lnTo>
                    <a:lnTo>
                      <a:pt x="1290" y="294"/>
                    </a:lnTo>
                    <a:lnTo>
                      <a:pt x="1306" y="331"/>
                    </a:lnTo>
                    <a:lnTo>
                      <a:pt x="1315" y="369"/>
                    </a:lnTo>
                    <a:lnTo>
                      <a:pt x="1320" y="407"/>
                    </a:lnTo>
                    <a:lnTo>
                      <a:pt x="1320" y="445"/>
                    </a:lnTo>
                    <a:lnTo>
                      <a:pt x="1315" y="482"/>
                    </a:lnTo>
                    <a:lnTo>
                      <a:pt x="1306" y="518"/>
                    </a:lnTo>
                    <a:lnTo>
                      <a:pt x="1294" y="553"/>
                    </a:lnTo>
                    <a:lnTo>
                      <a:pt x="1279" y="585"/>
                    </a:lnTo>
                    <a:lnTo>
                      <a:pt x="1262" y="616"/>
                    </a:lnTo>
                    <a:lnTo>
                      <a:pt x="1242" y="646"/>
                    </a:lnTo>
                    <a:lnTo>
                      <a:pt x="1222" y="672"/>
                    </a:lnTo>
                    <a:lnTo>
                      <a:pt x="1200" y="694"/>
                    </a:lnTo>
                    <a:lnTo>
                      <a:pt x="1180" y="714"/>
                    </a:lnTo>
                    <a:lnTo>
                      <a:pt x="1158" y="730"/>
                    </a:lnTo>
                    <a:lnTo>
                      <a:pt x="1137" y="742"/>
                    </a:lnTo>
                    <a:lnTo>
                      <a:pt x="1136" y="752"/>
                    </a:lnTo>
                    <a:lnTo>
                      <a:pt x="1133" y="782"/>
                    </a:lnTo>
                    <a:lnTo>
                      <a:pt x="1129" y="826"/>
                    </a:lnTo>
                    <a:lnTo>
                      <a:pt x="1127" y="885"/>
                    </a:lnTo>
                    <a:lnTo>
                      <a:pt x="1128" y="951"/>
                    </a:lnTo>
                    <a:lnTo>
                      <a:pt x="1134" y="1025"/>
                    </a:lnTo>
                    <a:lnTo>
                      <a:pt x="1145" y="1101"/>
                    </a:lnTo>
                    <a:lnTo>
                      <a:pt x="1164" y="1178"/>
                    </a:lnTo>
                    <a:lnTo>
                      <a:pt x="1164" y="1182"/>
                    </a:lnTo>
                    <a:lnTo>
                      <a:pt x="1165" y="1193"/>
                    </a:lnTo>
                    <a:lnTo>
                      <a:pt x="1164" y="1207"/>
                    </a:lnTo>
                    <a:lnTo>
                      <a:pt x="1160" y="1223"/>
                    </a:lnTo>
                    <a:lnTo>
                      <a:pt x="1152" y="1236"/>
                    </a:lnTo>
                    <a:lnTo>
                      <a:pt x="1137" y="1246"/>
                    </a:lnTo>
                    <a:lnTo>
                      <a:pt x="1116" y="1249"/>
                    </a:lnTo>
                    <a:lnTo>
                      <a:pt x="1085" y="1243"/>
                    </a:lnTo>
                    <a:lnTo>
                      <a:pt x="1067" y="1236"/>
                    </a:lnTo>
                    <a:lnTo>
                      <a:pt x="1047" y="1228"/>
                    </a:lnTo>
                    <a:lnTo>
                      <a:pt x="1026" y="1218"/>
                    </a:lnTo>
                    <a:lnTo>
                      <a:pt x="1005" y="1207"/>
                    </a:lnTo>
                    <a:lnTo>
                      <a:pt x="982" y="1194"/>
                    </a:lnTo>
                    <a:lnTo>
                      <a:pt x="959" y="1179"/>
                    </a:lnTo>
                    <a:lnTo>
                      <a:pt x="937" y="1162"/>
                    </a:lnTo>
                    <a:lnTo>
                      <a:pt x="914" y="1143"/>
                    </a:lnTo>
                    <a:lnTo>
                      <a:pt x="891" y="1122"/>
                    </a:lnTo>
                    <a:lnTo>
                      <a:pt x="869" y="1100"/>
                    </a:lnTo>
                    <a:lnTo>
                      <a:pt x="848" y="1074"/>
                    </a:lnTo>
                    <a:lnTo>
                      <a:pt x="827" y="1047"/>
                    </a:lnTo>
                    <a:lnTo>
                      <a:pt x="806" y="1017"/>
                    </a:lnTo>
                    <a:lnTo>
                      <a:pt x="788" y="984"/>
                    </a:lnTo>
                    <a:lnTo>
                      <a:pt x="771" y="949"/>
                    </a:lnTo>
                    <a:lnTo>
                      <a:pt x="755" y="911"/>
                    </a:lnTo>
                    <a:lnTo>
                      <a:pt x="754" y="913"/>
                    </a:lnTo>
                    <a:lnTo>
                      <a:pt x="749" y="918"/>
                    </a:lnTo>
                    <a:lnTo>
                      <a:pt x="744" y="927"/>
                    </a:lnTo>
                    <a:lnTo>
                      <a:pt x="736" y="939"/>
                    </a:lnTo>
                    <a:lnTo>
                      <a:pt x="725" y="954"/>
                    </a:lnTo>
                    <a:lnTo>
                      <a:pt x="714" y="971"/>
                    </a:lnTo>
                    <a:lnTo>
                      <a:pt x="701" y="990"/>
                    </a:lnTo>
                    <a:lnTo>
                      <a:pt x="688" y="1011"/>
                    </a:lnTo>
                    <a:lnTo>
                      <a:pt x="673" y="1034"/>
                    </a:lnTo>
                    <a:lnTo>
                      <a:pt x="658" y="1058"/>
                    </a:lnTo>
                    <a:lnTo>
                      <a:pt x="642" y="1083"/>
                    </a:lnTo>
                    <a:lnTo>
                      <a:pt x="626" y="1108"/>
                    </a:lnTo>
                    <a:lnTo>
                      <a:pt x="610" y="1134"/>
                    </a:lnTo>
                    <a:lnTo>
                      <a:pt x="595" y="1160"/>
                    </a:lnTo>
                    <a:lnTo>
                      <a:pt x="579" y="1186"/>
                    </a:lnTo>
                    <a:lnTo>
                      <a:pt x="566" y="1210"/>
                    </a:lnTo>
                    <a:lnTo>
                      <a:pt x="561" y="1213"/>
                    </a:lnTo>
                    <a:lnTo>
                      <a:pt x="551" y="1220"/>
                    </a:lnTo>
                    <a:lnTo>
                      <a:pt x="534" y="1228"/>
                    </a:lnTo>
                    <a:lnTo>
                      <a:pt x="514" y="1231"/>
                    </a:lnTo>
                    <a:lnTo>
                      <a:pt x="491" y="1229"/>
                    </a:lnTo>
                    <a:lnTo>
                      <a:pt x="470" y="1215"/>
                    </a:lnTo>
                    <a:lnTo>
                      <a:pt x="450" y="1189"/>
                    </a:lnTo>
                    <a:lnTo>
                      <a:pt x="434" y="1146"/>
                    </a:lnTo>
                    <a:lnTo>
                      <a:pt x="422" y="1090"/>
                    </a:lnTo>
                    <a:lnTo>
                      <a:pt x="413" y="1037"/>
                    </a:lnTo>
                    <a:lnTo>
                      <a:pt x="409" y="984"/>
                    </a:lnTo>
                    <a:lnTo>
                      <a:pt x="409" y="928"/>
                    </a:lnTo>
                    <a:lnTo>
                      <a:pt x="415" y="868"/>
                    </a:lnTo>
                    <a:lnTo>
                      <a:pt x="425" y="802"/>
                    </a:lnTo>
                    <a:lnTo>
                      <a:pt x="441" y="725"/>
                    </a:lnTo>
                    <a:lnTo>
                      <a:pt x="462" y="637"/>
                    </a:lnTo>
                    <a:lnTo>
                      <a:pt x="472" y="589"/>
                    </a:lnTo>
                    <a:lnTo>
                      <a:pt x="477" y="543"/>
                    </a:lnTo>
                    <a:lnTo>
                      <a:pt x="477" y="502"/>
                    </a:lnTo>
                    <a:lnTo>
                      <a:pt x="471" y="465"/>
                    </a:lnTo>
                    <a:lnTo>
                      <a:pt x="461" y="434"/>
                    </a:lnTo>
                    <a:lnTo>
                      <a:pt x="446" y="408"/>
                    </a:lnTo>
                    <a:lnTo>
                      <a:pt x="425" y="388"/>
                    </a:lnTo>
                    <a:lnTo>
                      <a:pt x="399" y="376"/>
                    </a:lnTo>
                    <a:lnTo>
                      <a:pt x="376" y="368"/>
                    </a:lnTo>
                    <a:lnTo>
                      <a:pt x="353" y="361"/>
                    </a:lnTo>
                    <a:lnTo>
                      <a:pt x="329" y="352"/>
                    </a:lnTo>
                    <a:lnTo>
                      <a:pt x="305" y="343"/>
                    </a:lnTo>
                    <a:lnTo>
                      <a:pt x="280" y="333"/>
                    </a:lnTo>
                    <a:lnTo>
                      <a:pt x="255" y="324"/>
                    </a:lnTo>
                    <a:lnTo>
                      <a:pt x="230" y="315"/>
                    </a:lnTo>
                    <a:lnTo>
                      <a:pt x="204" y="304"/>
                    </a:lnTo>
                    <a:lnTo>
                      <a:pt x="179" y="294"/>
                    </a:lnTo>
                    <a:lnTo>
                      <a:pt x="154" y="284"/>
                    </a:lnTo>
                    <a:lnTo>
                      <a:pt x="130" y="274"/>
                    </a:lnTo>
                    <a:lnTo>
                      <a:pt x="106" y="263"/>
                    </a:lnTo>
                    <a:lnTo>
                      <a:pt x="83" y="253"/>
                    </a:lnTo>
                    <a:lnTo>
                      <a:pt x="60" y="243"/>
                    </a:lnTo>
                    <a:lnTo>
                      <a:pt x="40" y="233"/>
                    </a:lnTo>
                    <a:lnTo>
                      <a:pt x="19" y="224"/>
                    </a:lnTo>
                    <a:lnTo>
                      <a:pt x="17" y="222"/>
                    </a:lnTo>
                    <a:lnTo>
                      <a:pt x="10" y="216"/>
                    </a:lnTo>
                    <a:lnTo>
                      <a:pt x="3" y="206"/>
                    </a:lnTo>
                    <a:lnTo>
                      <a:pt x="0" y="195"/>
                    </a:lnTo>
                    <a:lnTo>
                      <a:pt x="1" y="182"/>
                    </a:lnTo>
                    <a:lnTo>
                      <a:pt x="12" y="170"/>
                    </a:lnTo>
                    <a:lnTo>
                      <a:pt x="34" y="160"/>
                    </a:lnTo>
                    <a:lnTo>
                      <a:pt x="71" y="151"/>
                    </a:lnTo>
                    <a:lnTo>
                      <a:pt x="95" y="148"/>
                    </a:lnTo>
                    <a:lnTo>
                      <a:pt x="121" y="145"/>
                    </a:lnTo>
                    <a:lnTo>
                      <a:pt x="148" y="141"/>
                    </a:lnTo>
                    <a:lnTo>
                      <a:pt x="178" y="138"/>
                    </a:lnTo>
                    <a:lnTo>
                      <a:pt x="207" y="133"/>
                    </a:lnTo>
                    <a:lnTo>
                      <a:pt x="238" y="129"/>
                    </a:lnTo>
                    <a:lnTo>
                      <a:pt x="269" y="124"/>
                    </a:lnTo>
                    <a:lnTo>
                      <a:pt x="301" y="118"/>
                    </a:lnTo>
                    <a:lnTo>
                      <a:pt x="333" y="113"/>
                    </a:lnTo>
                    <a:lnTo>
                      <a:pt x="364" y="106"/>
                    </a:lnTo>
                    <a:lnTo>
                      <a:pt x="394" y="99"/>
                    </a:lnTo>
                    <a:lnTo>
                      <a:pt x="425" y="92"/>
                    </a:lnTo>
                    <a:lnTo>
                      <a:pt x="454" y="83"/>
                    </a:lnTo>
                    <a:lnTo>
                      <a:pt x="481" y="75"/>
                    </a:lnTo>
                    <a:lnTo>
                      <a:pt x="507" y="65"/>
                    </a:lnTo>
                    <a:lnTo>
                      <a:pt x="531" y="55"/>
                    </a:lnTo>
                    <a:lnTo>
                      <a:pt x="535" y="55"/>
                    </a:lnTo>
                    <a:lnTo>
                      <a:pt x="545" y="55"/>
                    </a:lnTo>
                    <a:lnTo>
                      <a:pt x="560" y="54"/>
                    </a:lnTo>
                    <a:lnTo>
                      <a:pt x="580" y="52"/>
                    </a:lnTo>
                    <a:lnTo>
                      <a:pt x="606" y="51"/>
                    </a:lnTo>
                    <a:lnTo>
                      <a:pt x="633" y="50"/>
                    </a:lnTo>
                    <a:lnTo>
                      <a:pt x="665" y="47"/>
                    </a:lnTo>
                    <a:lnTo>
                      <a:pt x="698" y="45"/>
                    </a:lnTo>
                    <a:lnTo>
                      <a:pt x="732" y="42"/>
                    </a:lnTo>
                    <a:lnTo>
                      <a:pt x="768" y="39"/>
                    </a:lnTo>
                    <a:lnTo>
                      <a:pt x="803" y="34"/>
                    </a:lnTo>
                    <a:lnTo>
                      <a:pt x="837" y="29"/>
                    </a:lnTo>
                    <a:lnTo>
                      <a:pt x="870" y="23"/>
                    </a:lnTo>
                    <a:lnTo>
                      <a:pt x="902" y="16"/>
                    </a:lnTo>
                    <a:lnTo>
                      <a:pt x="930" y="9"/>
                    </a:lnTo>
                    <a:lnTo>
                      <a:pt x="9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353400">
                <a:off x="7080120" y="2840760"/>
                <a:ext cx="1463760" cy="1197000"/>
              </a:xfrm>
              <a:custGeom>
                <a:avLst/>
                <a:gdLst/>
                <a:ahLst/>
                <a:rect l="l" t="t" r="r" b="b"/>
                <a:pathLst>
                  <a:path w="1167" h="1141">
                    <a:moveTo>
                      <a:pt x="827" y="23"/>
                    </a:moveTo>
                    <a:lnTo>
                      <a:pt x="830" y="24"/>
                    </a:lnTo>
                    <a:lnTo>
                      <a:pt x="840" y="28"/>
                    </a:lnTo>
                    <a:lnTo>
                      <a:pt x="853" y="34"/>
                    </a:lnTo>
                    <a:lnTo>
                      <a:pt x="871" y="42"/>
                    </a:lnTo>
                    <a:lnTo>
                      <a:pt x="894" y="54"/>
                    </a:lnTo>
                    <a:lnTo>
                      <a:pt x="919" y="67"/>
                    </a:lnTo>
                    <a:lnTo>
                      <a:pt x="947" y="84"/>
                    </a:lnTo>
                    <a:lnTo>
                      <a:pt x="975" y="104"/>
                    </a:lnTo>
                    <a:lnTo>
                      <a:pt x="1004" y="128"/>
                    </a:lnTo>
                    <a:lnTo>
                      <a:pt x="1034" y="153"/>
                    </a:lnTo>
                    <a:lnTo>
                      <a:pt x="1062" y="182"/>
                    </a:lnTo>
                    <a:lnTo>
                      <a:pt x="1089" y="215"/>
                    </a:lnTo>
                    <a:lnTo>
                      <a:pt x="1113" y="249"/>
                    </a:lnTo>
                    <a:lnTo>
                      <a:pt x="1135" y="289"/>
                    </a:lnTo>
                    <a:lnTo>
                      <a:pt x="1152" y="331"/>
                    </a:lnTo>
                    <a:lnTo>
                      <a:pt x="1166" y="377"/>
                    </a:lnTo>
                    <a:lnTo>
                      <a:pt x="1167" y="384"/>
                    </a:lnTo>
                    <a:lnTo>
                      <a:pt x="1167" y="405"/>
                    </a:lnTo>
                    <a:lnTo>
                      <a:pt x="1165" y="436"/>
                    </a:lnTo>
                    <a:lnTo>
                      <a:pt x="1158" y="476"/>
                    </a:lnTo>
                    <a:lnTo>
                      <a:pt x="1144" y="520"/>
                    </a:lnTo>
                    <a:lnTo>
                      <a:pt x="1120" y="566"/>
                    </a:lnTo>
                    <a:lnTo>
                      <a:pt x="1084" y="611"/>
                    </a:lnTo>
                    <a:lnTo>
                      <a:pt x="1034" y="653"/>
                    </a:lnTo>
                    <a:lnTo>
                      <a:pt x="1032" y="651"/>
                    </a:lnTo>
                    <a:lnTo>
                      <a:pt x="1028" y="644"/>
                    </a:lnTo>
                    <a:lnTo>
                      <a:pt x="1021" y="634"/>
                    </a:lnTo>
                    <a:lnTo>
                      <a:pt x="1013" y="622"/>
                    </a:lnTo>
                    <a:lnTo>
                      <a:pt x="1004" y="611"/>
                    </a:lnTo>
                    <a:lnTo>
                      <a:pt x="994" y="600"/>
                    </a:lnTo>
                    <a:lnTo>
                      <a:pt x="982" y="591"/>
                    </a:lnTo>
                    <a:lnTo>
                      <a:pt x="972" y="585"/>
                    </a:lnTo>
                    <a:lnTo>
                      <a:pt x="973" y="577"/>
                    </a:lnTo>
                    <a:lnTo>
                      <a:pt x="978" y="555"/>
                    </a:lnTo>
                    <a:lnTo>
                      <a:pt x="982" y="525"/>
                    </a:lnTo>
                    <a:lnTo>
                      <a:pt x="986" y="488"/>
                    </a:lnTo>
                    <a:lnTo>
                      <a:pt x="987" y="451"/>
                    </a:lnTo>
                    <a:lnTo>
                      <a:pt x="986" y="415"/>
                    </a:lnTo>
                    <a:lnTo>
                      <a:pt x="979" y="387"/>
                    </a:lnTo>
                    <a:lnTo>
                      <a:pt x="965" y="367"/>
                    </a:lnTo>
                    <a:lnTo>
                      <a:pt x="948" y="357"/>
                    </a:lnTo>
                    <a:lnTo>
                      <a:pt x="930" y="351"/>
                    </a:lnTo>
                    <a:lnTo>
                      <a:pt x="911" y="347"/>
                    </a:lnTo>
                    <a:lnTo>
                      <a:pt x="893" y="345"/>
                    </a:lnTo>
                    <a:lnTo>
                      <a:pt x="875" y="341"/>
                    </a:lnTo>
                    <a:lnTo>
                      <a:pt x="858" y="335"/>
                    </a:lnTo>
                    <a:lnTo>
                      <a:pt x="841" y="325"/>
                    </a:lnTo>
                    <a:lnTo>
                      <a:pt x="825" y="307"/>
                    </a:lnTo>
                    <a:lnTo>
                      <a:pt x="824" y="310"/>
                    </a:lnTo>
                    <a:lnTo>
                      <a:pt x="824" y="319"/>
                    </a:lnTo>
                    <a:lnTo>
                      <a:pt x="825" y="331"/>
                    </a:lnTo>
                    <a:lnTo>
                      <a:pt x="829" y="345"/>
                    </a:lnTo>
                    <a:lnTo>
                      <a:pt x="838" y="361"/>
                    </a:lnTo>
                    <a:lnTo>
                      <a:pt x="856" y="377"/>
                    </a:lnTo>
                    <a:lnTo>
                      <a:pt x="879" y="390"/>
                    </a:lnTo>
                    <a:lnTo>
                      <a:pt x="915" y="402"/>
                    </a:lnTo>
                    <a:lnTo>
                      <a:pt x="917" y="402"/>
                    </a:lnTo>
                    <a:lnTo>
                      <a:pt x="924" y="405"/>
                    </a:lnTo>
                    <a:lnTo>
                      <a:pt x="932" y="413"/>
                    </a:lnTo>
                    <a:lnTo>
                      <a:pt x="940" y="425"/>
                    </a:lnTo>
                    <a:lnTo>
                      <a:pt x="947" y="446"/>
                    </a:lnTo>
                    <a:lnTo>
                      <a:pt x="949" y="477"/>
                    </a:lnTo>
                    <a:lnTo>
                      <a:pt x="945" y="519"/>
                    </a:lnTo>
                    <a:lnTo>
                      <a:pt x="933" y="574"/>
                    </a:lnTo>
                    <a:lnTo>
                      <a:pt x="929" y="575"/>
                    </a:lnTo>
                    <a:lnTo>
                      <a:pt x="917" y="580"/>
                    </a:lnTo>
                    <a:lnTo>
                      <a:pt x="901" y="586"/>
                    </a:lnTo>
                    <a:lnTo>
                      <a:pt x="883" y="595"/>
                    </a:lnTo>
                    <a:lnTo>
                      <a:pt x="864" y="606"/>
                    </a:lnTo>
                    <a:lnTo>
                      <a:pt x="845" y="617"/>
                    </a:lnTo>
                    <a:lnTo>
                      <a:pt x="832" y="631"/>
                    </a:lnTo>
                    <a:lnTo>
                      <a:pt x="825" y="643"/>
                    </a:lnTo>
                    <a:lnTo>
                      <a:pt x="824" y="655"/>
                    </a:lnTo>
                    <a:lnTo>
                      <a:pt x="826" y="665"/>
                    </a:lnTo>
                    <a:lnTo>
                      <a:pt x="830" y="674"/>
                    </a:lnTo>
                    <a:lnTo>
                      <a:pt x="837" y="681"/>
                    </a:lnTo>
                    <a:lnTo>
                      <a:pt x="845" y="686"/>
                    </a:lnTo>
                    <a:lnTo>
                      <a:pt x="854" y="690"/>
                    </a:lnTo>
                    <a:lnTo>
                      <a:pt x="862" y="691"/>
                    </a:lnTo>
                    <a:lnTo>
                      <a:pt x="870" y="690"/>
                    </a:lnTo>
                    <a:lnTo>
                      <a:pt x="875" y="691"/>
                    </a:lnTo>
                    <a:lnTo>
                      <a:pt x="876" y="696"/>
                    </a:lnTo>
                    <a:lnTo>
                      <a:pt x="874" y="705"/>
                    </a:lnTo>
                    <a:lnTo>
                      <a:pt x="871" y="716"/>
                    </a:lnTo>
                    <a:lnTo>
                      <a:pt x="869" y="729"/>
                    </a:lnTo>
                    <a:lnTo>
                      <a:pt x="869" y="741"/>
                    </a:lnTo>
                    <a:lnTo>
                      <a:pt x="873" y="753"/>
                    </a:lnTo>
                    <a:lnTo>
                      <a:pt x="881" y="764"/>
                    </a:lnTo>
                    <a:lnTo>
                      <a:pt x="889" y="772"/>
                    </a:lnTo>
                    <a:lnTo>
                      <a:pt x="900" y="778"/>
                    </a:lnTo>
                    <a:lnTo>
                      <a:pt x="913" y="784"/>
                    </a:lnTo>
                    <a:lnTo>
                      <a:pt x="926" y="788"/>
                    </a:lnTo>
                    <a:lnTo>
                      <a:pt x="942" y="789"/>
                    </a:lnTo>
                    <a:lnTo>
                      <a:pt x="957" y="787"/>
                    </a:lnTo>
                    <a:lnTo>
                      <a:pt x="973" y="779"/>
                    </a:lnTo>
                    <a:lnTo>
                      <a:pt x="989" y="768"/>
                    </a:lnTo>
                    <a:lnTo>
                      <a:pt x="988" y="777"/>
                    </a:lnTo>
                    <a:lnTo>
                      <a:pt x="986" y="802"/>
                    </a:lnTo>
                    <a:lnTo>
                      <a:pt x="983" y="838"/>
                    </a:lnTo>
                    <a:lnTo>
                      <a:pt x="981" y="882"/>
                    </a:lnTo>
                    <a:lnTo>
                      <a:pt x="981" y="933"/>
                    </a:lnTo>
                    <a:lnTo>
                      <a:pt x="983" y="986"/>
                    </a:lnTo>
                    <a:lnTo>
                      <a:pt x="990" y="1038"/>
                    </a:lnTo>
                    <a:lnTo>
                      <a:pt x="1002" y="1086"/>
                    </a:lnTo>
                    <a:lnTo>
                      <a:pt x="1003" y="1090"/>
                    </a:lnTo>
                    <a:lnTo>
                      <a:pt x="1004" y="1100"/>
                    </a:lnTo>
                    <a:lnTo>
                      <a:pt x="1004" y="1112"/>
                    </a:lnTo>
                    <a:lnTo>
                      <a:pt x="1002" y="1125"/>
                    </a:lnTo>
                    <a:lnTo>
                      <a:pt x="995" y="1135"/>
                    </a:lnTo>
                    <a:lnTo>
                      <a:pt x="983" y="1141"/>
                    </a:lnTo>
                    <a:lnTo>
                      <a:pt x="965" y="1139"/>
                    </a:lnTo>
                    <a:lnTo>
                      <a:pt x="938" y="1126"/>
                    </a:lnTo>
                    <a:lnTo>
                      <a:pt x="929" y="1121"/>
                    </a:lnTo>
                    <a:lnTo>
                      <a:pt x="917" y="1114"/>
                    </a:lnTo>
                    <a:lnTo>
                      <a:pt x="905" y="1106"/>
                    </a:lnTo>
                    <a:lnTo>
                      <a:pt x="891" y="1098"/>
                    </a:lnTo>
                    <a:lnTo>
                      <a:pt x="876" y="1088"/>
                    </a:lnTo>
                    <a:lnTo>
                      <a:pt x="861" y="1075"/>
                    </a:lnTo>
                    <a:lnTo>
                      <a:pt x="844" y="1063"/>
                    </a:lnTo>
                    <a:lnTo>
                      <a:pt x="828" y="1047"/>
                    </a:lnTo>
                    <a:lnTo>
                      <a:pt x="810" y="1030"/>
                    </a:lnTo>
                    <a:lnTo>
                      <a:pt x="793" y="1011"/>
                    </a:lnTo>
                    <a:lnTo>
                      <a:pt x="776" y="989"/>
                    </a:lnTo>
                    <a:lnTo>
                      <a:pt x="759" y="964"/>
                    </a:lnTo>
                    <a:lnTo>
                      <a:pt x="743" y="938"/>
                    </a:lnTo>
                    <a:lnTo>
                      <a:pt x="727" y="908"/>
                    </a:lnTo>
                    <a:lnTo>
                      <a:pt x="711" y="876"/>
                    </a:lnTo>
                    <a:lnTo>
                      <a:pt x="697" y="840"/>
                    </a:lnTo>
                    <a:lnTo>
                      <a:pt x="683" y="810"/>
                    </a:lnTo>
                    <a:lnTo>
                      <a:pt x="671" y="795"/>
                    </a:lnTo>
                    <a:lnTo>
                      <a:pt x="659" y="792"/>
                    </a:lnTo>
                    <a:lnTo>
                      <a:pt x="648" y="799"/>
                    </a:lnTo>
                    <a:lnTo>
                      <a:pt x="636" y="813"/>
                    </a:lnTo>
                    <a:lnTo>
                      <a:pt x="625" y="833"/>
                    </a:lnTo>
                    <a:lnTo>
                      <a:pt x="614" y="854"/>
                    </a:lnTo>
                    <a:lnTo>
                      <a:pt x="602" y="875"/>
                    </a:lnTo>
                    <a:lnTo>
                      <a:pt x="586" y="901"/>
                    </a:lnTo>
                    <a:lnTo>
                      <a:pt x="563" y="937"/>
                    </a:lnTo>
                    <a:lnTo>
                      <a:pt x="537" y="979"/>
                    </a:lnTo>
                    <a:lnTo>
                      <a:pt x="511" y="1021"/>
                    </a:lnTo>
                    <a:lnTo>
                      <a:pt x="485" y="1060"/>
                    </a:lnTo>
                    <a:lnTo>
                      <a:pt x="463" y="1094"/>
                    </a:lnTo>
                    <a:lnTo>
                      <a:pt x="448" y="1117"/>
                    </a:lnTo>
                    <a:lnTo>
                      <a:pt x="442" y="1126"/>
                    </a:lnTo>
                    <a:lnTo>
                      <a:pt x="440" y="1129"/>
                    </a:lnTo>
                    <a:lnTo>
                      <a:pt x="433" y="1134"/>
                    </a:lnTo>
                    <a:lnTo>
                      <a:pt x="423" y="1140"/>
                    </a:lnTo>
                    <a:lnTo>
                      <a:pt x="412" y="1141"/>
                    </a:lnTo>
                    <a:lnTo>
                      <a:pt x="399" y="1136"/>
                    </a:lnTo>
                    <a:lnTo>
                      <a:pt x="386" y="1122"/>
                    </a:lnTo>
                    <a:lnTo>
                      <a:pt x="375" y="1095"/>
                    </a:lnTo>
                    <a:lnTo>
                      <a:pt x="367" y="1052"/>
                    </a:lnTo>
                    <a:lnTo>
                      <a:pt x="366" y="1043"/>
                    </a:lnTo>
                    <a:lnTo>
                      <a:pt x="365" y="1021"/>
                    </a:lnTo>
                    <a:lnTo>
                      <a:pt x="364" y="986"/>
                    </a:lnTo>
                    <a:lnTo>
                      <a:pt x="365" y="940"/>
                    </a:lnTo>
                    <a:lnTo>
                      <a:pt x="367" y="886"/>
                    </a:lnTo>
                    <a:lnTo>
                      <a:pt x="373" y="826"/>
                    </a:lnTo>
                    <a:lnTo>
                      <a:pt x="383" y="763"/>
                    </a:lnTo>
                    <a:lnTo>
                      <a:pt x="398" y="698"/>
                    </a:lnTo>
                    <a:lnTo>
                      <a:pt x="410" y="648"/>
                    </a:lnTo>
                    <a:lnTo>
                      <a:pt x="421" y="600"/>
                    </a:lnTo>
                    <a:lnTo>
                      <a:pt x="429" y="554"/>
                    </a:lnTo>
                    <a:lnTo>
                      <a:pt x="432" y="511"/>
                    </a:lnTo>
                    <a:lnTo>
                      <a:pt x="432" y="471"/>
                    </a:lnTo>
                    <a:lnTo>
                      <a:pt x="429" y="433"/>
                    </a:lnTo>
                    <a:lnTo>
                      <a:pt x="420" y="398"/>
                    </a:lnTo>
                    <a:lnTo>
                      <a:pt x="407" y="367"/>
                    </a:lnTo>
                    <a:lnTo>
                      <a:pt x="399" y="353"/>
                    </a:lnTo>
                    <a:lnTo>
                      <a:pt x="389" y="341"/>
                    </a:lnTo>
                    <a:lnTo>
                      <a:pt x="378" y="331"/>
                    </a:lnTo>
                    <a:lnTo>
                      <a:pt x="367" y="321"/>
                    </a:lnTo>
                    <a:lnTo>
                      <a:pt x="353" y="314"/>
                    </a:lnTo>
                    <a:lnTo>
                      <a:pt x="340" y="307"/>
                    </a:lnTo>
                    <a:lnTo>
                      <a:pt x="325" y="301"/>
                    </a:lnTo>
                    <a:lnTo>
                      <a:pt x="310" y="295"/>
                    </a:lnTo>
                    <a:lnTo>
                      <a:pt x="294" y="291"/>
                    </a:lnTo>
                    <a:lnTo>
                      <a:pt x="277" y="286"/>
                    </a:lnTo>
                    <a:lnTo>
                      <a:pt x="261" y="281"/>
                    </a:lnTo>
                    <a:lnTo>
                      <a:pt x="244" y="276"/>
                    </a:lnTo>
                    <a:lnTo>
                      <a:pt x="227" y="272"/>
                    </a:lnTo>
                    <a:lnTo>
                      <a:pt x="208" y="265"/>
                    </a:lnTo>
                    <a:lnTo>
                      <a:pt x="191" y="258"/>
                    </a:lnTo>
                    <a:lnTo>
                      <a:pt x="174" y="250"/>
                    </a:lnTo>
                    <a:lnTo>
                      <a:pt x="162" y="245"/>
                    </a:lnTo>
                    <a:lnTo>
                      <a:pt x="146" y="238"/>
                    </a:lnTo>
                    <a:lnTo>
                      <a:pt x="126" y="232"/>
                    </a:lnTo>
                    <a:lnTo>
                      <a:pt x="106" y="224"/>
                    </a:lnTo>
                    <a:lnTo>
                      <a:pt x="85" y="216"/>
                    </a:lnTo>
                    <a:lnTo>
                      <a:pt x="65" y="208"/>
                    </a:lnTo>
                    <a:lnTo>
                      <a:pt x="45" y="200"/>
                    </a:lnTo>
                    <a:lnTo>
                      <a:pt x="28" y="192"/>
                    </a:lnTo>
                    <a:lnTo>
                      <a:pt x="13" y="185"/>
                    </a:lnTo>
                    <a:lnTo>
                      <a:pt x="4" y="177"/>
                    </a:lnTo>
                    <a:lnTo>
                      <a:pt x="0" y="170"/>
                    </a:lnTo>
                    <a:lnTo>
                      <a:pt x="1" y="164"/>
                    </a:lnTo>
                    <a:lnTo>
                      <a:pt x="10" y="159"/>
                    </a:lnTo>
                    <a:lnTo>
                      <a:pt x="27" y="155"/>
                    </a:lnTo>
                    <a:lnTo>
                      <a:pt x="53" y="151"/>
                    </a:lnTo>
                    <a:lnTo>
                      <a:pt x="90" y="150"/>
                    </a:lnTo>
                    <a:lnTo>
                      <a:pt x="92" y="150"/>
                    </a:lnTo>
                    <a:lnTo>
                      <a:pt x="99" y="150"/>
                    </a:lnTo>
                    <a:lnTo>
                      <a:pt x="110" y="149"/>
                    </a:lnTo>
                    <a:lnTo>
                      <a:pt x="126" y="148"/>
                    </a:lnTo>
                    <a:lnTo>
                      <a:pt x="145" y="145"/>
                    </a:lnTo>
                    <a:lnTo>
                      <a:pt x="166" y="143"/>
                    </a:lnTo>
                    <a:lnTo>
                      <a:pt x="191" y="139"/>
                    </a:lnTo>
                    <a:lnTo>
                      <a:pt x="219" y="134"/>
                    </a:lnTo>
                    <a:lnTo>
                      <a:pt x="248" y="128"/>
                    </a:lnTo>
                    <a:lnTo>
                      <a:pt x="279" y="122"/>
                    </a:lnTo>
                    <a:lnTo>
                      <a:pt x="311" y="113"/>
                    </a:lnTo>
                    <a:lnTo>
                      <a:pt x="344" y="104"/>
                    </a:lnTo>
                    <a:lnTo>
                      <a:pt x="378" y="93"/>
                    </a:lnTo>
                    <a:lnTo>
                      <a:pt x="413" y="81"/>
                    </a:lnTo>
                    <a:lnTo>
                      <a:pt x="447" y="67"/>
                    </a:lnTo>
                    <a:lnTo>
                      <a:pt x="480" y="51"/>
                    </a:lnTo>
                    <a:lnTo>
                      <a:pt x="483" y="50"/>
                    </a:lnTo>
                    <a:lnTo>
                      <a:pt x="491" y="47"/>
                    </a:lnTo>
                    <a:lnTo>
                      <a:pt x="504" y="44"/>
                    </a:lnTo>
                    <a:lnTo>
                      <a:pt x="521" y="37"/>
                    </a:lnTo>
                    <a:lnTo>
                      <a:pt x="542" y="31"/>
                    </a:lnTo>
                    <a:lnTo>
                      <a:pt x="566" y="25"/>
                    </a:lnTo>
                    <a:lnTo>
                      <a:pt x="592" y="19"/>
                    </a:lnTo>
                    <a:lnTo>
                      <a:pt x="619" y="13"/>
                    </a:lnTo>
                    <a:lnTo>
                      <a:pt x="648" y="8"/>
                    </a:lnTo>
                    <a:lnTo>
                      <a:pt x="677" y="4"/>
                    </a:lnTo>
                    <a:lnTo>
                      <a:pt x="706" y="1"/>
                    </a:lnTo>
                    <a:lnTo>
                      <a:pt x="735" y="0"/>
                    </a:lnTo>
                    <a:lnTo>
                      <a:pt x="761" y="1"/>
                    </a:lnTo>
                    <a:lnTo>
                      <a:pt x="786" y="5"/>
                    </a:lnTo>
                    <a:lnTo>
                      <a:pt x="808" y="13"/>
                    </a:lnTo>
                    <a:lnTo>
                      <a:pt x="82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353400">
                <a:off x="7245360" y="1848960"/>
                <a:ext cx="1398240" cy="1054440"/>
              </a:xfrm>
              <a:custGeom>
                <a:avLst/>
                <a:gdLst/>
                <a:ahLst/>
                <a:rect l="l" t="t" r="r" b="b"/>
                <a:pathLst>
                  <a:path w="1115" h="1003">
                    <a:moveTo>
                      <a:pt x="0" y="501"/>
                    </a:moveTo>
                    <a:lnTo>
                      <a:pt x="4" y="552"/>
                    </a:lnTo>
                    <a:lnTo>
                      <a:pt x="12" y="603"/>
                    </a:lnTo>
                    <a:lnTo>
                      <a:pt x="25" y="651"/>
                    </a:lnTo>
                    <a:lnTo>
                      <a:pt x="43" y="697"/>
                    </a:lnTo>
                    <a:lnTo>
                      <a:pt x="67" y="740"/>
                    </a:lnTo>
                    <a:lnTo>
                      <a:pt x="95" y="783"/>
                    </a:lnTo>
                    <a:lnTo>
                      <a:pt x="128" y="821"/>
                    </a:lnTo>
                    <a:lnTo>
                      <a:pt x="163" y="856"/>
                    </a:lnTo>
                    <a:lnTo>
                      <a:pt x="203" y="889"/>
                    </a:lnTo>
                    <a:lnTo>
                      <a:pt x="245" y="918"/>
                    </a:lnTo>
                    <a:lnTo>
                      <a:pt x="292" y="942"/>
                    </a:lnTo>
                    <a:lnTo>
                      <a:pt x="340" y="963"/>
                    </a:lnTo>
                    <a:lnTo>
                      <a:pt x="392" y="981"/>
                    </a:lnTo>
                    <a:lnTo>
                      <a:pt x="445" y="993"/>
                    </a:lnTo>
                    <a:lnTo>
                      <a:pt x="500" y="1001"/>
                    </a:lnTo>
                    <a:lnTo>
                      <a:pt x="557" y="1003"/>
                    </a:lnTo>
                    <a:lnTo>
                      <a:pt x="614" y="1001"/>
                    </a:lnTo>
                    <a:lnTo>
                      <a:pt x="670" y="993"/>
                    </a:lnTo>
                    <a:lnTo>
                      <a:pt x="722" y="981"/>
                    </a:lnTo>
                    <a:lnTo>
                      <a:pt x="774" y="963"/>
                    </a:lnTo>
                    <a:lnTo>
                      <a:pt x="823" y="942"/>
                    </a:lnTo>
                    <a:lnTo>
                      <a:pt x="869" y="918"/>
                    </a:lnTo>
                    <a:lnTo>
                      <a:pt x="912" y="889"/>
                    </a:lnTo>
                    <a:lnTo>
                      <a:pt x="952" y="856"/>
                    </a:lnTo>
                    <a:lnTo>
                      <a:pt x="987" y="821"/>
                    </a:lnTo>
                    <a:lnTo>
                      <a:pt x="1019" y="783"/>
                    </a:lnTo>
                    <a:lnTo>
                      <a:pt x="1048" y="740"/>
                    </a:lnTo>
                    <a:lnTo>
                      <a:pt x="1072" y="697"/>
                    </a:lnTo>
                    <a:lnTo>
                      <a:pt x="1090" y="651"/>
                    </a:lnTo>
                    <a:lnTo>
                      <a:pt x="1104" y="603"/>
                    </a:lnTo>
                    <a:lnTo>
                      <a:pt x="1112" y="552"/>
                    </a:lnTo>
                    <a:lnTo>
                      <a:pt x="1115" y="501"/>
                    </a:lnTo>
                    <a:lnTo>
                      <a:pt x="1112" y="451"/>
                    </a:lnTo>
                    <a:lnTo>
                      <a:pt x="1104" y="400"/>
                    </a:lnTo>
                    <a:lnTo>
                      <a:pt x="1090" y="352"/>
                    </a:lnTo>
                    <a:lnTo>
                      <a:pt x="1072" y="306"/>
                    </a:lnTo>
                    <a:lnTo>
                      <a:pt x="1048" y="262"/>
                    </a:lnTo>
                    <a:lnTo>
                      <a:pt x="1019" y="220"/>
                    </a:lnTo>
                    <a:lnTo>
                      <a:pt x="987" y="182"/>
                    </a:lnTo>
                    <a:lnTo>
                      <a:pt x="952" y="146"/>
                    </a:lnTo>
                    <a:lnTo>
                      <a:pt x="912" y="114"/>
                    </a:lnTo>
                    <a:lnTo>
                      <a:pt x="869" y="85"/>
                    </a:lnTo>
                    <a:lnTo>
                      <a:pt x="823" y="60"/>
                    </a:lnTo>
                    <a:lnTo>
                      <a:pt x="774" y="39"/>
                    </a:lnTo>
                    <a:lnTo>
                      <a:pt x="722" y="22"/>
                    </a:lnTo>
                    <a:lnTo>
                      <a:pt x="670" y="10"/>
                    </a:lnTo>
                    <a:lnTo>
                      <a:pt x="614" y="2"/>
                    </a:lnTo>
                    <a:lnTo>
                      <a:pt x="557" y="0"/>
                    </a:lnTo>
                    <a:lnTo>
                      <a:pt x="500" y="2"/>
                    </a:lnTo>
                    <a:lnTo>
                      <a:pt x="445" y="10"/>
                    </a:lnTo>
                    <a:lnTo>
                      <a:pt x="392" y="22"/>
                    </a:lnTo>
                    <a:lnTo>
                      <a:pt x="340" y="39"/>
                    </a:lnTo>
                    <a:lnTo>
                      <a:pt x="292" y="60"/>
                    </a:lnTo>
                    <a:lnTo>
                      <a:pt x="245" y="85"/>
                    </a:lnTo>
                    <a:lnTo>
                      <a:pt x="203" y="114"/>
                    </a:lnTo>
                    <a:lnTo>
                      <a:pt x="163" y="146"/>
                    </a:lnTo>
                    <a:lnTo>
                      <a:pt x="128" y="182"/>
                    </a:lnTo>
                    <a:lnTo>
                      <a:pt x="95" y="220"/>
                    </a:lnTo>
                    <a:lnTo>
                      <a:pt x="67" y="262"/>
                    </a:lnTo>
                    <a:lnTo>
                      <a:pt x="43" y="306"/>
                    </a:lnTo>
                    <a:lnTo>
                      <a:pt x="25" y="352"/>
                    </a:lnTo>
                    <a:lnTo>
                      <a:pt x="12" y="400"/>
                    </a:lnTo>
                    <a:lnTo>
                      <a:pt x="4" y="45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353400">
                <a:off x="7313040" y="1905120"/>
                <a:ext cx="1260720" cy="941040"/>
              </a:xfrm>
              <a:custGeom>
                <a:avLst/>
                <a:gdLst/>
                <a:ahLst/>
                <a:rect l="l" t="t" r="r" b="b"/>
                <a:pathLst>
                  <a:path w="1005" h="897">
                    <a:moveTo>
                      <a:pt x="0" y="448"/>
                    </a:moveTo>
                    <a:lnTo>
                      <a:pt x="2" y="494"/>
                    </a:lnTo>
                    <a:lnTo>
                      <a:pt x="10" y="539"/>
                    </a:lnTo>
                    <a:lnTo>
                      <a:pt x="23" y="582"/>
                    </a:lnTo>
                    <a:lnTo>
                      <a:pt x="40" y="623"/>
                    </a:lnTo>
                    <a:lnTo>
                      <a:pt x="60" y="663"/>
                    </a:lnTo>
                    <a:lnTo>
                      <a:pt x="85" y="700"/>
                    </a:lnTo>
                    <a:lnTo>
                      <a:pt x="114" y="735"/>
                    </a:lnTo>
                    <a:lnTo>
                      <a:pt x="147" y="765"/>
                    </a:lnTo>
                    <a:lnTo>
                      <a:pt x="182" y="795"/>
                    </a:lnTo>
                    <a:lnTo>
                      <a:pt x="221" y="820"/>
                    </a:lnTo>
                    <a:lnTo>
                      <a:pt x="262" y="844"/>
                    </a:lnTo>
                    <a:lnTo>
                      <a:pt x="307" y="862"/>
                    </a:lnTo>
                    <a:lnTo>
                      <a:pt x="353" y="877"/>
                    </a:lnTo>
                    <a:lnTo>
                      <a:pt x="400" y="888"/>
                    </a:lnTo>
                    <a:lnTo>
                      <a:pt x="451" y="894"/>
                    </a:lnTo>
                    <a:lnTo>
                      <a:pt x="502" y="897"/>
                    </a:lnTo>
                    <a:lnTo>
                      <a:pt x="553" y="894"/>
                    </a:lnTo>
                    <a:lnTo>
                      <a:pt x="604" y="888"/>
                    </a:lnTo>
                    <a:lnTo>
                      <a:pt x="652" y="877"/>
                    </a:lnTo>
                    <a:lnTo>
                      <a:pt x="698" y="862"/>
                    </a:lnTo>
                    <a:lnTo>
                      <a:pt x="742" y="844"/>
                    </a:lnTo>
                    <a:lnTo>
                      <a:pt x="784" y="820"/>
                    </a:lnTo>
                    <a:lnTo>
                      <a:pt x="823" y="795"/>
                    </a:lnTo>
                    <a:lnTo>
                      <a:pt x="858" y="765"/>
                    </a:lnTo>
                    <a:lnTo>
                      <a:pt x="890" y="735"/>
                    </a:lnTo>
                    <a:lnTo>
                      <a:pt x="920" y="700"/>
                    </a:lnTo>
                    <a:lnTo>
                      <a:pt x="945" y="663"/>
                    </a:lnTo>
                    <a:lnTo>
                      <a:pt x="965" y="623"/>
                    </a:lnTo>
                    <a:lnTo>
                      <a:pt x="982" y="582"/>
                    </a:lnTo>
                    <a:lnTo>
                      <a:pt x="995" y="539"/>
                    </a:lnTo>
                    <a:lnTo>
                      <a:pt x="1003" y="494"/>
                    </a:lnTo>
                    <a:lnTo>
                      <a:pt x="1005" y="448"/>
                    </a:lnTo>
                    <a:lnTo>
                      <a:pt x="1003" y="403"/>
                    </a:lnTo>
                    <a:lnTo>
                      <a:pt x="995" y="358"/>
                    </a:lnTo>
                    <a:lnTo>
                      <a:pt x="982" y="315"/>
                    </a:lnTo>
                    <a:lnTo>
                      <a:pt x="965" y="274"/>
                    </a:lnTo>
                    <a:lnTo>
                      <a:pt x="945" y="234"/>
                    </a:lnTo>
                    <a:lnTo>
                      <a:pt x="920" y="198"/>
                    </a:lnTo>
                    <a:lnTo>
                      <a:pt x="890" y="164"/>
                    </a:lnTo>
                    <a:lnTo>
                      <a:pt x="858" y="131"/>
                    </a:lnTo>
                    <a:lnTo>
                      <a:pt x="823" y="103"/>
                    </a:lnTo>
                    <a:lnTo>
                      <a:pt x="784" y="77"/>
                    </a:lnTo>
                    <a:lnTo>
                      <a:pt x="742" y="55"/>
                    </a:lnTo>
                    <a:lnTo>
                      <a:pt x="698" y="35"/>
                    </a:lnTo>
                    <a:lnTo>
                      <a:pt x="652" y="20"/>
                    </a:lnTo>
                    <a:lnTo>
                      <a:pt x="604" y="9"/>
                    </a:lnTo>
                    <a:lnTo>
                      <a:pt x="553" y="3"/>
                    </a:lnTo>
                    <a:lnTo>
                      <a:pt x="502" y="0"/>
                    </a:lnTo>
                    <a:lnTo>
                      <a:pt x="451" y="3"/>
                    </a:lnTo>
                    <a:lnTo>
                      <a:pt x="400" y="9"/>
                    </a:lnTo>
                    <a:lnTo>
                      <a:pt x="353" y="20"/>
                    </a:lnTo>
                    <a:lnTo>
                      <a:pt x="307" y="35"/>
                    </a:lnTo>
                    <a:lnTo>
                      <a:pt x="262" y="55"/>
                    </a:lnTo>
                    <a:lnTo>
                      <a:pt x="221" y="77"/>
                    </a:lnTo>
                    <a:lnTo>
                      <a:pt x="182" y="103"/>
                    </a:lnTo>
                    <a:lnTo>
                      <a:pt x="147" y="131"/>
                    </a:lnTo>
                    <a:lnTo>
                      <a:pt x="114" y="164"/>
                    </a:lnTo>
                    <a:lnTo>
                      <a:pt x="85" y="198"/>
                    </a:lnTo>
                    <a:lnTo>
                      <a:pt x="60" y="234"/>
                    </a:lnTo>
                    <a:lnTo>
                      <a:pt x="40" y="274"/>
                    </a:lnTo>
                    <a:lnTo>
                      <a:pt x="23" y="315"/>
                    </a:lnTo>
                    <a:lnTo>
                      <a:pt x="10" y="358"/>
                    </a:lnTo>
                    <a:lnTo>
                      <a:pt x="2" y="403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353400">
                <a:off x="7948080" y="2329920"/>
                <a:ext cx="72720" cy="123480"/>
              </a:xfrm>
              <a:custGeom>
                <a:avLst/>
                <a:gdLst/>
                <a:ahLst/>
                <a:rect l="l" t="t" r="r" b="b"/>
                <a:pathLst>
                  <a:path w="57" h="119">
                    <a:moveTo>
                      <a:pt x="0" y="60"/>
                    </a:moveTo>
                    <a:lnTo>
                      <a:pt x="2" y="82"/>
                    </a:lnTo>
                    <a:lnTo>
                      <a:pt x="9" y="102"/>
                    </a:lnTo>
                    <a:lnTo>
                      <a:pt x="18" y="114"/>
                    </a:lnTo>
                    <a:lnTo>
                      <a:pt x="28" y="119"/>
                    </a:lnTo>
                    <a:lnTo>
                      <a:pt x="40" y="114"/>
                    </a:lnTo>
                    <a:lnTo>
                      <a:pt x="49" y="102"/>
                    </a:lnTo>
                    <a:lnTo>
                      <a:pt x="55" y="82"/>
                    </a:lnTo>
                    <a:lnTo>
                      <a:pt x="57" y="60"/>
                    </a:lnTo>
                    <a:lnTo>
                      <a:pt x="55" y="36"/>
                    </a:lnTo>
                    <a:lnTo>
                      <a:pt x="49" y="17"/>
                    </a:lnTo>
                    <a:lnTo>
                      <a:pt x="40" y="5"/>
                    </a:lnTo>
                    <a:lnTo>
                      <a:pt x="28" y="0"/>
                    </a:lnTo>
                    <a:lnTo>
                      <a:pt x="18" y="5"/>
                    </a:lnTo>
                    <a:lnTo>
                      <a:pt x="9" y="17"/>
                    </a:lnTo>
                    <a:lnTo>
                      <a:pt x="2" y="36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353400">
                <a:off x="7407000" y="2231280"/>
                <a:ext cx="57960" cy="108720"/>
              </a:xfrm>
              <a:custGeom>
                <a:avLst/>
                <a:gdLst/>
                <a:ahLst/>
                <a:rect l="l" t="t" r="r" b="b"/>
                <a:pathLst>
                  <a:path w="45" h="106">
                    <a:moveTo>
                      <a:pt x="0" y="52"/>
                    </a:moveTo>
                    <a:lnTo>
                      <a:pt x="2" y="74"/>
                    </a:lnTo>
                    <a:lnTo>
                      <a:pt x="6" y="90"/>
                    </a:lnTo>
                    <a:lnTo>
                      <a:pt x="13" y="102"/>
                    </a:lnTo>
                    <a:lnTo>
                      <a:pt x="22" y="106"/>
                    </a:lnTo>
                    <a:lnTo>
                      <a:pt x="31" y="102"/>
                    </a:lnTo>
                    <a:lnTo>
                      <a:pt x="38" y="90"/>
                    </a:lnTo>
                    <a:lnTo>
                      <a:pt x="43" y="74"/>
                    </a:lnTo>
                    <a:lnTo>
                      <a:pt x="45" y="52"/>
                    </a:lnTo>
                    <a:lnTo>
                      <a:pt x="43" y="33"/>
                    </a:lnTo>
                    <a:lnTo>
                      <a:pt x="38" y="15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13" y="4"/>
                    </a:lnTo>
                    <a:lnTo>
                      <a:pt x="6" y="15"/>
                    </a:lnTo>
                    <a:lnTo>
                      <a:pt x="2" y="3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353400">
                <a:off x="8143560" y="3529440"/>
                <a:ext cx="177840" cy="14688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82" y="1"/>
                    </a:moveTo>
                    <a:lnTo>
                      <a:pt x="85" y="2"/>
                    </a:lnTo>
                    <a:lnTo>
                      <a:pt x="90" y="5"/>
                    </a:lnTo>
                    <a:lnTo>
                      <a:pt x="99" y="11"/>
                    </a:lnTo>
                    <a:lnTo>
                      <a:pt x="110" y="18"/>
                    </a:lnTo>
                    <a:lnTo>
                      <a:pt x="120" y="28"/>
                    </a:lnTo>
                    <a:lnTo>
                      <a:pt x="129" y="40"/>
                    </a:lnTo>
                    <a:lnTo>
                      <a:pt x="137" y="57"/>
                    </a:lnTo>
                    <a:lnTo>
                      <a:pt x="142" y="74"/>
                    </a:lnTo>
                    <a:lnTo>
                      <a:pt x="140" y="78"/>
                    </a:lnTo>
                    <a:lnTo>
                      <a:pt x="138" y="86"/>
                    </a:lnTo>
                    <a:lnTo>
                      <a:pt x="134" y="99"/>
                    </a:lnTo>
                    <a:lnTo>
                      <a:pt x="127" y="112"/>
                    </a:lnTo>
                    <a:lnTo>
                      <a:pt x="116" y="125"/>
                    </a:lnTo>
                    <a:lnTo>
                      <a:pt x="103" y="135"/>
                    </a:lnTo>
                    <a:lnTo>
                      <a:pt x="86" y="138"/>
                    </a:lnTo>
                    <a:lnTo>
                      <a:pt x="65" y="135"/>
                    </a:lnTo>
                    <a:lnTo>
                      <a:pt x="53" y="130"/>
                    </a:lnTo>
                    <a:lnTo>
                      <a:pt x="45" y="125"/>
                    </a:lnTo>
                    <a:lnTo>
                      <a:pt x="41" y="118"/>
                    </a:lnTo>
                    <a:lnTo>
                      <a:pt x="40" y="112"/>
                    </a:lnTo>
                    <a:lnTo>
                      <a:pt x="41" y="106"/>
                    </a:lnTo>
                    <a:lnTo>
                      <a:pt x="43" y="99"/>
                    </a:lnTo>
                    <a:lnTo>
                      <a:pt x="47" y="90"/>
                    </a:lnTo>
                    <a:lnTo>
                      <a:pt x="49" y="80"/>
                    </a:lnTo>
                    <a:lnTo>
                      <a:pt x="49" y="63"/>
                    </a:lnTo>
                    <a:lnTo>
                      <a:pt x="45" y="50"/>
                    </a:lnTo>
                    <a:lnTo>
                      <a:pt x="38" y="45"/>
                    </a:lnTo>
                    <a:lnTo>
                      <a:pt x="30" y="44"/>
                    </a:lnTo>
                    <a:lnTo>
                      <a:pt x="24" y="45"/>
                    </a:lnTo>
                    <a:lnTo>
                      <a:pt x="17" y="47"/>
                    </a:lnTo>
                    <a:lnTo>
                      <a:pt x="10" y="45"/>
                    </a:lnTo>
                    <a:lnTo>
                      <a:pt x="5" y="44"/>
                    </a:lnTo>
                    <a:lnTo>
                      <a:pt x="1" y="42"/>
                    </a:lnTo>
                    <a:lnTo>
                      <a:pt x="0" y="38"/>
                    </a:lnTo>
                    <a:lnTo>
                      <a:pt x="4" y="32"/>
                    </a:lnTo>
                    <a:lnTo>
                      <a:pt x="11" y="26"/>
                    </a:lnTo>
                    <a:lnTo>
                      <a:pt x="22" y="19"/>
                    </a:lnTo>
                    <a:lnTo>
                      <a:pt x="32" y="13"/>
                    </a:lnTo>
                    <a:lnTo>
                      <a:pt x="42" y="8"/>
                    </a:lnTo>
                    <a:lnTo>
                      <a:pt x="53" y="5"/>
                    </a:lnTo>
                    <a:lnTo>
                      <a:pt x="62" y="1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353400">
                <a:off x="7361280" y="4018680"/>
                <a:ext cx="257760" cy="1216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78" y="6"/>
                    </a:moveTo>
                    <a:lnTo>
                      <a:pt x="182" y="11"/>
                    </a:lnTo>
                    <a:lnTo>
                      <a:pt x="189" y="22"/>
                    </a:lnTo>
                    <a:lnTo>
                      <a:pt x="199" y="39"/>
                    </a:lnTo>
                    <a:lnTo>
                      <a:pt x="205" y="58"/>
                    </a:lnTo>
                    <a:lnTo>
                      <a:pt x="207" y="78"/>
                    </a:lnTo>
                    <a:lnTo>
                      <a:pt x="199" y="95"/>
                    </a:lnTo>
                    <a:lnTo>
                      <a:pt x="178" y="109"/>
                    </a:lnTo>
                    <a:lnTo>
                      <a:pt x="143" y="115"/>
                    </a:lnTo>
                    <a:lnTo>
                      <a:pt x="121" y="116"/>
                    </a:lnTo>
                    <a:lnTo>
                      <a:pt x="99" y="116"/>
                    </a:lnTo>
                    <a:lnTo>
                      <a:pt x="80" y="115"/>
                    </a:lnTo>
                    <a:lnTo>
                      <a:pt x="62" y="114"/>
                    </a:lnTo>
                    <a:lnTo>
                      <a:pt x="45" y="111"/>
                    </a:lnTo>
                    <a:lnTo>
                      <a:pt x="31" y="107"/>
                    </a:lnTo>
                    <a:lnTo>
                      <a:pt x="18" y="104"/>
                    </a:lnTo>
                    <a:lnTo>
                      <a:pt x="9" y="98"/>
                    </a:lnTo>
                    <a:lnTo>
                      <a:pt x="3" y="91"/>
                    </a:lnTo>
                    <a:lnTo>
                      <a:pt x="0" y="83"/>
                    </a:lnTo>
                    <a:lnTo>
                      <a:pt x="1" y="74"/>
                    </a:lnTo>
                    <a:lnTo>
                      <a:pt x="6" y="63"/>
                    </a:lnTo>
                    <a:lnTo>
                      <a:pt x="14" y="49"/>
                    </a:lnTo>
                    <a:lnTo>
                      <a:pt x="27" y="34"/>
                    </a:lnTo>
                    <a:lnTo>
                      <a:pt x="45" y="18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8" y="5"/>
                    </a:lnTo>
                    <a:lnTo>
                      <a:pt x="89" y="10"/>
                    </a:lnTo>
                    <a:lnTo>
                      <a:pt x="104" y="15"/>
                    </a:lnTo>
                    <a:lnTo>
                      <a:pt x="121" y="18"/>
                    </a:lnTo>
                    <a:lnTo>
                      <a:pt x="139" y="18"/>
                    </a:lnTo>
                    <a:lnTo>
                      <a:pt x="159" y="15"/>
                    </a:lnTo>
                    <a:lnTo>
                      <a:pt x="17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353400">
                <a:off x="7389000" y="3995640"/>
                <a:ext cx="278280" cy="62640"/>
              </a:xfrm>
              <a:custGeom>
                <a:avLst/>
                <a:gdLst/>
                <a:ahLst/>
                <a:rect l="l" t="t" r="r" b="b"/>
                <a:pathLst>
                  <a:path w="223" h="59">
                    <a:moveTo>
                      <a:pt x="0" y="12"/>
                    </a:moveTo>
                    <a:lnTo>
                      <a:pt x="1" y="17"/>
                    </a:lnTo>
                    <a:lnTo>
                      <a:pt x="7" y="23"/>
                    </a:lnTo>
                    <a:lnTo>
                      <a:pt x="17" y="28"/>
                    </a:lnTo>
                    <a:lnTo>
                      <a:pt x="31" y="34"/>
                    </a:lnTo>
                    <a:lnTo>
                      <a:pt x="47" y="39"/>
                    </a:lnTo>
                    <a:lnTo>
                      <a:pt x="65" y="44"/>
                    </a:lnTo>
                    <a:lnTo>
                      <a:pt x="86" y="49"/>
                    </a:lnTo>
                    <a:lnTo>
                      <a:pt x="109" y="53"/>
                    </a:lnTo>
                    <a:lnTo>
                      <a:pt x="131" y="55"/>
                    </a:lnTo>
                    <a:lnTo>
                      <a:pt x="152" y="58"/>
                    </a:lnTo>
                    <a:lnTo>
                      <a:pt x="171" y="59"/>
                    </a:lnTo>
                    <a:lnTo>
                      <a:pt x="188" y="58"/>
                    </a:lnTo>
                    <a:lnTo>
                      <a:pt x="202" y="57"/>
                    </a:lnTo>
                    <a:lnTo>
                      <a:pt x="214" y="54"/>
                    </a:lnTo>
                    <a:lnTo>
                      <a:pt x="220" y="50"/>
                    </a:lnTo>
                    <a:lnTo>
                      <a:pt x="223" y="45"/>
                    </a:lnTo>
                    <a:lnTo>
                      <a:pt x="222" y="41"/>
                    </a:lnTo>
                    <a:lnTo>
                      <a:pt x="216" y="34"/>
                    </a:lnTo>
                    <a:lnTo>
                      <a:pt x="206" y="29"/>
                    </a:lnTo>
                    <a:lnTo>
                      <a:pt x="193" y="23"/>
                    </a:lnTo>
                    <a:lnTo>
                      <a:pt x="176" y="18"/>
                    </a:lnTo>
                    <a:lnTo>
                      <a:pt x="158" y="13"/>
                    </a:lnTo>
                    <a:lnTo>
                      <a:pt x="137" y="8"/>
                    </a:lnTo>
                    <a:lnTo>
                      <a:pt x="114" y="5"/>
                    </a:lnTo>
                    <a:lnTo>
                      <a:pt x="91" y="2"/>
                    </a:lnTo>
                    <a:lnTo>
                      <a:pt x="71" y="0"/>
                    </a:lnTo>
                    <a:lnTo>
                      <a:pt x="52" y="0"/>
                    </a:lnTo>
                    <a:lnTo>
                      <a:pt x="34" y="0"/>
                    </a:lnTo>
                    <a:lnTo>
                      <a:pt x="21" y="1"/>
                    </a:lnTo>
                    <a:lnTo>
                      <a:pt x="9" y="3"/>
                    </a:lnTo>
                    <a:lnTo>
                      <a:pt x="2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353400">
                <a:off x="8105040" y="4081680"/>
                <a:ext cx="276120" cy="81720"/>
              </a:xfrm>
              <a:custGeom>
                <a:avLst/>
                <a:gdLst/>
                <a:ahLst/>
                <a:rect l="l" t="t" r="r" b="b"/>
                <a:pathLst>
                  <a:path w="219" h="78">
                    <a:moveTo>
                      <a:pt x="0" y="69"/>
                    </a:moveTo>
                    <a:lnTo>
                      <a:pt x="3" y="73"/>
                    </a:lnTo>
                    <a:lnTo>
                      <a:pt x="11" y="77"/>
                    </a:lnTo>
                    <a:lnTo>
                      <a:pt x="21" y="78"/>
                    </a:lnTo>
                    <a:lnTo>
                      <a:pt x="36" y="77"/>
                    </a:lnTo>
                    <a:lnTo>
                      <a:pt x="53" y="76"/>
                    </a:lnTo>
                    <a:lnTo>
                      <a:pt x="72" y="73"/>
                    </a:lnTo>
                    <a:lnTo>
                      <a:pt x="93" y="68"/>
                    </a:lnTo>
                    <a:lnTo>
                      <a:pt x="115" y="63"/>
                    </a:lnTo>
                    <a:lnTo>
                      <a:pt x="137" y="57"/>
                    </a:lnTo>
                    <a:lnTo>
                      <a:pt x="157" y="50"/>
                    </a:lnTo>
                    <a:lnTo>
                      <a:pt x="175" y="42"/>
                    </a:lnTo>
                    <a:lnTo>
                      <a:pt x="191" y="35"/>
                    </a:lnTo>
                    <a:lnTo>
                      <a:pt x="204" y="27"/>
                    </a:lnTo>
                    <a:lnTo>
                      <a:pt x="213" y="21"/>
                    </a:lnTo>
                    <a:lnTo>
                      <a:pt x="218" y="14"/>
                    </a:lnTo>
                    <a:lnTo>
                      <a:pt x="219" y="9"/>
                    </a:lnTo>
                    <a:lnTo>
                      <a:pt x="215" y="5"/>
                    </a:lnTo>
                    <a:lnTo>
                      <a:pt x="207" y="1"/>
                    </a:lnTo>
                    <a:lnTo>
                      <a:pt x="197" y="0"/>
                    </a:lnTo>
                    <a:lnTo>
                      <a:pt x="182" y="1"/>
                    </a:lnTo>
                    <a:lnTo>
                      <a:pt x="165" y="3"/>
                    </a:lnTo>
                    <a:lnTo>
                      <a:pt x="147" y="6"/>
                    </a:lnTo>
                    <a:lnTo>
                      <a:pt x="125" y="10"/>
                    </a:lnTo>
                    <a:lnTo>
                      <a:pt x="103" y="16"/>
                    </a:lnTo>
                    <a:lnTo>
                      <a:pt x="82" y="22"/>
                    </a:lnTo>
                    <a:lnTo>
                      <a:pt x="61" y="30"/>
                    </a:lnTo>
                    <a:lnTo>
                      <a:pt x="43" y="37"/>
                    </a:lnTo>
                    <a:lnTo>
                      <a:pt x="28" y="45"/>
                    </a:lnTo>
                    <a:lnTo>
                      <a:pt x="16" y="51"/>
                    </a:lnTo>
                    <a:lnTo>
                      <a:pt x="6" y="58"/>
                    </a:lnTo>
                    <a:lnTo>
                      <a:pt x="1" y="6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353400">
                <a:off x="7529400" y="241272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45" y="0"/>
                    </a:moveTo>
                    <a:lnTo>
                      <a:pt x="41" y="1"/>
                    </a:lnTo>
                    <a:lnTo>
                      <a:pt x="32" y="5"/>
                    </a:lnTo>
                    <a:lnTo>
                      <a:pt x="21" y="13"/>
                    </a:lnTo>
                    <a:lnTo>
                      <a:pt x="10" y="23"/>
                    </a:lnTo>
                    <a:lnTo>
                      <a:pt x="2" y="35"/>
                    </a:lnTo>
                    <a:lnTo>
                      <a:pt x="0" y="52"/>
                    </a:lnTo>
                    <a:lnTo>
                      <a:pt x="6" y="72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7" y="99"/>
                    </a:lnTo>
                    <a:lnTo>
                      <a:pt x="44" y="97"/>
                    </a:lnTo>
                    <a:lnTo>
                      <a:pt x="42" y="87"/>
                    </a:lnTo>
                    <a:lnTo>
                      <a:pt x="37" y="80"/>
                    </a:lnTo>
                    <a:lnTo>
                      <a:pt x="30" y="72"/>
                    </a:lnTo>
                    <a:lnTo>
                      <a:pt x="22" y="65"/>
                    </a:lnTo>
                    <a:lnTo>
                      <a:pt x="16" y="56"/>
                    </a:lnTo>
                    <a:lnTo>
                      <a:pt x="13" y="46"/>
                    </a:lnTo>
                    <a:lnTo>
                      <a:pt x="16" y="34"/>
                    </a:lnTo>
                    <a:lnTo>
                      <a:pt x="25" y="1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353400">
                <a:off x="7862400" y="2480400"/>
                <a:ext cx="323280" cy="22644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58" y="109"/>
                    </a:moveTo>
                    <a:lnTo>
                      <a:pt x="256" y="131"/>
                    </a:lnTo>
                    <a:lnTo>
                      <a:pt x="248" y="151"/>
                    </a:lnTo>
                    <a:lnTo>
                      <a:pt x="236" y="170"/>
                    </a:lnTo>
                    <a:lnTo>
                      <a:pt x="220" y="184"/>
                    </a:lnTo>
                    <a:lnTo>
                      <a:pt x="201" y="198"/>
                    </a:lnTo>
                    <a:lnTo>
                      <a:pt x="179" y="208"/>
                    </a:lnTo>
                    <a:lnTo>
                      <a:pt x="155" y="214"/>
                    </a:lnTo>
                    <a:lnTo>
                      <a:pt x="129" y="217"/>
                    </a:lnTo>
                    <a:lnTo>
                      <a:pt x="103" y="214"/>
                    </a:lnTo>
                    <a:lnTo>
                      <a:pt x="79" y="208"/>
                    </a:lnTo>
                    <a:lnTo>
                      <a:pt x="57" y="198"/>
                    </a:lnTo>
                    <a:lnTo>
                      <a:pt x="38" y="184"/>
                    </a:lnTo>
                    <a:lnTo>
                      <a:pt x="22" y="170"/>
                    </a:lnTo>
                    <a:lnTo>
                      <a:pt x="11" y="151"/>
                    </a:lnTo>
                    <a:lnTo>
                      <a:pt x="3" y="131"/>
                    </a:lnTo>
                    <a:lnTo>
                      <a:pt x="0" y="109"/>
                    </a:lnTo>
                    <a:lnTo>
                      <a:pt x="3" y="87"/>
                    </a:lnTo>
                    <a:lnTo>
                      <a:pt x="11" y="67"/>
                    </a:lnTo>
                    <a:lnTo>
                      <a:pt x="22" y="48"/>
                    </a:lnTo>
                    <a:lnTo>
                      <a:pt x="38" y="32"/>
                    </a:lnTo>
                    <a:lnTo>
                      <a:pt x="57" y="18"/>
                    </a:lnTo>
                    <a:lnTo>
                      <a:pt x="79" y="9"/>
                    </a:lnTo>
                    <a:lnTo>
                      <a:pt x="103" y="2"/>
                    </a:lnTo>
                    <a:lnTo>
                      <a:pt x="129" y="0"/>
                    </a:lnTo>
                    <a:lnTo>
                      <a:pt x="155" y="2"/>
                    </a:lnTo>
                    <a:lnTo>
                      <a:pt x="179" y="9"/>
                    </a:lnTo>
                    <a:lnTo>
                      <a:pt x="201" y="18"/>
                    </a:lnTo>
                    <a:lnTo>
                      <a:pt x="220" y="32"/>
                    </a:lnTo>
                    <a:lnTo>
                      <a:pt x="236" y="48"/>
                    </a:lnTo>
                    <a:lnTo>
                      <a:pt x="248" y="67"/>
                    </a:lnTo>
                    <a:lnTo>
                      <a:pt x="256" y="87"/>
                    </a:lnTo>
                    <a:lnTo>
                      <a:pt x="258" y="109"/>
                    </a:lnTo>
                    <a:close/>
                  </a:path>
                </a:pathLst>
              </a:custGeom>
              <a:solidFill>
                <a:srgbClr val="ffa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353400">
                <a:off x="7323480" y="2365920"/>
                <a:ext cx="167400" cy="199440"/>
              </a:xfrm>
              <a:custGeom>
                <a:avLst/>
                <a:gdLst/>
                <a:ahLst/>
                <a:rect l="l" t="t" r="r" b="b"/>
                <a:pathLst>
                  <a:path w="134" h="188">
                    <a:moveTo>
                      <a:pt x="129" y="93"/>
                    </a:moveTo>
                    <a:lnTo>
                      <a:pt x="132" y="111"/>
                    </a:lnTo>
                    <a:lnTo>
                      <a:pt x="134" y="130"/>
                    </a:lnTo>
                    <a:lnTo>
                      <a:pt x="132" y="146"/>
                    </a:lnTo>
                    <a:lnTo>
                      <a:pt x="129" y="160"/>
                    </a:lnTo>
                    <a:lnTo>
                      <a:pt x="122" y="171"/>
                    </a:lnTo>
                    <a:lnTo>
                      <a:pt x="114" y="179"/>
                    </a:lnTo>
                    <a:lnTo>
                      <a:pt x="104" y="186"/>
                    </a:lnTo>
                    <a:lnTo>
                      <a:pt x="92" y="188"/>
                    </a:lnTo>
                    <a:lnTo>
                      <a:pt x="80" y="187"/>
                    </a:lnTo>
                    <a:lnTo>
                      <a:pt x="70" y="184"/>
                    </a:lnTo>
                    <a:lnTo>
                      <a:pt x="58" y="178"/>
                    </a:lnTo>
                    <a:lnTo>
                      <a:pt x="48" y="169"/>
                    </a:lnTo>
                    <a:lnTo>
                      <a:pt x="38" y="157"/>
                    </a:lnTo>
                    <a:lnTo>
                      <a:pt x="27" y="141"/>
                    </a:lnTo>
                    <a:lnTo>
                      <a:pt x="17" y="120"/>
                    </a:lnTo>
                    <a:lnTo>
                      <a:pt x="7" y="95"/>
                    </a:lnTo>
                    <a:lnTo>
                      <a:pt x="1" y="77"/>
                    </a:lnTo>
                    <a:lnTo>
                      <a:pt x="0" y="59"/>
                    </a:lnTo>
                    <a:lnTo>
                      <a:pt x="1" y="43"/>
                    </a:lnTo>
                    <a:lnTo>
                      <a:pt x="5" y="28"/>
                    </a:lnTo>
                    <a:lnTo>
                      <a:pt x="11" y="17"/>
                    </a:lnTo>
                    <a:lnTo>
                      <a:pt x="21" y="7"/>
                    </a:lnTo>
                    <a:lnTo>
                      <a:pt x="31" y="2"/>
                    </a:lnTo>
                    <a:lnTo>
                      <a:pt x="42" y="0"/>
                    </a:lnTo>
                    <a:lnTo>
                      <a:pt x="55" y="1"/>
                    </a:lnTo>
                    <a:lnTo>
                      <a:pt x="68" y="7"/>
                    </a:lnTo>
                    <a:lnTo>
                      <a:pt x="81" y="16"/>
                    </a:lnTo>
                    <a:lnTo>
                      <a:pt x="94" y="27"/>
                    </a:lnTo>
                    <a:lnTo>
                      <a:pt x="105" y="41"/>
                    </a:lnTo>
                    <a:lnTo>
                      <a:pt x="114" y="57"/>
                    </a:lnTo>
                    <a:lnTo>
                      <a:pt x="123" y="74"/>
                    </a:lnTo>
                    <a:lnTo>
                      <a:pt x="129" y="93"/>
                    </a:lnTo>
                    <a:close/>
                  </a:path>
                </a:pathLst>
              </a:custGeom>
              <a:solidFill>
                <a:srgbClr val="ffa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353400">
                <a:off x="7086240" y="1635480"/>
                <a:ext cx="1925280" cy="1657080"/>
              </a:xfrm>
              <a:custGeom>
                <a:avLst/>
                <a:gdLst/>
                <a:ahLst/>
                <a:rect l="l" t="t" r="r" b="b"/>
                <a:pathLst>
                  <a:path w="1536" h="1579">
                    <a:moveTo>
                      <a:pt x="824" y="625"/>
                    </a:moveTo>
                    <a:lnTo>
                      <a:pt x="829" y="645"/>
                    </a:lnTo>
                    <a:lnTo>
                      <a:pt x="840" y="699"/>
                    </a:lnTo>
                    <a:lnTo>
                      <a:pt x="851" y="787"/>
                    </a:lnTo>
                    <a:lnTo>
                      <a:pt x="862" y="902"/>
                    </a:lnTo>
                    <a:lnTo>
                      <a:pt x="863" y="1044"/>
                    </a:lnTo>
                    <a:lnTo>
                      <a:pt x="851" y="1206"/>
                    </a:lnTo>
                    <a:lnTo>
                      <a:pt x="822" y="1385"/>
                    </a:lnTo>
                    <a:lnTo>
                      <a:pt x="772" y="1579"/>
                    </a:lnTo>
                    <a:lnTo>
                      <a:pt x="773" y="1579"/>
                    </a:lnTo>
                    <a:lnTo>
                      <a:pt x="777" y="1577"/>
                    </a:lnTo>
                    <a:lnTo>
                      <a:pt x="784" y="1576"/>
                    </a:lnTo>
                    <a:lnTo>
                      <a:pt x="794" y="1575"/>
                    </a:lnTo>
                    <a:lnTo>
                      <a:pt x="807" y="1573"/>
                    </a:lnTo>
                    <a:lnTo>
                      <a:pt x="822" y="1569"/>
                    </a:lnTo>
                    <a:lnTo>
                      <a:pt x="838" y="1566"/>
                    </a:lnTo>
                    <a:lnTo>
                      <a:pt x="857" y="1561"/>
                    </a:lnTo>
                    <a:lnTo>
                      <a:pt x="878" y="1558"/>
                    </a:lnTo>
                    <a:lnTo>
                      <a:pt x="901" y="1553"/>
                    </a:lnTo>
                    <a:lnTo>
                      <a:pt x="925" y="1548"/>
                    </a:lnTo>
                    <a:lnTo>
                      <a:pt x="950" y="1542"/>
                    </a:lnTo>
                    <a:lnTo>
                      <a:pt x="976" y="1535"/>
                    </a:lnTo>
                    <a:lnTo>
                      <a:pt x="1004" y="1529"/>
                    </a:lnTo>
                    <a:lnTo>
                      <a:pt x="1033" y="1522"/>
                    </a:lnTo>
                    <a:lnTo>
                      <a:pt x="1063" y="1514"/>
                    </a:lnTo>
                    <a:lnTo>
                      <a:pt x="1093" y="1507"/>
                    </a:lnTo>
                    <a:lnTo>
                      <a:pt x="1124" y="1498"/>
                    </a:lnTo>
                    <a:lnTo>
                      <a:pt x="1156" y="1490"/>
                    </a:lnTo>
                    <a:lnTo>
                      <a:pt x="1188" y="1481"/>
                    </a:lnTo>
                    <a:lnTo>
                      <a:pt x="1219" y="1471"/>
                    </a:lnTo>
                    <a:lnTo>
                      <a:pt x="1251" y="1461"/>
                    </a:lnTo>
                    <a:lnTo>
                      <a:pt x="1283" y="1451"/>
                    </a:lnTo>
                    <a:lnTo>
                      <a:pt x="1314" y="1441"/>
                    </a:lnTo>
                    <a:lnTo>
                      <a:pt x="1344" y="1430"/>
                    </a:lnTo>
                    <a:lnTo>
                      <a:pt x="1375" y="1419"/>
                    </a:lnTo>
                    <a:lnTo>
                      <a:pt x="1405" y="1407"/>
                    </a:lnTo>
                    <a:lnTo>
                      <a:pt x="1434" y="1395"/>
                    </a:lnTo>
                    <a:lnTo>
                      <a:pt x="1461" y="1383"/>
                    </a:lnTo>
                    <a:lnTo>
                      <a:pt x="1487" y="1371"/>
                    </a:lnTo>
                    <a:lnTo>
                      <a:pt x="1512" y="1358"/>
                    </a:lnTo>
                    <a:lnTo>
                      <a:pt x="1535" y="1345"/>
                    </a:lnTo>
                    <a:lnTo>
                      <a:pt x="1535" y="1331"/>
                    </a:lnTo>
                    <a:lnTo>
                      <a:pt x="1536" y="1291"/>
                    </a:lnTo>
                    <a:lnTo>
                      <a:pt x="1535" y="1231"/>
                    </a:lnTo>
                    <a:lnTo>
                      <a:pt x="1533" y="1151"/>
                    </a:lnTo>
                    <a:lnTo>
                      <a:pt x="1526" y="1056"/>
                    </a:lnTo>
                    <a:lnTo>
                      <a:pt x="1515" y="951"/>
                    </a:lnTo>
                    <a:lnTo>
                      <a:pt x="1499" y="836"/>
                    </a:lnTo>
                    <a:lnTo>
                      <a:pt x="1473" y="717"/>
                    </a:lnTo>
                    <a:lnTo>
                      <a:pt x="1441" y="598"/>
                    </a:lnTo>
                    <a:lnTo>
                      <a:pt x="1399" y="480"/>
                    </a:lnTo>
                    <a:lnTo>
                      <a:pt x="1346" y="367"/>
                    </a:lnTo>
                    <a:lnTo>
                      <a:pt x="1281" y="265"/>
                    </a:lnTo>
                    <a:lnTo>
                      <a:pt x="1203" y="175"/>
                    </a:lnTo>
                    <a:lnTo>
                      <a:pt x="1111" y="101"/>
                    </a:lnTo>
                    <a:lnTo>
                      <a:pt x="1002" y="47"/>
                    </a:lnTo>
                    <a:lnTo>
                      <a:pt x="877" y="16"/>
                    </a:lnTo>
                    <a:lnTo>
                      <a:pt x="874" y="14"/>
                    </a:lnTo>
                    <a:lnTo>
                      <a:pt x="865" y="13"/>
                    </a:lnTo>
                    <a:lnTo>
                      <a:pt x="853" y="11"/>
                    </a:lnTo>
                    <a:lnTo>
                      <a:pt x="834" y="8"/>
                    </a:lnTo>
                    <a:lnTo>
                      <a:pt x="813" y="4"/>
                    </a:lnTo>
                    <a:lnTo>
                      <a:pt x="786" y="2"/>
                    </a:lnTo>
                    <a:lnTo>
                      <a:pt x="757" y="1"/>
                    </a:lnTo>
                    <a:lnTo>
                      <a:pt x="725" y="0"/>
                    </a:lnTo>
                    <a:lnTo>
                      <a:pt x="689" y="1"/>
                    </a:lnTo>
                    <a:lnTo>
                      <a:pt x="652" y="3"/>
                    </a:lnTo>
                    <a:lnTo>
                      <a:pt x="613" y="8"/>
                    </a:lnTo>
                    <a:lnTo>
                      <a:pt x="572" y="16"/>
                    </a:lnTo>
                    <a:lnTo>
                      <a:pt x="530" y="27"/>
                    </a:lnTo>
                    <a:lnTo>
                      <a:pt x="486" y="40"/>
                    </a:lnTo>
                    <a:lnTo>
                      <a:pt x="443" y="58"/>
                    </a:lnTo>
                    <a:lnTo>
                      <a:pt x="400" y="80"/>
                    </a:lnTo>
                    <a:lnTo>
                      <a:pt x="356" y="107"/>
                    </a:lnTo>
                    <a:lnTo>
                      <a:pt x="314" y="138"/>
                    </a:lnTo>
                    <a:lnTo>
                      <a:pt x="273" y="175"/>
                    </a:lnTo>
                    <a:lnTo>
                      <a:pt x="233" y="218"/>
                    </a:lnTo>
                    <a:lnTo>
                      <a:pt x="194" y="266"/>
                    </a:lnTo>
                    <a:lnTo>
                      <a:pt x="159" y="320"/>
                    </a:lnTo>
                    <a:lnTo>
                      <a:pt x="126" y="382"/>
                    </a:lnTo>
                    <a:lnTo>
                      <a:pt x="96" y="452"/>
                    </a:lnTo>
                    <a:lnTo>
                      <a:pt x="69" y="528"/>
                    </a:lnTo>
                    <a:lnTo>
                      <a:pt x="46" y="613"/>
                    </a:lnTo>
                    <a:lnTo>
                      <a:pt x="28" y="704"/>
                    </a:lnTo>
                    <a:lnTo>
                      <a:pt x="13" y="806"/>
                    </a:lnTo>
                    <a:lnTo>
                      <a:pt x="4" y="917"/>
                    </a:lnTo>
                    <a:lnTo>
                      <a:pt x="0" y="1036"/>
                    </a:lnTo>
                    <a:lnTo>
                      <a:pt x="1" y="1166"/>
                    </a:lnTo>
                    <a:lnTo>
                      <a:pt x="9" y="1306"/>
                    </a:lnTo>
                    <a:lnTo>
                      <a:pt x="15" y="1306"/>
                    </a:lnTo>
                    <a:lnTo>
                      <a:pt x="30" y="1306"/>
                    </a:lnTo>
                    <a:lnTo>
                      <a:pt x="53" y="1305"/>
                    </a:lnTo>
                    <a:lnTo>
                      <a:pt x="83" y="1304"/>
                    </a:lnTo>
                    <a:lnTo>
                      <a:pt x="119" y="1303"/>
                    </a:lnTo>
                    <a:lnTo>
                      <a:pt x="160" y="1300"/>
                    </a:lnTo>
                    <a:lnTo>
                      <a:pt x="204" y="1296"/>
                    </a:lnTo>
                    <a:lnTo>
                      <a:pt x="250" y="1291"/>
                    </a:lnTo>
                    <a:lnTo>
                      <a:pt x="297" y="1285"/>
                    </a:lnTo>
                    <a:lnTo>
                      <a:pt x="343" y="1276"/>
                    </a:lnTo>
                    <a:lnTo>
                      <a:pt x="387" y="1268"/>
                    </a:lnTo>
                    <a:lnTo>
                      <a:pt x="428" y="1257"/>
                    </a:lnTo>
                    <a:lnTo>
                      <a:pt x="466" y="1243"/>
                    </a:lnTo>
                    <a:lnTo>
                      <a:pt x="497" y="1228"/>
                    </a:lnTo>
                    <a:lnTo>
                      <a:pt x="522" y="1211"/>
                    </a:lnTo>
                    <a:lnTo>
                      <a:pt x="538" y="1191"/>
                    </a:lnTo>
                    <a:lnTo>
                      <a:pt x="532" y="1189"/>
                    </a:lnTo>
                    <a:lnTo>
                      <a:pt x="515" y="1179"/>
                    </a:lnTo>
                    <a:lnTo>
                      <a:pt x="489" y="1164"/>
                    </a:lnTo>
                    <a:lnTo>
                      <a:pt x="457" y="1144"/>
                    </a:lnTo>
                    <a:lnTo>
                      <a:pt x="418" y="1119"/>
                    </a:lnTo>
                    <a:lnTo>
                      <a:pt x="377" y="1088"/>
                    </a:lnTo>
                    <a:lnTo>
                      <a:pt x="335" y="1054"/>
                    </a:lnTo>
                    <a:lnTo>
                      <a:pt x="292" y="1015"/>
                    </a:lnTo>
                    <a:lnTo>
                      <a:pt x="252" y="972"/>
                    </a:lnTo>
                    <a:lnTo>
                      <a:pt x="217" y="925"/>
                    </a:lnTo>
                    <a:lnTo>
                      <a:pt x="187" y="874"/>
                    </a:lnTo>
                    <a:lnTo>
                      <a:pt x="166" y="821"/>
                    </a:lnTo>
                    <a:lnTo>
                      <a:pt x="154" y="764"/>
                    </a:lnTo>
                    <a:lnTo>
                      <a:pt x="155" y="704"/>
                    </a:lnTo>
                    <a:lnTo>
                      <a:pt x="169" y="642"/>
                    </a:lnTo>
                    <a:lnTo>
                      <a:pt x="199" y="578"/>
                    </a:lnTo>
                    <a:lnTo>
                      <a:pt x="201" y="578"/>
                    </a:lnTo>
                    <a:lnTo>
                      <a:pt x="209" y="579"/>
                    </a:lnTo>
                    <a:lnTo>
                      <a:pt x="220" y="580"/>
                    </a:lnTo>
                    <a:lnTo>
                      <a:pt x="235" y="582"/>
                    </a:lnTo>
                    <a:lnTo>
                      <a:pt x="253" y="583"/>
                    </a:lnTo>
                    <a:lnTo>
                      <a:pt x="274" y="584"/>
                    </a:lnTo>
                    <a:lnTo>
                      <a:pt x="297" y="585"/>
                    </a:lnTo>
                    <a:lnTo>
                      <a:pt x="321" y="588"/>
                    </a:lnTo>
                    <a:lnTo>
                      <a:pt x="347" y="589"/>
                    </a:lnTo>
                    <a:lnTo>
                      <a:pt x="372" y="590"/>
                    </a:lnTo>
                    <a:lnTo>
                      <a:pt x="397" y="592"/>
                    </a:lnTo>
                    <a:lnTo>
                      <a:pt x="422" y="593"/>
                    </a:lnTo>
                    <a:lnTo>
                      <a:pt x="446" y="594"/>
                    </a:lnTo>
                    <a:lnTo>
                      <a:pt x="468" y="594"/>
                    </a:lnTo>
                    <a:lnTo>
                      <a:pt x="487" y="594"/>
                    </a:lnTo>
                    <a:lnTo>
                      <a:pt x="505" y="593"/>
                    </a:lnTo>
                    <a:lnTo>
                      <a:pt x="505" y="589"/>
                    </a:lnTo>
                    <a:lnTo>
                      <a:pt x="506" y="577"/>
                    </a:lnTo>
                    <a:lnTo>
                      <a:pt x="509" y="559"/>
                    </a:lnTo>
                    <a:lnTo>
                      <a:pt x="514" y="537"/>
                    </a:lnTo>
                    <a:lnTo>
                      <a:pt x="519" y="512"/>
                    </a:lnTo>
                    <a:lnTo>
                      <a:pt x="530" y="486"/>
                    </a:lnTo>
                    <a:lnTo>
                      <a:pt x="541" y="459"/>
                    </a:lnTo>
                    <a:lnTo>
                      <a:pt x="557" y="434"/>
                    </a:lnTo>
                    <a:lnTo>
                      <a:pt x="556" y="452"/>
                    </a:lnTo>
                    <a:lnTo>
                      <a:pt x="555" y="495"/>
                    </a:lnTo>
                    <a:lnTo>
                      <a:pt x="555" y="547"/>
                    </a:lnTo>
                    <a:lnTo>
                      <a:pt x="557" y="593"/>
                    </a:lnTo>
                    <a:lnTo>
                      <a:pt x="559" y="593"/>
                    </a:lnTo>
                    <a:lnTo>
                      <a:pt x="566" y="594"/>
                    </a:lnTo>
                    <a:lnTo>
                      <a:pt x="576" y="595"/>
                    </a:lnTo>
                    <a:lnTo>
                      <a:pt x="590" y="597"/>
                    </a:lnTo>
                    <a:lnTo>
                      <a:pt x="607" y="599"/>
                    </a:lnTo>
                    <a:lnTo>
                      <a:pt x="627" y="601"/>
                    </a:lnTo>
                    <a:lnTo>
                      <a:pt x="647" y="604"/>
                    </a:lnTo>
                    <a:lnTo>
                      <a:pt x="669" y="606"/>
                    </a:lnTo>
                    <a:lnTo>
                      <a:pt x="692" y="609"/>
                    </a:lnTo>
                    <a:lnTo>
                      <a:pt x="715" y="611"/>
                    </a:lnTo>
                    <a:lnTo>
                      <a:pt x="736" y="614"/>
                    </a:lnTo>
                    <a:lnTo>
                      <a:pt x="758" y="616"/>
                    </a:lnTo>
                    <a:lnTo>
                      <a:pt x="777" y="619"/>
                    </a:lnTo>
                    <a:lnTo>
                      <a:pt x="796" y="621"/>
                    </a:lnTo>
                    <a:lnTo>
                      <a:pt x="812" y="624"/>
                    </a:lnTo>
                    <a:lnTo>
                      <a:pt x="824" y="6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353400">
                <a:off x="7144200" y="1677240"/>
                <a:ext cx="1799640" cy="1518120"/>
              </a:xfrm>
              <a:custGeom>
                <a:avLst/>
                <a:gdLst/>
                <a:ahLst/>
                <a:rect l="l" t="t" r="r" b="b"/>
                <a:pathLst>
                  <a:path w="1434" h="1446">
                    <a:moveTo>
                      <a:pt x="541" y="274"/>
                    </a:moveTo>
                    <a:lnTo>
                      <a:pt x="536" y="279"/>
                    </a:lnTo>
                    <a:lnTo>
                      <a:pt x="522" y="293"/>
                    </a:lnTo>
                    <a:lnTo>
                      <a:pt x="504" y="314"/>
                    </a:lnTo>
                    <a:lnTo>
                      <a:pt x="483" y="342"/>
                    </a:lnTo>
                    <a:lnTo>
                      <a:pt x="460" y="377"/>
                    </a:lnTo>
                    <a:lnTo>
                      <a:pt x="439" y="415"/>
                    </a:lnTo>
                    <a:lnTo>
                      <a:pt x="421" y="457"/>
                    </a:lnTo>
                    <a:lnTo>
                      <a:pt x="411" y="502"/>
                    </a:lnTo>
                    <a:lnTo>
                      <a:pt x="134" y="482"/>
                    </a:lnTo>
                    <a:lnTo>
                      <a:pt x="132" y="485"/>
                    </a:lnTo>
                    <a:lnTo>
                      <a:pt x="128" y="495"/>
                    </a:lnTo>
                    <a:lnTo>
                      <a:pt x="121" y="508"/>
                    </a:lnTo>
                    <a:lnTo>
                      <a:pt x="113" y="528"/>
                    </a:lnTo>
                    <a:lnTo>
                      <a:pt x="104" y="552"/>
                    </a:lnTo>
                    <a:lnTo>
                      <a:pt x="96" y="580"/>
                    </a:lnTo>
                    <a:lnTo>
                      <a:pt x="88" y="613"/>
                    </a:lnTo>
                    <a:lnTo>
                      <a:pt x="83" y="649"/>
                    </a:lnTo>
                    <a:lnTo>
                      <a:pt x="82" y="689"/>
                    </a:lnTo>
                    <a:lnTo>
                      <a:pt x="84" y="731"/>
                    </a:lnTo>
                    <a:lnTo>
                      <a:pt x="91" y="776"/>
                    </a:lnTo>
                    <a:lnTo>
                      <a:pt x="105" y="823"/>
                    </a:lnTo>
                    <a:lnTo>
                      <a:pt x="124" y="872"/>
                    </a:lnTo>
                    <a:lnTo>
                      <a:pt x="152" y="922"/>
                    </a:lnTo>
                    <a:lnTo>
                      <a:pt x="187" y="974"/>
                    </a:lnTo>
                    <a:lnTo>
                      <a:pt x="233" y="1026"/>
                    </a:lnTo>
                    <a:lnTo>
                      <a:pt x="234" y="1027"/>
                    </a:lnTo>
                    <a:lnTo>
                      <a:pt x="235" y="1030"/>
                    </a:lnTo>
                    <a:lnTo>
                      <a:pt x="238" y="1033"/>
                    </a:lnTo>
                    <a:lnTo>
                      <a:pt x="244" y="1038"/>
                    </a:lnTo>
                    <a:lnTo>
                      <a:pt x="251" y="1046"/>
                    </a:lnTo>
                    <a:lnTo>
                      <a:pt x="259" y="1053"/>
                    </a:lnTo>
                    <a:lnTo>
                      <a:pt x="269" y="1062"/>
                    </a:lnTo>
                    <a:lnTo>
                      <a:pt x="282" y="1072"/>
                    </a:lnTo>
                    <a:lnTo>
                      <a:pt x="297" y="1082"/>
                    </a:lnTo>
                    <a:lnTo>
                      <a:pt x="312" y="1092"/>
                    </a:lnTo>
                    <a:lnTo>
                      <a:pt x="332" y="1103"/>
                    </a:lnTo>
                    <a:lnTo>
                      <a:pt x="354" y="1113"/>
                    </a:lnTo>
                    <a:lnTo>
                      <a:pt x="378" y="1124"/>
                    </a:lnTo>
                    <a:lnTo>
                      <a:pt x="404" y="1135"/>
                    </a:lnTo>
                    <a:lnTo>
                      <a:pt x="433" y="1145"/>
                    </a:lnTo>
                    <a:lnTo>
                      <a:pt x="465" y="1155"/>
                    </a:lnTo>
                    <a:lnTo>
                      <a:pt x="464" y="1155"/>
                    </a:lnTo>
                    <a:lnTo>
                      <a:pt x="461" y="1157"/>
                    </a:lnTo>
                    <a:lnTo>
                      <a:pt x="455" y="1160"/>
                    </a:lnTo>
                    <a:lnTo>
                      <a:pt x="448" y="1162"/>
                    </a:lnTo>
                    <a:lnTo>
                      <a:pt x="438" y="1166"/>
                    </a:lnTo>
                    <a:lnTo>
                      <a:pt x="427" y="1170"/>
                    </a:lnTo>
                    <a:lnTo>
                      <a:pt x="414" y="1175"/>
                    </a:lnTo>
                    <a:lnTo>
                      <a:pt x="399" y="1180"/>
                    </a:lnTo>
                    <a:lnTo>
                      <a:pt x="382" y="1184"/>
                    </a:lnTo>
                    <a:lnTo>
                      <a:pt x="364" y="1189"/>
                    </a:lnTo>
                    <a:lnTo>
                      <a:pt x="343" y="1194"/>
                    </a:lnTo>
                    <a:lnTo>
                      <a:pt x="323" y="1198"/>
                    </a:lnTo>
                    <a:lnTo>
                      <a:pt x="300" y="1203"/>
                    </a:lnTo>
                    <a:lnTo>
                      <a:pt x="276" y="1207"/>
                    </a:lnTo>
                    <a:lnTo>
                      <a:pt x="250" y="1209"/>
                    </a:lnTo>
                    <a:lnTo>
                      <a:pt x="223" y="1212"/>
                    </a:lnTo>
                    <a:lnTo>
                      <a:pt x="220" y="1207"/>
                    </a:lnTo>
                    <a:lnTo>
                      <a:pt x="212" y="1192"/>
                    </a:lnTo>
                    <a:lnTo>
                      <a:pt x="199" y="1171"/>
                    </a:lnTo>
                    <a:lnTo>
                      <a:pt x="186" y="1144"/>
                    </a:lnTo>
                    <a:lnTo>
                      <a:pt x="172" y="1115"/>
                    </a:lnTo>
                    <a:lnTo>
                      <a:pt x="160" y="1084"/>
                    </a:lnTo>
                    <a:lnTo>
                      <a:pt x="152" y="1056"/>
                    </a:lnTo>
                    <a:lnTo>
                      <a:pt x="148" y="1031"/>
                    </a:lnTo>
                    <a:lnTo>
                      <a:pt x="148" y="1035"/>
                    </a:lnTo>
                    <a:lnTo>
                      <a:pt x="147" y="1047"/>
                    </a:lnTo>
                    <a:lnTo>
                      <a:pt x="146" y="1066"/>
                    </a:lnTo>
                    <a:lnTo>
                      <a:pt x="146" y="1090"/>
                    </a:lnTo>
                    <a:lnTo>
                      <a:pt x="148" y="1119"/>
                    </a:lnTo>
                    <a:lnTo>
                      <a:pt x="153" y="1150"/>
                    </a:lnTo>
                    <a:lnTo>
                      <a:pt x="161" y="1183"/>
                    </a:lnTo>
                    <a:lnTo>
                      <a:pt x="172" y="1218"/>
                    </a:lnTo>
                    <a:lnTo>
                      <a:pt x="17" y="1238"/>
                    </a:lnTo>
                    <a:lnTo>
                      <a:pt x="13" y="1218"/>
                    </a:lnTo>
                    <a:lnTo>
                      <a:pt x="8" y="1162"/>
                    </a:lnTo>
                    <a:lnTo>
                      <a:pt x="2" y="1077"/>
                    </a:lnTo>
                    <a:lnTo>
                      <a:pt x="0" y="965"/>
                    </a:lnTo>
                    <a:lnTo>
                      <a:pt x="5" y="835"/>
                    </a:lnTo>
                    <a:lnTo>
                      <a:pt x="21" y="690"/>
                    </a:lnTo>
                    <a:lnTo>
                      <a:pt x="52" y="537"/>
                    </a:lnTo>
                    <a:lnTo>
                      <a:pt x="101" y="381"/>
                    </a:lnTo>
                    <a:lnTo>
                      <a:pt x="104" y="376"/>
                    </a:lnTo>
                    <a:lnTo>
                      <a:pt x="109" y="363"/>
                    </a:lnTo>
                    <a:lnTo>
                      <a:pt x="118" y="343"/>
                    </a:lnTo>
                    <a:lnTo>
                      <a:pt x="133" y="319"/>
                    </a:lnTo>
                    <a:lnTo>
                      <a:pt x="153" y="288"/>
                    </a:lnTo>
                    <a:lnTo>
                      <a:pt x="176" y="254"/>
                    </a:lnTo>
                    <a:lnTo>
                      <a:pt x="204" y="220"/>
                    </a:lnTo>
                    <a:lnTo>
                      <a:pt x="238" y="182"/>
                    </a:lnTo>
                    <a:lnTo>
                      <a:pt x="278" y="147"/>
                    </a:lnTo>
                    <a:lnTo>
                      <a:pt x="323" y="112"/>
                    </a:lnTo>
                    <a:lnTo>
                      <a:pt x="373" y="80"/>
                    </a:lnTo>
                    <a:lnTo>
                      <a:pt x="430" y="51"/>
                    </a:lnTo>
                    <a:lnTo>
                      <a:pt x="493" y="28"/>
                    </a:lnTo>
                    <a:lnTo>
                      <a:pt x="562" y="10"/>
                    </a:lnTo>
                    <a:lnTo>
                      <a:pt x="639" y="2"/>
                    </a:lnTo>
                    <a:lnTo>
                      <a:pt x="722" y="0"/>
                    </a:lnTo>
                    <a:lnTo>
                      <a:pt x="726" y="0"/>
                    </a:lnTo>
                    <a:lnTo>
                      <a:pt x="737" y="2"/>
                    </a:lnTo>
                    <a:lnTo>
                      <a:pt x="755" y="3"/>
                    </a:lnTo>
                    <a:lnTo>
                      <a:pt x="779" y="7"/>
                    </a:lnTo>
                    <a:lnTo>
                      <a:pt x="808" y="12"/>
                    </a:lnTo>
                    <a:lnTo>
                      <a:pt x="841" y="20"/>
                    </a:lnTo>
                    <a:lnTo>
                      <a:pt x="876" y="30"/>
                    </a:lnTo>
                    <a:lnTo>
                      <a:pt x="915" y="44"/>
                    </a:lnTo>
                    <a:lnTo>
                      <a:pt x="956" y="61"/>
                    </a:lnTo>
                    <a:lnTo>
                      <a:pt x="998" y="83"/>
                    </a:lnTo>
                    <a:lnTo>
                      <a:pt x="1041" y="108"/>
                    </a:lnTo>
                    <a:lnTo>
                      <a:pt x="1082" y="139"/>
                    </a:lnTo>
                    <a:lnTo>
                      <a:pt x="1123" y="175"/>
                    </a:lnTo>
                    <a:lnTo>
                      <a:pt x="1160" y="217"/>
                    </a:lnTo>
                    <a:lnTo>
                      <a:pt x="1196" y="265"/>
                    </a:lnTo>
                    <a:lnTo>
                      <a:pt x="1228" y="320"/>
                    </a:lnTo>
                    <a:lnTo>
                      <a:pt x="1230" y="324"/>
                    </a:lnTo>
                    <a:lnTo>
                      <a:pt x="1237" y="334"/>
                    </a:lnTo>
                    <a:lnTo>
                      <a:pt x="1247" y="351"/>
                    </a:lnTo>
                    <a:lnTo>
                      <a:pt x="1260" y="376"/>
                    </a:lnTo>
                    <a:lnTo>
                      <a:pt x="1276" y="408"/>
                    </a:lnTo>
                    <a:lnTo>
                      <a:pt x="1293" y="448"/>
                    </a:lnTo>
                    <a:lnTo>
                      <a:pt x="1312" y="493"/>
                    </a:lnTo>
                    <a:lnTo>
                      <a:pt x="1332" y="548"/>
                    </a:lnTo>
                    <a:lnTo>
                      <a:pt x="1350" y="610"/>
                    </a:lnTo>
                    <a:lnTo>
                      <a:pt x="1369" y="678"/>
                    </a:lnTo>
                    <a:lnTo>
                      <a:pt x="1386" y="755"/>
                    </a:lnTo>
                    <a:lnTo>
                      <a:pt x="1402" y="840"/>
                    </a:lnTo>
                    <a:lnTo>
                      <a:pt x="1415" y="932"/>
                    </a:lnTo>
                    <a:lnTo>
                      <a:pt x="1425" y="1032"/>
                    </a:lnTo>
                    <a:lnTo>
                      <a:pt x="1432" y="1141"/>
                    </a:lnTo>
                    <a:lnTo>
                      <a:pt x="1434" y="1258"/>
                    </a:lnTo>
                    <a:lnTo>
                      <a:pt x="1432" y="1259"/>
                    </a:lnTo>
                    <a:lnTo>
                      <a:pt x="1425" y="1263"/>
                    </a:lnTo>
                    <a:lnTo>
                      <a:pt x="1414" y="1267"/>
                    </a:lnTo>
                    <a:lnTo>
                      <a:pt x="1399" y="1275"/>
                    </a:lnTo>
                    <a:lnTo>
                      <a:pt x="1382" y="1284"/>
                    </a:lnTo>
                    <a:lnTo>
                      <a:pt x="1361" y="1292"/>
                    </a:lnTo>
                    <a:lnTo>
                      <a:pt x="1338" y="1303"/>
                    </a:lnTo>
                    <a:lnTo>
                      <a:pt x="1313" y="1315"/>
                    </a:lnTo>
                    <a:lnTo>
                      <a:pt x="1287" y="1326"/>
                    </a:lnTo>
                    <a:lnTo>
                      <a:pt x="1260" y="1337"/>
                    </a:lnTo>
                    <a:lnTo>
                      <a:pt x="1232" y="1348"/>
                    </a:lnTo>
                    <a:lnTo>
                      <a:pt x="1205" y="1358"/>
                    </a:lnTo>
                    <a:lnTo>
                      <a:pt x="1178" y="1368"/>
                    </a:lnTo>
                    <a:lnTo>
                      <a:pt x="1150" y="1376"/>
                    </a:lnTo>
                    <a:lnTo>
                      <a:pt x="1125" y="1384"/>
                    </a:lnTo>
                    <a:lnTo>
                      <a:pt x="1101" y="1390"/>
                    </a:lnTo>
                    <a:lnTo>
                      <a:pt x="1104" y="1362"/>
                    </a:lnTo>
                    <a:lnTo>
                      <a:pt x="1112" y="1292"/>
                    </a:lnTo>
                    <a:lnTo>
                      <a:pt x="1117" y="1212"/>
                    </a:lnTo>
                    <a:lnTo>
                      <a:pt x="1116" y="1146"/>
                    </a:lnTo>
                    <a:lnTo>
                      <a:pt x="1115" y="1154"/>
                    </a:lnTo>
                    <a:lnTo>
                      <a:pt x="1110" y="1176"/>
                    </a:lnTo>
                    <a:lnTo>
                      <a:pt x="1103" y="1208"/>
                    </a:lnTo>
                    <a:lnTo>
                      <a:pt x="1094" y="1246"/>
                    </a:lnTo>
                    <a:lnTo>
                      <a:pt x="1084" y="1289"/>
                    </a:lnTo>
                    <a:lnTo>
                      <a:pt x="1073" y="1331"/>
                    </a:lnTo>
                    <a:lnTo>
                      <a:pt x="1059" y="1369"/>
                    </a:lnTo>
                    <a:lnTo>
                      <a:pt x="1045" y="1400"/>
                    </a:lnTo>
                    <a:lnTo>
                      <a:pt x="807" y="1446"/>
                    </a:lnTo>
                    <a:lnTo>
                      <a:pt x="812" y="1426"/>
                    </a:lnTo>
                    <a:lnTo>
                      <a:pt x="825" y="1368"/>
                    </a:lnTo>
                    <a:lnTo>
                      <a:pt x="841" y="1279"/>
                    </a:lnTo>
                    <a:lnTo>
                      <a:pt x="857" y="1162"/>
                    </a:lnTo>
                    <a:lnTo>
                      <a:pt x="867" y="1025"/>
                    </a:lnTo>
                    <a:lnTo>
                      <a:pt x="868" y="871"/>
                    </a:lnTo>
                    <a:lnTo>
                      <a:pt x="856" y="708"/>
                    </a:lnTo>
                    <a:lnTo>
                      <a:pt x="825" y="539"/>
                    </a:lnTo>
                    <a:lnTo>
                      <a:pt x="551" y="497"/>
                    </a:lnTo>
                    <a:lnTo>
                      <a:pt x="550" y="466"/>
                    </a:lnTo>
                    <a:lnTo>
                      <a:pt x="546" y="397"/>
                    </a:lnTo>
                    <a:lnTo>
                      <a:pt x="542" y="322"/>
                    </a:lnTo>
                    <a:lnTo>
                      <a:pt x="541" y="274"/>
                    </a:lnTo>
                    <a:close/>
                  </a:path>
                </a:pathLst>
              </a:custGeom>
              <a:solidFill>
                <a:srgbClr val="e5a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353400">
                <a:off x="7219800" y="1848960"/>
                <a:ext cx="1664280" cy="777240"/>
              </a:xfrm>
              <a:custGeom>
                <a:avLst/>
                <a:gdLst/>
                <a:ahLst/>
                <a:rect l="l" t="t" r="r" b="b"/>
                <a:pathLst>
                  <a:path w="1329" h="741">
                    <a:moveTo>
                      <a:pt x="518" y="11"/>
                    </a:moveTo>
                    <a:lnTo>
                      <a:pt x="519" y="15"/>
                    </a:lnTo>
                    <a:lnTo>
                      <a:pt x="524" y="25"/>
                    </a:lnTo>
                    <a:lnTo>
                      <a:pt x="530" y="40"/>
                    </a:lnTo>
                    <a:lnTo>
                      <a:pt x="539" y="58"/>
                    </a:lnTo>
                    <a:lnTo>
                      <a:pt x="549" y="79"/>
                    </a:lnTo>
                    <a:lnTo>
                      <a:pt x="560" y="103"/>
                    </a:lnTo>
                    <a:lnTo>
                      <a:pt x="574" y="126"/>
                    </a:lnTo>
                    <a:lnTo>
                      <a:pt x="588" y="150"/>
                    </a:lnTo>
                    <a:lnTo>
                      <a:pt x="603" y="172"/>
                    </a:lnTo>
                    <a:lnTo>
                      <a:pt x="618" y="191"/>
                    </a:lnTo>
                    <a:lnTo>
                      <a:pt x="634" y="207"/>
                    </a:lnTo>
                    <a:lnTo>
                      <a:pt x="648" y="217"/>
                    </a:lnTo>
                    <a:lnTo>
                      <a:pt x="663" y="222"/>
                    </a:lnTo>
                    <a:lnTo>
                      <a:pt x="677" y="218"/>
                    </a:lnTo>
                    <a:lnTo>
                      <a:pt x="691" y="208"/>
                    </a:lnTo>
                    <a:lnTo>
                      <a:pt x="702" y="187"/>
                    </a:lnTo>
                    <a:lnTo>
                      <a:pt x="721" y="142"/>
                    </a:lnTo>
                    <a:lnTo>
                      <a:pt x="735" y="113"/>
                    </a:lnTo>
                    <a:lnTo>
                      <a:pt x="747" y="94"/>
                    </a:lnTo>
                    <a:lnTo>
                      <a:pt x="756" y="87"/>
                    </a:lnTo>
                    <a:lnTo>
                      <a:pt x="765" y="90"/>
                    </a:lnTo>
                    <a:lnTo>
                      <a:pt x="775" y="104"/>
                    </a:lnTo>
                    <a:lnTo>
                      <a:pt x="788" y="125"/>
                    </a:lnTo>
                    <a:lnTo>
                      <a:pt x="805" y="155"/>
                    </a:lnTo>
                    <a:lnTo>
                      <a:pt x="815" y="172"/>
                    </a:lnTo>
                    <a:lnTo>
                      <a:pt x="828" y="191"/>
                    </a:lnTo>
                    <a:lnTo>
                      <a:pt x="840" y="210"/>
                    </a:lnTo>
                    <a:lnTo>
                      <a:pt x="854" y="230"/>
                    </a:lnTo>
                    <a:lnTo>
                      <a:pt x="869" y="250"/>
                    </a:lnTo>
                    <a:lnTo>
                      <a:pt x="883" y="270"/>
                    </a:lnTo>
                    <a:lnTo>
                      <a:pt x="898" y="287"/>
                    </a:lnTo>
                    <a:lnTo>
                      <a:pt x="913" y="303"/>
                    </a:lnTo>
                    <a:lnTo>
                      <a:pt x="928" y="318"/>
                    </a:lnTo>
                    <a:lnTo>
                      <a:pt x="941" y="329"/>
                    </a:lnTo>
                    <a:lnTo>
                      <a:pt x="953" y="338"/>
                    </a:lnTo>
                    <a:lnTo>
                      <a:pt x="964" y="343"/>
                    </a:lnTo>
                    <a:lnTo>
                      <a:pt x="974" y="343"/>
                    </a:lnTo>
                    <a:lnTo>
                      <a:pt x="980" y="339"/>
                    </a:lnTo>
                    <a:lnTo>
                      <a:pt x="986" y="329"/>
                    </a:lnTo>
                    <a:lnTo>
                      <a:pt x="988" y="314"/>
                    </a:lnTo>
                    <a:lnTo>
                      <a:pt x="992" y="280"/>
                    </a:lnTo>
                    <a:lnTo>
                      <a:pt x="995" y="250"/>
                    </a:lnTo>
                    <a:lnTo>
                      <a:pt x="999" y="225"/>
                    </a:lnTo>
                    <a:lnTo>
                      <a:pt x="1003" y="205"/>
                    </a:lnTo>
                    <a:lnTo>
                      <a:pt x="1010" y="193"/>
                    </a:lnTo>
                    <a:lnTo>
                      <a:pt x="1018" y="189"/>
                    </a:lnTo>
                    <a:lnTo>
                      <a:pt x="1028" y="196"/>
                    </a:lnTo>
                    <a:lnTo>
                      <a:pt x="1041" y="210"/>
                    </a:lnTo>
                    <a:lnTo>
                      <a:pt x="1056" y="229"/>
                    </a:lnTo>
                    <a:lnTo>
                      <a:pt x="1071" y="244"/>
                    </a:lnTo>
                    <a:lnTo>
                      <a:pt x="1085" y="255"/>
                    </a:lnTo>
                    <a:lnTo>
                      <a:pt x="1099" y="261"/>
                    </a:lnTo>
                    <a:lnTo>
                      <a:pt x="1113" y="262"/>
                    </a:lnTo>
                    <a:lnTo>
                      <a:pt x="1123" y="259"/>
                    </a:lnTo>
                    <a:lnTo>
                      <a:pt x="1132" y="250"/>
                    </a:lnTo>
                    <a:lnTo>
                      <a:pt x="1137" y="235"/>
                    </a:lnTo>
                    <a:lnTo>
                      <a:pt x="1141" y="225"/>
                    </a:lnTo>
                    <a:lnTo>
                      <a:pt x="1149" y="228"/>
                    </a:lnTo>
                    <a:lnTo>
                      <a:pt x="1158" y="238"/>
                    </a:lnTo>
                    <a:lnTo>
                      <a:pt x="1170" y="250"/>
                    </a:lnTo>
                    <a:lnTo>
                      <a:pt x="1182" y="259"/>
                    </a:lnTo>
                    <a:lnTo>
                      <a:pt x="1193" y="259"/>
                    </a:lnTo>
                    <a:lnTo>
                      <a:pt x="1203" y="244"/>
                    </a:lnTo>
                    <a:lnTo>
                      <a:pt x="1210" y="210"/>
                    </a:lnTo>
                    <a:lnTo>
                      <a:pt x="1213" y="215"/>
                    </a:lnTo>
                    <a:lnTo>
                      <a:pt x="1224" y="230"/>
                    </a:lnTo>
                    <a:lnTo>
                      <a:pt x="1237" y="255"/>
                    </a:lnTo>
                    <a:lnTo>
                      <a:pt x="1255" y="291"/>
                    </a:lnTo>
                    <a:lnTo>
                      <a:pt x="1275" y="337"/>
                    </a:lnTo>
                    <a:lnTo>
                      <a:pt x="1294" y="393"/>
                    </a:lnTo>
                    <a:lnTo>
                      <a:pt x="1313" y="461"/>
                    </a:lnTo>
                    <a:lnTo>
                      <a:pt x="1329" y="539"/>
                    </a:lnTo>
                    <a:lnTo>
                      <a:pt x="1326" y="539"/>
                    </a:lnTo>
                    <a:lnTo>
                      <a:pt x="1322" y="539"/>
                    </a:lnTo>
                    <a:lnTo>
                      <a:pt x="1313" y="537"/>
                    </a:lnTo>
                    <a:lnTo>
                      <a:pt x="1302" y="535"/>
                    </a:lnTo>
                    <a:lnTo>
                      <a:pt x="1291" y="531"/>
                    </a:lnTo>
                    <a:lnTo>
                      <a:pt x="1278" y="525"/>
                    </a:lnTo>
                    <a:lnTo>
                      <a:pt x="1266" y="518"/>
                    </a:lnTo>
                    <a:lnTo>
                      <a:pt x="1254" y="506"/>
                    </a:lnTo>
                    <a:lnTo>
                      <a:pt x="1244" y="499"/>
                    </a:lnTo>
                    <a:lnTo>
                      <a:pt x="1236" y="499"/>
                    </a:lnTo>
                    <a:lnTo>
                      <a:pt x="1229" y="506"/>
                    </a:lnTo>
                    <a:lnTo>
                      <a:pt x="1224" y="520"/>
                    </a:lnTo>
                    <a:lnTo>
                      <a:pt x="1220" y="540"/>
                    </a:lnTo>
                    <a:lnTo>
                      <a:pt x="1216" y="563"/>
                    </a:lnTo>
                    <a:lnTo>
                      <a:pt x="1213" y="589"/>
                    </a:lnTo>
                    <a:lnTo>
                      <a:pt x="1210" y="619"/>
                    </a:lnTo>
                    <a:lnTo>
                      <a:pt x="1204" y="650"/>
                    </a:lnTo>
                    <a:lnTo>
                      <a:pt x="1195" y="680"/>
                    </a:lnTo>
                    <a:lnTo>
                      <a:pt x="1182" y="707"/>
                    </a:lnTo>
                    <a:lnTo>
                      <a:pt x="1168" y="727"/>
                    </a:lnTo>
                    <a:lnTo>
                      <a:pt x="1153" y="741"/>
                    </a:lnTo>
                    <a:lnTo>
                      <a:pt x="1138" y="741"/>
                    </a:lnTo>
                    <a:lnTo>
                      <a:pt x="1124" y="728"/>
                    </a:lnTo>
                    <a:lnTo>
                      <a:pt x="1114" y="698"/>
                    </a:lnTo>
                    <a:lnTo>
                      <a:pt x="1104" y="663"/>
                    </a:lnTo>
                    <a:lnTo>
                      <a:pt x="1090" y="632"/>
                    </a:lnTo>
                    <a:lnTo>
                      <a:pt x="1075" y="609"/>
                    </a:lnTo>
                    <a:lnTo>
                      <a:pt x="1057" y="593"/>
                    </a:lnTo>
                    <a:lnTo>
                      <a:pt x="1039" y="587"/>
                    </a:lnTo>
                    <a:lnTo>
                      <a:pt x="1020" y="589"/>
                    </a:lnTo>
                    <a:lnTo>
                      <a:pt x="1003" y="603"/>
                    </a:lnTo>
                    <a:lnTo>
                      <a:pt x="988" y="627"/>
                    </a:lnTo>
                    <a:lnTo>
                      <a:pt x="975" y="656"/>
                    </a:lnTo>
                    <a:lnTo>
                      <a:pt x="962" y="682"/>
                    </a:lnTo>
                    <a:lnTo>
                      <a:pt x="950" y="703"/>
                    </a:lnTo>
                    <a:lnTo>
                      <a:pt x="938" y="719"/>
                    </a:lnTo>
                    <a:lnTo>
                      <a:pt x="927" y="728"/>
                    </a:lnTo>
                    <a:lnTo>
                      <a:pt x="915" y="729"/>
                    </a:lnTo>
                    <a:lnTo>
                      <a:pt x="904" y="719"/>
                    </a:lnTo>
                    <a:lnTo>
                      <a:pt x="893" y="698"/>
                    </a:lnTo>
                    <a:lnTo>
                      <a:pt x="881" y="674"/>
                    </a:lnTo>
                    <a:lnTo>
                      <a:pt x="869" y="651"/>
                    </a:lnTo>
                    <a:lnTo>
                      <a:pt x="856" y="634"/>
                    </a:lnTo>
                    <a:lnTo>
                      <a:pt x="845" y="619"/>
                    </a:lnTo>
                    <a:lnTo>
                      <a:pt x="834" y="608"/>
                    </a:lnTo>
                    <a:lnTo>
                      <a:pt x="826" y="601"/>
                    </a:lnTo>
                    <a:lnTo>
                      <a:pt x="821" y="596"/>
                    </a:lnTo>
                    <a:lnTo>
                      <a:pt x="818" y="594"/>
                    </a:lnTo>
                    <a:lnTo>
                      <a:pt x="782" y="375"/>
                    </a:lnTo>
                    <a:lnTo>
                      <a:pt x="511" y="348"/>
                    </a:lnTo>
                    <a:lnTo>
                      <a:pt x="498" y="110"/>
                    </a:lnTo>
                    <a:lnTo>
                      <a:pt x="493" y="115"/>
                    </a:lnTo>
                    <a:lnTo>
                      <a:pt x="482" y="129"/>
                    </a:lnTo>
                    <a:lnTo>
                      <a:pt x="466" y="151"/>
                    </a:lnTo>
                    <a:lnTo>
                      <a:pt x="445" y="179"/>
                    </a:lnTo>
                    <a:lnTo>
                      <a:pt x="424" y="213"/>
                    </a:lnTo>
                    <a:lnTo>
                      <a:pt x="402" y="251"/>
                    </a:lnTo>
                    <a:lnTo>
                      <a:pt x="382" y="293"/>
                    </a:lnTo>
                    <a:lnTo>
                      <a:pt x="368" y="338"/>
                    </a:lnTo>
                    <a:lnTo>
                      <a:pt x="365" y="338"/>
                    </a:lnTo>
                    <a:lnTo>
                      <a:pt x="356" y="337"/>
                    </a:lnTo>
                    <a:lnTo>
                      <a:pt x="344" y="336"/>
                    </a:lnTo>
                    <a:lnTo>
                      <a:pt x="328" y="334"/>
                    </a:lnTo>
                    <a:lnTo>
                      <a:pt x="308" y="333"/>
                    </a:lnTo>
                    <a:lnTo>
                      <a:pt x="287" y="332"/>
                    </a:lnTo>
                    <a:lnTo>
                      <a:pt x="263" y="329"/>
                    </a:lnTo>
                    <a:lnTo>
                      <a:pt x="239" y="328"/>
                    </a:lnTo>
                    <a:lnTo>
                      <a:pt x="214" y="326"/>
                    </a:lnTo>
                    <a:lnTo>
                      <a:pt x="188" y="324"/>
                    </a:lnTo>
                    <a:lnTo>
                      <a:pt x="166" y="323"/>
                    </a:lnTo>
                    <a:lnTo>
                      <a:pt x="144" y="322"/>
                    </a:lnTo>
                    <a:lnTo>
                      <a:pt x="126" y="322"/>
                    </a:lnTo>
                    <a:lnTo>
                      <a:pt x="110" y="322"/>
                    </a:lnTo>
                    <a:lnTo>
                      <a:pt x="98" y="322"/>
                    </a:lnTo>
                    <a:lnTo>
                      <a:pt x="91" y="323"/>
                    </a:lnTo>
                    <a:lnTo>
                      <a:pt x="85" y="329"/>
                    </a:lnTo>
                    <a:lnTo>
                      <a:pt x="77" y="340"/>
                    </a:lnTo>
                    <a:lnTo>
                      <a:pt x="70" y="357"/>
                    </a:lnTo>
                    <a:lnTo>
                      <a:pt x="64" y="374"/>
                    </a:lnTo>
                    <a:lnTo>
                      <a:pt x="58" y="391"/>
                    </a:lnTo>
                    <a:lnTo>
                      <a:pt x="54" y="406"/>
                    </a:lnTo>
                    <a:lnTo>
                      <a:pt x="52" y="417"/>
                    </a:lnTo>
                    <a:lnTo>
                      <a:pt x="50" y="421"/>
                    </a:lnTo>
                    <a:lnTo>
                      <a:pt x="47" y="425"/>
                    </a:lnTo>
                    <a:lnTo>
                      <a:pt x="40" y="436"/>
                    </a:lnTo>
                    <a:lnTo>
                      <a:pt x="30" y="447"/>
                    </a:lnTo>
                    <a:lnTo>
                      <a:pt x="18" y="457"/>
                    </a:lnTo>
                    <a:lnTo>
                      <a:pt x="8" y="459"/>
                    </a:lnTo>
                    <a:lnTo>
                      <a:pt x="1" y="452"/>
                    </a:lnTo>
                    <a:lnTo>
                      <a:pt x="0" y="430"/>
                    </a:lnTo>
                    <a:lnTo>
                      <a:pt x="5" y="389"/>
                    </a:lnTo>
                    <a:lnTo>
                      <a:pt x="10" y="360"/>
                    </a:lnTo>
                    <a:lnTo>
                      <a:pt x="18" y="331"/>
                    </a:lnTo>
                    <a:lnTo>
                      <a:pt x="26" y="302"/>
                    </a:lnTo>
                    <a:lnTo>
                      <a:pt x="36" y="274"/>
                    </a:lnTo>
                    <a:lnTo>
                      <a:pt x="47" y="245"/>
                    </a:lnTo>
                    <a:lnTo>
                      <a:pt x="58" y="218"/>
                    </a:lnTo>
                    <a:lnTo>
                      <a:pt x="70" y="192"/>
                    </a:lnTo>
                    <a:lnTo>
                      <a:pt x="83" y="166"/>
                    </a:lnTo>
                    <a:lnTo>
                      <a:pt x="97" y="141"/>
                    </a:lnTo>
                    <a:lnTo>
                      <a:pt x="111" y="118"/>
                    </a:lnTo>
                    <a:lnTo>
                      <a:pt x="126" y="95"/>
                    </a:lnTo>
                    <a:lnTo>
                      <a:pt x="141" y="75"/>
                    </a:lnTo>
                    <a:lnTo>
                      <a:pt x="155" y="56"/>
                    </a:lnTo>
                    <a:lnTo>
                      <a:pt x="170" y="40"/>
                    </a:lnTo>
                    <a:lnTo>
                      <a:pt x="186" y="23"/>
                    </a:lnTo>
                    <a:lnTo>
                      <a:pt x="201" y="11"/>
                    </a:lnTo>
                    <a:lnTo>
                      <a:pt x="223" y="0"/>
                    </a:lnTo>
                    <a:lnTo>
                      <a:pt x="228" y="12"/>
                    </a:lnTo>
                    <a:lnTo>
                      <a:pt x="224" y="40"/>
                    </a:lnTo>
                    <a:lnTo>
                      <a:pt x="211" y="77"/>
                    </a:lnTo>
                    <a:lnTo>
                      <a:pt x="195" y="118"/>
                    </a:lnTo>
                    <a:lnTo>
                      <a:pt x="178" y="155"/>
                    </a:lnTo>
                    <a:lnTo>
                      <a:pt x="166" y="182"/>
                    </a:lnTo>
                    <a:lnTo>
                      <a:pt x="161" y="192"/>
                    </a:lnTo>
                    <a:lnTo>
                      <a:pt x="163" y="189"/>
                    </a:lnTo>
                    <a:lnTo>
                      <a:pt x="169" y="181"/>
                    </a:lnTo>
                    <a:lnTo>
                      <a:pt x="178" y="170"/>
                    </a:lnTo>
                    <a:lnTo>
                      <a:pt x="191" y="155"/>
                    </a:lnTo>
                    <a:lnTo>
                      <a:pt x="204" y="139"/>
                    </a:lnTo>
                    <a:lnTo>
                      <a:pt x="219" y="123"/>
                    </a:lnTo>
                    <a:lnTo>
                      <a:pt x="235" y="108"/>
                    </a:lnTo>
                    <a:lnTo>
                      <a:pt x="251" y="93"/>
                    </a:lnTo>
                    <a:lnTo>
                      <a:pt x="266" y="82"/>
                    </a:lnTo>
                    <a:lnTo>
                      <a:pt x="280" y="75"/>
                    </a:lnTo>
                    <a:lnTo>
                      <a:pt x="292" y="73"/>
                    </a:lnTo>
                    <a:lnTo>
                      <a:pt x="301" y="78"/>
                    </a:lnTo>
                    <a:lnTo>
                      <a:pt x="308" y="90"/>
                    </a:lnTo>
                    <a:lnTo>
                      <a:pt x="311" y="110"/>
                    </a:lnTo>
                    <a:lnTo>
                      <a:pt x="308" y="141"/>
                    </a:lnTo>
                    <a:lnTo>
                      <a:pt x="300" y="182"/>
                    </a:lnTo>
                    <a:lnTo>
                      <a:pt x="299" y="194"/>
                    </a:lnTo>
                    <a:lnTo>
                      <a:pt x="303" y="198"/>
                    </a:lnTo>
                    <a:lnTo>
                      <a:pt x="311" y="194"/>
                    </a:lnTo>
                    <a:lnTo>
                      <a:pt x="321" y="184"/>
                    </a:lnTo>
                    <a:lnTo>
                      <a:pt x="335" y="170"/>
                    </a:lnTo>
                    <a:lnTo>
                      <a:pt x="352" y="152"/>
                    </a:lnTo>
                    <a:lnTo>
                      <a:pt x="369" y="131"/>
                    </a:lnTo>
                    <a:lnTo>
                      <a:pt x="388" y="109"/>
                    </a:lnTo>
                    <a:lnTo>
                      <a:pt x="409" y="85"/>
                    </a:lnTo>
                    <a:lnTo>
                      <a:pt x="428" y="64"/>
                    </a:lnTo>
                    <a:lnTo>
                      <a:pt x="448" y="43"/>
                    </a:lnTo>
                    <a:lnTo>
                      <a:pt x="466" y="27"/>
                    </a:lnTo>
                    <a:lnTo>
                      <a:pt x="483" y="14"/>
                    </a:lnTo>
                    <a:lnTo>
                      <a:pt x="498" y="6"/>
                    </a:lnTo>
                    <a:lnTo>
                      <a:pt x="509" y="5"/>
                    </a:lnTo>
                    <a:lnTo>
                      <a:pt x="518" y="11"/>
                    </a:lnTo>
                    <a:close/>
                  </a:path>
                </a:pathLst>
              </a:custGeom>
              <a:solidFill>
                <a:srgbClr val="fff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353400">
                <a:off x="6944760" y="2806200"/>
                <a:ext cx="250560" cy="218520"/>
              </a:xfrm>
              <a:custGeom>
                <a:avLst/>
                <a:gdLst/>
                <a:ahLst/>
                <a:rect l="l" t="t" r="r" b="b"/>
                <a:pathLst>
                  <a:path w="201" h="208">
                    <a:moveTo>
                      <a:pt x="0" y="99"/>
                    </a:moveTo>
                    <a:lnTo>
                      <a:pt x="0" y="103"/>
                    </a:lnTo>
                    <a:lnTo>
                      <a:pt x="0" y="114"/>
                    </a:lnTo>
                    <a:lnTo>
                      <a:pt x="1" y="129"/>
                    </a:lnTo>
                    <a:lnTo>
                      <a:pt x="6" y="147"/>
                    </a:lnTo>
                    <a:lnTo>
                      <a:pt x="14" y="166"/>
                    </a:lnTo>
                    <a:lnTo>
                      <a:pt x="28" y="184"/>
                    </a:lnTo>
                    <a:lnTo>
                      <a:pt x="47" y="199"/>
                    </a:lnTo>
                    <a:lnTo>
                      <a:pt x="76" y="208"/>
                    </a:lnTo>
                    <a:lnTo>
                      <a:pt x="78" y="208"/>
                    </a:lnTo>
                    <a:lnTo>
                      <a:pt x="82" y="208"/>
                    </a:lnTo>
                    <a:lnTo>
                      <a:pt x="89" y="208"/>
                    </a:lnTo>
                    <a:lnTo>
                      <a:pt x="98" y="207"/>
                    </a:lnTo>
                    <a:lnTo>
                      <a:pt x="106" y="206"/>
                    </a:lnTo>
                    <a:lnTo>
                      <a:pt x="116" y="202"/>
                    </a:lnTo>
                    <a:lnTo>
                      <a:pt x="122" y="196"/>
                    </a:lnTo>
                    <a:lnTo>
                      <a:pt x="127" y="187"/>
                    </a:lnTo>
                    <a:lnTo>
                      <a:pt x="129" y="189"/>
                    </a:lnTo>
                    <a:lnTo>
                      <a:pt x="136" y="191"/>
                    </a:lnTo>
                    <a:lnTo>
                      <a:pt x="146" y="194"/>
                    </a:lnTo>
                    <a:lnTo>
                      <a:pt x="159" y="194"/>
                    </a:lnTo>
                    <a:lnTo>
                      <a:pt x="171" y="191"/>
                    </a:lnTo>
                    <a:lnTo>
                      <a:pt x="183" y="184"/>
                    </a:lnTo>
                    <a:lnTo>
                      <a:pt x="192" y="170"/>
                    </a:lnTo>
                    <a:lnTo>
                      <a:pt x="199" y="149"/>
                    </a:lnTo>
                    <a:lnTo>
                      <a:pt x="201" y="123"/>
                    </a:lnTo>
                    <a:lnTo>
                      <a:pt x="198" y="95"/>
                    </a:lnTo>
                    <a:lnTo>
                      <a:pt x="191" y="68"/>
                    </a:lnTo>
                    <a:lnTo>
                      <a:pt x="178" y="44"/>
                    </a:lnTo>
                    <a:lnTo>
                      <a:pt x="160" y="24"/>
                    </a:lnTo>
                    <a:lnTo>
                      <a:pt x="138" y="8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49" y="9"/>
                    </a:lnTo>
                    <a:lnTo>
                      <a:pt x="28" y="21"/>
                    </a:lnTo>
                    <a:lnTo>
                      <a:pt x="14" y="38"/>
                    </a:lnTo>
                    <a:lnTo>
                      <a:pt x="6" y="55"/>
                    </a:lnTo>
                    <a:lnTo>
                      <a:pt x="1" y="72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53400">
                <a:off x="6987600" y="2842200"/>
                <a:ext cx="90360" cy="134280"/>
              </a:xfrm>
              <a:custGeom>
                <a:avLst/>
                <a:gdLst/>
                <a:ahLst/>
                <a:rect l="l" t="t" r="r" b="b"/>
                <a:pathLst>
                  <a:path w="72" h="127">
                    <a:moveTo>
                      <a:pt x="6" y="31"/>
                    </a:moveTo>
                    <a:lnTo>
                      <a:pt x="5" y="34"/>
                    </a:lnTo>
                    <a:lnTo>
                      <a:pt x="3" y="43"/>
                    </a:lnTo>
                    <a:lnTo>
                      <a:pt x="1" y="57"/>
                    </a:lnTo>
                    <a:lnTo>
                      <a:pt x="0" y="73"/>
                    </a:lnTo>
                    <a:lnTo>
                      <a:pt x="1" y="89"/>
                    </a:lnTo>
                    <a:lnTo>
                      <a:pt x="5" y="105"/>
                    </a:lnTo>
                    <a:lnTo>
                      <a:pt x="13" y="117"/>
                    </a:lnTo>
                    <a:lnTo>
                      <a:pt x="28" y="126"/>
                    </a:lnTo>
                    <a:lnTo>
                      <a:pt x="30" y="126"/>
                    </a:lnTo>
                    <a:lnTo>
                      <a:pt x="35" y="127"/>
                    </a:lnTo>
                    <a:lnTo>
                      <a:pt x="42" y="127"/>
                    </a:lnTo>
                    <a:lnTo>
                      <a:pt x="50" y="126"/>
                    </a:lnTo>
                    <a:lnTo>
                      <a:pt x="57" y="124"/>
                    </a:lnTo>
                    <a:lnTo>
                      <a:pt x="62" y="119"/>
                    </a:lnTo>
                    <a:lnTo>
                      <a:pt x="66" y="111"/>
                    </a:lnTo>
                    <a:lnTo>
                      <a:pt x="66" y="99"/>
                    </a:lnTo>
                    <a:lnTo>
                      <a:pt x="66" y="93"/>
                    </a:lnTo>
                    <a:lnTo>
                      <a:pt x="64" y="78"/>
                    </a:lnTo>
                    <a:lnTo>
                      <a:pt x="57" y="65"/>
                    </a:lnTo>
                    <a:lnTo>
                      <a:pt x="42" y="64"/>
                    </a:lnTo>
                    <a:lnTo>
                      <a:pt x="42" y="58"/>
                    </a:lnTo>
                    <a:lnTo>
                      <a:pt x="45" y="44"/>
                    </a:lnTo>
                    <a:lnTo>
                      <a:pt x="53" y="27"/>
                    </a:lnTo>
                    <a:lnTo>
                      <a:pt x="67" y="13"/>
                    </a:lnTo>
                    <a:lnTo>
                      <a:pt x="72" y="8"/>
                    </a:lnTo>
                    <a:lnTo>
                      <a:pt x="70" y="5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28" y="7"/>
                    </a:lnTo>
                    <a:lnTo>
                      <a:pt x="17" y="16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353400">
                <a:off x="7079400" y="2869200"/>
                <a:ext cx="64800" cy="109440"/>
              </a:xfrm>
              <a:custGeom>
                <a:avLst/>
                <a:gdLst/>
                <a:ahLst/>
                <a:rect l="l" t="t" r="r" b="b"/>
                <a:pathLst>
                  <a:path w="52" h="104">
                    <a:moveTo>
                      <a:pt x="19" y="99"/>
                    </a:moveTo>
                    <a:lnTo>
                      <a:pt x="20" y="92"/>
                    </a:lnTo>
                    <a:lnTo>
                      <a:pt x="20" y="74"/>
                    </a:lnTo>
                    <a:lnTo>
                      <a:pt x="17" y="56"/>
                    </a:lnTo>
                    <a:lnTo>
                      <a:pt x="8" y="41"/>
                    </a:lnTo>
                    <a:lnTo>
                      <a:pt x="3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8" y="3"/>
                    </a:lnTo>
                    <a:lnTo>
                      <a:pt x="26" y="0"/>
                    </a:lnTo>
                    <a:lnTo>
                      <a:pt x="40" y="6"/>
                    </a:lnTo>
                    <a:lnTo>
                      <a:pt x="49" y="26"/>
                    </a:lnTo>
                    <a:lnTo>
                      <a:pt x="52" y="53"/>
                    </a:lnTo>
                    <a:lnTo>
                      <a:pt x="52" y="79"/>
                    </a:lnTo>
                    <a:lnTo>
                      <a:pt x="48" y="97"/>
                    </a:lnTo>
                    <a:lnTo>
                      <a:pt x="41" y="104"/>
                    </a:lnTo>
                    <a:lnTo>
                      <a:pt x="30" y="104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353400">
                <a:off x="7346160" y="2884680"/>
                <a:ext cx="1258560" cy="1018080"/>
              </a:xfrm>
              <a:custGeom>
                <a:avLst/>
                <a:gdLst/>
                <a:ahLst/>
                <a:rect l="l" t="t" r="r" b="b"/>
                <a:pathLst>
                  <a:path w="1005" h="970">
                    <a:moveTo>
                      <a:pt x="242" y="0"/>
                    </a:moveTo>
                    <a:lnTo>
                      <a:pt x="241" y="4"/>
                    </a:lnTo>
                    <a:lnTo>
                      <a:pt x="237" y="16"/>
                    </a:lnTo>
                    <a:lnTo>
                      <a:pt x="230" y="35"/>
                    </a:lnTo>
                    <a:lnTo>
                      <a:pt x="221" y="62"/>
                    </a:lnTo>
                    <a:lnTo>
                      <a:pt x="209" y="96"/>
                    </a:lnTo>
                    <a:lnTo>
                      <a:pt x="197" y="137"/>
                    </a:lnTo>
                    <a:lnTo>
                      <a:pt x="182" y="185"/>
                    </a:lnTo>
                    <a:lnTo>
                      <a:pt x="165" y="239"/>
                    </a:lnTo>
                    <a:lnTo>
                      <a:pt x="148" y="301"/>
                    </a:lnTo>
                    <a:lnTo>
                      <a:pt x="128" y="369"/>
                    </a:lnTo>
                    <a:lnTo>
                      <a:pt x="108" y="444"/>
                    </a:lnTo>
                    <a:lnTo>
                      <a:pt x="87" y="524"/>
                    </a:lnTo>
                    <a:lnTo>
                      <a:pt x="65" y="611"/>
                    </a:lnTo>
                    <a:lnTo>
                      <a:pt x="44" y="704"/>
                    </a:lnTo>
                    <a:lnTo>
                      <a:pt x="22" y="802"/>
                    </a:lnTo>
                    <a:lnTo>
                      <a:pt x="0" y="906"/>
                    </a:lnTo>
                    <a:lnTo>
                      <a:pt x="2" y="906"/>
                    </a:lnTo>
                    <a:lnTo>
                      <a:pt x="5" y="907"/>
                    </a:lnTo>
                    <a:lnTo>
                      <a:pt x="12" y="909"/>
                    </a:lnTo>
                    <a:lnTo>
                      <a:pt x="21" y="912"/>
                    </a:lnTo>
                    <a:lnTo>
                      <a:pt x="31" y="916"/>
                    </a:lnTo>
                    <a:lnTo>
                      <a:pt x="45" y="919"/>
                    </a:lnTo>
                    <a:lnTo>
                      <a:pt x="61" y="923"/>
                    </a:lnTo>
                    <a:lnTo>
                      <a:pt x="78" y="928"/>
                    </a:lnTo>
                    <a:lnTo>
                      <a:pt x="97" y="932"/>
                    </a:lnTo>
                    <a:lnTo>
                      <a:pt x="120" y="937"/>
                    </a:lnTo>
                    <a:lnTo>
                      <a:pt x="144" y="942"/>
                    </a:lnTo>
                    <a:lnTo>
                      <a:pt x="169" y="947"/>
                    </a:lnTo>
                    <a:lnTo>
                      <a:pt x="197" y="950"/>
                    </a:lnTo>
                    <a:lnTo>
                      <a:pt x="226" y="955"/>
                    </a:lnTo>
                    <a:lnTo>
                      <a:pt x="258" y="959"/>
                    </a:lnTo>
                    <a:lnTo>
                      <a:pt x="291" y="963"/>
                    </a:lnTo>
                    <a:lnTo>
                      <a:pt x="326" y="965"/>
                    </a:lnTo>
                    <a:lnTo>
                      <a:pt x="362" y="968"/>
                    </a:lnTo>
                    <a:lnTo>
                      <a:pt x="400" y="969"/>
                    </a:lnTo>
                    <a:lnTo>
                      <a:pt x="439" y="970"/>
                    </a:lnTo>
                    <a:lnTo>
                      <a:pt x="480" y="970"/>
                    </a:lnTo>
                    <a:lnTo>
                      <a:pt x="522" y="969"/>
                    </a:lnTo>
                    <a:lnTo>
                      <a:pt x="565" y="966"/>
                    </a:lnTo>
                    <a:lnTo>
                      <a:pt x="610" y="963"/>
                    </a:lnTo>
                    <a:lnTo>
                      <a:pt x="656" y="959"/>
                    </a:lnTo>
                    <a:lnTo>
                      <a:pt x="702" y="953"/>
                    </a:lnTo>
                    <a:lnTo>
                      <a:pt x="750" y="945"/>
                    </a:lnTo>
                    <a:lnTo>
                      <a:pt x="799" y="937"/>
                    </a:lnTo>
                    <a:lnTo>
                      <a:pt x="850" y="925"/>
                    </a:lnTo>
                    <a:lnTo>
                      <a:pt x="901" y="913"/>
                    </a:lnTo>
                    <a:lnTo>
                      <a:pt x="952" y="899"/>
                    </a:lnTo>
                    <a:lnTo>
                      <a:pt x="1005" y="883"/>
                    </a:lnTo>
                    <a:lnTo>
                      <a:pt x="892" y="633"/>
                    </a:lnTo>
                    <a:lnTo>
                      <a:pt x="815" y="683"/>
                    </a:lnTo>
                    <a:lnTo>
                      <a:pt x="813" y="686"/>
                    </a:lnTo>
                    <a:lnTo>
                      <a:pt x="808" y="695"/>
                    </a:lnTo>
                    <a:lnTo>
                      <a:pt x="799" y="707"/>
                    </a:lnTo>
                    <a:lnTo>
                      <a:pt x="787" y="721"/>
                    </a:lnTo>
                    <a:lnTo>
                      <a:pt x="771" y="735"/>
                    </a:lnTo>
                    <a:lnTo>
                      <a:pt x="753" y="745"/>
                    </a:lnTo>
                    <a:lnTo>
                      <a:pt x="731" y="748"/>
                    </a:lnTo>
                    <a:lnTo>
                      <a:pt x="707" y="746"/>
                    </a:lnTo>
                    <a:lnTo>
                      <a:pt x="705" y="746"/>
                    </a:lnTo>
                    <a:lnTo>
                      <a:pt x="700" y="743"/>
                    </a:lnTo>
                    <a:lnTo>
                      <a:pt x="693" y="741"/>
                    </a:lnTo>
                    <a:lnTo>
                      <a:pt x="686" y="736"/>
                    </a:lnTo>
                    <a:lnTo>
                      <a:pt x="679" y="729"/>
                    </a:lnTo>
                    <a:lnTo>
                      <a:pt x="675" y="719"/>
                    </a:lnTo>
                    <a:lnTo>
                      <a:pt x="674" y="707"/>
                    </a:lnTo>
                    <a:lnTo>
                      <a:pt x="676" y="693"/>
                    </a:lnTo>
                    <a:lnTo>
                      <a:pt x="678" y="678"/>
                    </a:lnTo>
                    <a:lnTo>
                      <a:pt x="676" y="667"/>
                    </a:lnTo>
                    <a:lnTo>
                      <a:pt x="671" y="658"/>
                    </a:lnTo>
                    <a:lnTo>
                      <a:pt x="665" y="651"/>
                    </a:lnTo>
                    <a:lnTo>
                      <a:pt x="658" y="647"/>
                    </a:lnTo>
                    <a:lnTo>
                      <a:pt x="651" y="644"/>
                    </a:lnTo>
                    <a:lnTo>
                      <a:pt x="646" y="643"/>
                    </a:lnTo>
                    <a:lnTo>
                      <a:pt x="644" y="643"/>
                    </a:lnTo>
                    <a:lnTo>
                      <a:pt x="641" y="637"/>
                    </a:lnTo>
                    <a:lnTo>
                      <a:pt x="637" y="622"/>
                    </a:lnTo>
                    <a:lnTo>
                      <a:pt x="638" y="606"/>
                    </a:lnTo>
                    <a:lnTo>
                      <a:pt x="653" y="594"/>
                    </a:lnTo>
                    <a:lnTo>
                      <a:pt x="666" y="590"/>
                    </a:lnTo>
                    <a:lnTo>
                      <a:pt x="681" y="585"/>
                    </a:lnTo>
                    <a:lnTo>
                      <a:pt x="694" y="581"/>
                    </a:lnTo>
                    <a:lnTo>
                      <a:pt x="708" y="576"/>
                    </a:lnTo>
                    <a:lnTo>
                      <a:pt x="721" y="571"/>
                    </a:lnTo>
                    <a:lnTo>
                      <a:pt x="730" y="569"/>
                    </a:lnTo>
                    <a:lnTo>
                      <a:pt x="737" y="566"/>
                    </a:lnTo>
                    <a:lnTo>
                      <a:pt x="739" y="565"/>
                    </a:lnTo>
                    <a:lnTo>
                      <a:pt x="741" y="558"/>
                    </a:lnTo>
                    <a:lnTo>
                      <a:pt x="746" y="539"/>
                    </a:lnTo>
                    <a:lnTo>
                      <a:pt x="750" y="512"/>
                    </a:lnTo>
                    <a:lnTo>
                      <a:pt x="756" y="481"/>
                    </a:lnTo>
                    <a:lnTo>
                      <a:pt x="758" y="447"/>
                    </a:lnTo>
                    <a:lnTo>
                      <a:pt x="756" y="416"/>
                    </a:lnTo>
                    <a:lnTo>
                      <a:pt x="749" y="390"/>
                    </a:lnTo>
                    <a:lnTo>
                      <a:pt x="734" y="374"/>
                    </a:lnTo>
                    <a:lnTo>
                      <a:pt x="716" y="364"/>
                    </a:lnTo>
                    <a:lnTo>
                      <a:pt x="700" y="356"/>
                    </a:lnTo>
                    <a:lnTo>
                      <a:pt x="685" y="348"/>
                    </a:lnTo>
                    <a:lnTo>
                      <a:pt x="673" y="343"/>
                    </a:lnTo>
                    <a:lnTo>
                      <a:pt x="662" y="340"/>
                    </a:lnTo>
                    <a:lnTo>
                      <a:pt x="656" y="337"/>
                    </a:lnTo>
                    <a:lnTo>
                      <a:pt x="650" y="335"/>
                    </a:lnTo>
                    <a:lnTo>
                      <a:pt x="649" y="335"/>
                    </a:lnTo>
                    <a:lnTo>
                      <a:pt x="522" y="350"/>
                    </a:lnTo>
                    <a:lnTo>
                      <a:pt x="549" y="227"/>
                    </a:lnTo>
                    <a:lnTo>
                      <a:pt x="547" y="227"/>
                    </a:lnTo>
                    <a:lnTo>
                      <a:pt x="543" y="227"/>
                    </a:lnTo>
                    <a:lnTo>
                      <a:pt x="533" y="228"/>
                    </a:lnTo>
                    <a:lnTo>
                      <a:pt x="522" y="228"/>
                    </a:lnTo>
                    <a:lnTo>
                      <a:pt x="507" y="228"/>
                    </a:lnTo>
                    <a:lnTo>
                      <a:pt x="491" y="228"/>
                    </a:lnTo>
                    <a:lnTo>
                      <a:pt x="473" y="228"/>
                    </a:lnTo>
                    <a:lnTo>
                      <a:pt x="454" y="228"/>
                    </a:lnTo>
                    <a:lnTo>
                      <a:pt x="433" y="228"/>
                    </a:lnTo>
                    <a:lnTo>
                      <a:pt x="411" y="227"/>
                    </a:lnTo>
                    <a:lnTo>
                      <a:pt x="390" y="226"/>
                    </a:lnTo>
                    <a:lnTo>
                      <a:pt x="367" y="223"/>
                    </a:lnTo>
                    <a:lnTo>
                      <a:pt x="345" y="221"/>
                    </a:lnTo>
                    <a:lnTo>
                      <a:pt x="323" y="217"/>
                    </a:lnTo>
                    <a:lnTo>
                      <a:pt x="303" y="213"/>
                    </a:lnTo>
                    <a:lnTo>
                      <a:pt x="283" y="208"/>
                    </a:lnTo>
                    <a:lnTo>
                      <a:pt x="337" y="3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353400">
                <a:off x="7417800" y="2913840"/>
                <a:ext cx="1120320" cy="941040"/>
              </a:xfrm>
              <a:custGeom>
                <a:avLst/>
                <a:gdLst/>
                <a:ahLst/>
                <a:rect l="l" t="t" r="r" b="b"/>
                <a:pathLst>
                  <a:path w="894" h="895">
                    <a:moveTo>
                      <a:pt x="0" y="842"/>
                    </a:moveTo>
                    <a:lnTo>
                      <a:pt x="35" y="853"/>
                    </a:lnTo>
                    <a:lnTo>
                      <a:pt x="70" y="863"/>
                    </a:lnTo>
                    <a:lnTo>
                      <a:pt x="105" y="871"/>
                    </a:lnTo>
                    <a:lnTo>
                      <a:pt x="142" y="878"/>
                    </a:lnTo>
                    <a:lnTo>
                      <a:pt x="178" y="884"/>
                    </a:lnTo>
                    <a:lnTo>
                      <a:pt x="216" y="888"/>
                    </a:lnTo>
                    <a:lnTo>
                      <a:pt x="254" y="891"/>
                    </a:lnTo>
                    <a:lnTo>
                      <a:pt x="291" y="894"/>
                    </a:lnTo>
                    <a:lnTo>
                      <a:pt x="329" y="895"/>
                    </a:lnTo>
                    <a:lnTo>
                      <a:pt x="367" y="895"/>
                    </a:lnTo>
                    <a:lnTo>
                      <a:pt x="404" y="894"/>
                    </a:lnTo>
                    <a:lnTo>
                      <a:pt x="441" y="893"/>
                    </a:lnTo>
                    <a:lnTo>
                      <a:pt x="477" y="891"/>
                    </a:lnTo>
                    <a:lnTo>
                      <a:pt x="513" y="888"/>
                    </a:lnTo>
                    <a:lnTo>
                      <a:pt x="548" y="885"/>
                    </a:lnTo>
                    <a:lnTo>
                      <a:pt x="582" y="881"/>
                    </a:lnTo>
                    <a:lnTo>
                      <a:pt x="614" y="878"/>
                    </a:lnTo>
                    <a:lnTo>
                      <a:pt x="646" y="873"/>
                    </a:lnTo>
                    <a:lnTo>
                      <a:pt x="677" y="869"/>
                    </a:lnTo>
                    <a:lnTo>
                      <a:pt x="706" y="864"/>
                    </a:lnTo>
                    <a:lnTo>
                      <a:pt x="733" y="859"/>
                    </a:lnTo>
                    <a:lnTo>
                      <a:pt x="759" y="854"/>
                    </a:lnTo>
                    <a:lnTo>
                      <a:pt x="783" y="849"/>
                    </a:lnTo>
                    <a:lnTo>
                      <a:pt x="805" y="845"/>
                    </a:lnTo>
                    <a:lnTo>
                      <a:pt x="824" y="841"/>
                    </a:lnTo>
                    <a:lnTo>
                      <a:pt x="843" y="837"/>
                    </a:lnTo>
                    <a:lnTo>
                      <a:pt x="857" y="833"/>
                    </a:lnTo>
                    <a:lnTo>
                      <a:pt x="870" y="831"/>
                    </a:lnTo>
                    <a:lnTo>
                      <a:pt x="880" y="828"/>
                    </a:lnTo>
                    <a:lnTo>
                      <a:pt x="888" y="826"/>
                    </a:lnTo>
                    <a:lnTo>
                      <a:pt x="893" y="824"/>
                    </a:lnTo>
                    <a:lnTo>
                      <a:pt x="894" y="824"/>
                    </a:lnTo>
                    <a:lnTo>
                      <a:pt x="812" y="636"/>
                    </a:lnTo>
                    <a:lnTo>
                      <a:pt x="767" y="660"/>
                    </a:lnTo>
                    <a:lnTo>
                      <a:pt x="749" y="696"/>
                    </a:lnTo>
                    <a:lnTo>
                      <a:pt x="730" y="720"/>
                    </a:lnTo>
                    <a:lnTo>
                      <a:pt x="709" y="734"/>
                    </a:lnTo>
                    <a:lnTo>
                      <a:pt x="689" y="740"/>
                    </a:lnTo>
                    <a:lnTo>
                      <a:pt x="669" y="740"/>
                    </a:lnTo>
                    <a:lnTo>
                      <a:pt x="651" y="736"/>
                    </a:lnTo>
                    <a:lnTo>
                      <a:pt x="635" y="730"/>
                    </a:lnTo>
                    <a:lnTo>
                      <a:pt x="621" y="723"/>
                    </a:lnTo>
                    <a:lnTo>
                      <a:pt x="604" y="708"/>
                    </a:lnTo>
                    <a:lnTo>
                      <a:pt x="595" y="693"/>
                    </a:lnTo>
                    <a:lnTo>
                      <a:pt x="594" y="677"/>
                    </a:lnTo>
                    <a:lnTo>
                      <a:pt x="600" y="660"/>
                    </a:lnTo>
                    <a:lnTo>
                      <a:pt x="604" y="646"/>
                    </a:lnTo>
                    <a:lnTo>
                      <a:pt x="603" y="640"/>
                    </a:lnTo>
                    <a:lnTo>
                      <a:pt x="601" y="639"/>
                    </a:lnTo>
                    <a:lnTo>
                      <a:pt x="600" y="639"/>
                    </a:lnTo>
                    <a:lnTo>
                      <a:pt x="581" y="636"/>
                    </a:lnTo>
                    <a:lnTo>
                      <a:pt x="569" y="630"/>
                    </a:lnTo>
                    <a:lnTo>
                      <a:pt x="562" y="620"/>
                    </a:lnTo>
                    <a:lnTo>
                      <a:pt x="560" y="610"/>
                    </a:lnTo>
                    <a:lnTo>
                      <a:pt x="560" y="600"/>
                    </a:lnTo>
                    <a:lnTo>
                      <a:pt x="561" y="590"/>
                    </a:lnTo>
                    <a:lnTo>
                      <a:pt x="562" y="584"/>
                    </a:lnTo>
                    <a:lnTo>
                      <a:pt x="563" y="582"/>
                    </a:lnTo>
                    <a:lnTo>
                      <a:pt x="573" y="566"/>
                    </a:lnTo>
                    <a:lnTo>
                      <a:pt x="588" y="552"/>
                    </a:lnTo>
                    <a:lnTo>
                      <a:pt x="605" y="541"/>
                    </a:lnTo>
                    <a:lnTo>
                      <a:pt x="623" y="533"/>
                    </a:lnTo>
                    <a:lnTo>
                      <a:pt x="641" y="527"/>
                    </a:lnTo>
                    <a:lnTo>
                      <a:pt x="655" y="522"/>
                    </a:lnTo>
                    <a:lnTo>
                      <a:pt x="666" y="521"/>
                    </a:lnTo>
                    <a:lnTo>
                      <a:pt x="669" y="520"/>
                    </a:lnTo>
                    <a:lnTo>
                      <a:pt x="683" y="457"/>
                    </a:lnTo>
                    <a:lnTo>
                      <a:pt x="685" y="407"/>
                    </a:lnTo>
                    <a:lnTo>
                      <a:pt x="681" y="371"/>
                    </a:lnTo>
                    <a:lnTo>
                      <a:pt x="669" y="345"/>
                    </a:lnTo>
                    <a:lnTo>
                      <a:pt x="655" y="328"/>
                    </a:lnTo>
                    <a:lnTo>
                      <a:pt x="643" y="319"/>
                    </a:lnTo>
                    <a:lnTo>
                      <a:pt x="633" y="314"/>
                    </a:lnTo>
                    <a:lnTo>
                      <a:pt x="629" y="313"/>
                    </a:lnTo>
                    <a:lnTo>
                      <a:pt x="614" y="317"/>
                    </a:lnTo>
                    <a:lnTo>
                      <a:pt x="598" y="320"/>
                    </a:lnTo>
                    <a:lnTo>
                      <a:pt x="582" y="323"/>
                    </a:lnTo>
                    <a:lnTo>
                      <a:pt x="565" y="324"/>
                    </a:lnTo>
                    <a:lnTo>
                      <a:pt x="548" y="327"/>
                    </a:lnTo>
                    <a:lnTo>
                      <a:pt x="531" y="327"/>
                    </a:lnTo>
                    <a:lnTo>
                      <a:pt x="514" y="328"/>
                    </a:lnTo>
                    <a:lnTo>
                      <a:pt x="498" y="328"/>
                    </a:lnTo>
                    <a:lnTo>
                      <a:pt x="483" y="327"/>
                    </a:lnTo>
                    <a:lnTo>
                      <a:pt x="468" y="327"/>
                    </a:lnTo>
                    <a:lnTo>
                      <a:pt x="456" y="327"/>
                    </a:lnTo>
                    <a:lnTo>
                      <a:pt x="445" y="325"/>
                    </a:lnTo>
                    <a:lnTo>
                      <a:pt x="436" y="325"/>
                    </a:lnTo>
                    <a:lnTo>
                      <a:pt x="429" y="324"/>
                    </a:lnTo>
                    <a:lnTo>
                      <a:pt x="425" y="324"/>
                    </a:lnTo>
                    <a:lnTo>
                      <a:pt x="424" y="324"/>
                    </a:lnTo>
                    <a:lnTo>
                      <a:pt x="453" y="251"/>
                    </a:lnTo>
                    <a:lnTo>
                      <a:pt x="168" y="226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211" y="8"/>
                    </a:lnTo>
                    <a:lnTo>
                      <a:pt x="207" y="21"/>
                    </a:lnTo>
                    <a:lnTo>
                      <a:pt x="201" y="40"/>
                    </a:lnTo>
                    <a:lnTo>
                      <a:pt x="192" y="66"/>
                    </a:lnTo>
                    <a:lnTo>
                      <a:pt x="182" y="100"/>
                    </a:lnTo>
                    <a:lnTo>
                      <a:pt x="169" y="139"/>
                    </a:lnTo>
                    <a:lnTo>
                      <a:pt x="156" y="185"/>
                    </a:lnTo>
                    <a:lnTo>
                      <a:pt x="141" y="237"/>
                    </a:lnTo>
                    <a:lnTo>
                      <a:pt x="125" y="294"/>
                    </a:lnTo>
                    <a:lnTo>
                      <a:pt x="109" y="355"/>
                    </a:lnTo>
                    <a:lnTo>
                      <a:pt x="91" y="422"/>
                    </a:lnTo>
                    <a:lnTo>
                      <a:pt x="73" y="491"/>
                    </a:lnTo>
                    <a:lnTo>
                      <a:pt x="56" y="566"/>
                    </a:lnTo>
                    <a:lnTo>
                      <a:pt x="38" y="642"/>
                    </a:lnTo>
                    <a:lnTo>
                      <a:pt x="21" y="723"/>
                    </a:lnTo>
                    <a:lnTo>
                      <a:pt x="5" y="806"/>
                    </a:lnTo>
                    <a:lnTo>
                      <a:pt x="0" y="842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353400">
                <a:off x="7538040" y="3261240"/>
                <a:ext cx="476280" cy="318960"/>
              </a:xfrm>
              <a:custGeom>
                <a:avLst/>
                <a:gdLst/>
                <a:ahLst/>
                <a:rect l="l" t="t" r="r" b="b"/>
                <a:pathLst>
                  <a:path w="380" h="303">
                    <a:moveTo>
                      <a:pt x="56" y="0"/>
                    </a:moveTo>
                    <a:lnTo>
                      <a:pt x="53" y="7"/>
                    </a:lnTo>
                    <a:lnTo>
                      <a:pt x="49" y="27"/>
                    </a:lnTo>
                    <a:lnTo>
                      <a:pt x="42" y="57"/>
                    </a:lnTo>
                    <a:lnTo>
                      <a:pt x="33" y="93"/>
                    </a:lnTo>
                    <a:lnTo>
                      <a:pt x="24" y="133"/>
                    </a:lnTo>
                    <a:lnTo>
                      <a:pt x="15" y="172"/>
                    </a:lnTo>
                    <a:lnTo>
                      <a:pt x="7" y="211"/>
                    </a:lnTo>
                    <a:lnTo>
                      <a:pt x="0" y="243"/>
                    </a:lnTo>
                    <a:lnTo>
                      <a:pt x="1" y="244"/>
                    </a:lnTo>
                    <a:lnTo>
                      <a:pt x="5" y="247"/>
                    </a:lnTo>
                    <a:lnTo>
                      <a:pt x="12" y="250"/>
                    </a:lnTo>
                    <a:lnTo>
                      <a:pt x="23" y="255"/>
                    </a:lnTo>
                    <a:lnTo>
                      <a:pt x="35" y="261"/>
                    </a:lnTo>
                    <a:lnTo>
                      <a:pt x="50" y="269"/>
                    </a:lnTo>
                    <a:lnTo>
                      <a:pt x="68" y="275"/>
                    </a:lnTo>
                    <a:lnTo>
                      <a:pt x="89" y="281"/>
                    </a:lnTo>
                    <a:lnTo>
                      <a:pt x="112" y="289"/>
                    </a:lnTo>
                    <a:lnTo>
                      <a:pt x="137" y="294"/>
                    </a:lnTo>
                    <a:lnTo>
                      <a:pt x="164" y="299"/>
                    </a:lnTo>
                    <a:lnTo>
                      <a:pt x="195" y="301"/>
                    </a:lnTo>
                    <a:lnTo>
                      <a:pt x="227" y="303"/>
                    </a:lnTo>
                    <a:lnTo>
                      <a:pt x="262" y="302"/>
                    </a:lnTo>
                    <a:lnTo>
                      <a:pt x="299" y="300"/>
                    </a:lnTo>
                    <a:lnTo>
                      <a:pt x="338" y="295"/>
                    </a:lnTo>
                    <a:lnTo>
                      <a:pt x="380" y="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353400">
                <a:off x="7629120" y="3303720"/>
                <a:ext cx="348120" cy="121680"/>
              </a:xfrm>
              <a:custGeom>
                <a:avLst/>
                <a:gdLst/>
                <a:ahLst/>
                <a:rect l="l" t="t" r="r" b="b"/>
                <a:pathLst>
                  <a:path w="279" h="118">
                    <a:moveTo>
                      <a:pt x="10" y="0"/>
                    </a:moveTo>
                    <a:lnTo>
                      <a:pt x="9" y="3"/>
                    </a:lnTo>
                    <a:lnTo>
                      <a:pt x="7" y="11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2"/>
                    </a:lnTo>
                    <a:lnTo>
                      <a:pt x="2" y="67"/>
                    </a:lnTo>
                    <a:lnTo>
                      <a:pt x="8" y="79"/>
                    </a:lnTo>
                    <a:lnTo>
                      <a:pt x="20" y="88"/>
                    </a:lnTo>
                    <a:lnTo>
                      <a:pt x="28" y="92"/>
                    </a:lnTo>
                    <a:lnTo>
                      <a:pt x="39" y="94"/>
                    </a:lnTo>
                    <a:lnTo>
                      <a:pt x="53" y="97"/>
                    </a:lnTo>
                    <a:lnTo>
                      <a:pt x="67" y="101"/>
                    </a:lnTo>
                    <a:lnTo>
                      <a:pt x="83" y="103"/>
                    </a:lnTo>
                    <a:lnTo>
                      <a:pt x="101" y="105"/>
                    </a:lnTo>
                    <a:lnTo>
                      <a:pt x="118" y="108"/>
                    </a:lnTo>
                    <a:lnTo>
                      <a:pt x="135" y="109"/>
                    </a:lnTo>
                    <a:lnTo>
                      <a:pt x="152" y="112"/>
                    </a:lnTo>
                    <a:lnTo>
                      <a:pt x="168" y="113"/>
                    </a:lnTo>
                    <a:lnTo>
                      <a:pt x="183" y="114"/>
                    </a:lnTo>
                    <a:lnTo>
                      <a:pt x="196" y="115"/>
                    </a:lnTo>
                    <a:lnTo>
                      <a:pt x="207" y="117"/>
                    </a:lnTo>
                    <a:lnTo>
                      <a:pt x="216" y="118"/>
                    </a:lnTo>
                    <a:lnTo>
                      <a:pt x="220" y="118"/>
                    </a:lnTo>
                    <a:lnTo>
                      <a:pt x="223" y="118"/>
                    </a:lnTo>
                    <a:lnTo>
                      <a:pt x="224" y="118"/>
                    </a:lnTo>
                    <a:lnTo>
                      <a:pt x="228" y="118"/>
                    </a:lnTo>
                    <a:lnTo>
                      <a:pt x="234" y="118"/>
                    </a:lnTo>
                    <a:lnTo>
                      <a:pt x="241" y="115"/>
                    </a:lnTo>
                    <a:lnTo>
                      <a:pt x="249" y="113"/>
                    </a:lnTo>
                    <a:lnTo>
                      <a:pt x="256" y="108"/>
                    </a:lnTo>
                    <a:lnTo>
                      <a:pt x="263" y="102"/>
                    </a:lnTo>
                    <a:lnTo>
                      <a:pt x="267" y="92"/>
                    </a:lnTo>
                    <a:lnTo>
                      <a:pt x="273" y="68"/>
                    </a:lnTo>
                    <a:lnTo>
                      <a:pt x="276" y="48"/>
                    </a:lnTo>
                    <a:lnTo>
                      <a:pt x="279" y="34"/>
                    </a:lnTo>
                    <a:lnTo>
                      <a:pt x="279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353400">
                <a:off x="7583400" y="3400920"/>
                <a:ext cx="357840" cy="140400"/>
              </a:xfrm>
              <a:custGeom>
                <a:avLst/>
                <a:gdLst/>
                <a:ahLst/>
                <a:rect l="l" t="t" r="r" b="b"/>
                <a:pathLst>
                  <a:path w="286" h="134">
                    <a:moveTo>
                      <a:pt x="21" y="0"/>
                    </a:moveTo>
                    <a:lnTo>
                      <a:pt x="21" y="1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29" y="11"/>
                    </a:lnTo>
                    <a:lnTo>
                      <a:pt x="34" y="15"/>
                    </a:lnTo>
                    <a:lnTo>
                      <a:pt x="40" y="20"/>
                    </a:lnTo>
                    <a:lnTo>
                      <a:pt x="46" y="23"/>
                    </a:lnTo>
                    <a:lnTo>
                      <a:pt x="56" y="26"/>
                    </a:lnTo>
                    <a:lnTo>
                      <a:pt x="70" y="28"/>
                    </a:lnTo>
                    <a:lnTo>
                      <a:pt x="93" y="32"/>
                    </a:lnTo>
                    <a:lnTo>
                      <a:pt x="119" y="36"/>
                    </a:lnTo>
                    <a:lnTo>
                      <a:pt x="149" y="39"/>
                    </a:lnTo>
                    <a:lnTo>
                      <a:pt x="176" y="43"/>
                    </a:lnTo>
                    <a:lnTo>
                      <a:pt x="199" y="47"/>
                    </a:lnTo>
                    <a:lnTo>
                      <a:pt x="216" y="48"/>
                    </a:lnTo>
                    <a:lnTo>
                      <a:pt x="222" y="49"/>
                    </a:lnTo>
                    <a:lnTo>
                      <a:pt x="224" y="49"/>
                    </a:lnTo>
                    <a:lnTo>
                      <a:pt x="230" y="51"/>
                    </a:lnTo>
                    <a:lnTo>
                      <a:pt x="238" y="51"/>
                    </a:lnTo>
                    <a:lnTo>
                      <a:pt x="248" y="52"/>
                    </a:lnTo>
                    <a:lnTo>
                      <a:pt x="259" y="51"/>
                    </a:lnTo>
                    <a:lnTo>
                      <a:pt x="269" y="49"/>
                    </a:lnTo>
                    <a:lnTo>
                      <a:pt x="279" y="46"/>
                    </a:lnTo>
                    <a:lnTo>
                      <a:pt x="286" y="41"/>
                    </a:lnTo>
                    <a:lnTo>
                      <a:pt x="273" y="132"/>
                    </a:lnTo>
                    <a:lnTo>
                      <a:pt x="271" y="132"/>
                    </a:lnTo>
                    <a:lnTo>
                      <a:pt x="267" y="132"/>
                    </a:lnTo>
                    <a:lnTo>
                      <a:pt x="258" y="134"/>
                    </a:lnTo>
                    <a:lnTo>
                      <a:pt x="246" y="134"/>
                    </a:lnTo>
                    <a:lnTo>
                      <a:pt x="232" y="134"/>
                    </a:lnTo>
                    <a:lnTo>
                      <a:pt x="216" y="134"/>
                    </a:lnTo>
                    <a:lnTo>
                      <a:pt x="198" y="132"/>
                    </a:lnTo>
                    <a:lnTo>
                      <a:pt x="178" y="131"/>
                    </a:lnTo>
                    <a:lnTo>
                      <a:pt x="157" y="130"/>
                    </a:lnTo>
                    <a:lnTo>
                      <a:pt x="135" y="126"/>
                    </a:lnTo>
                    <a:lnTo>
                      <a:pt x="113" y="124"/>
                    </a:lnTo>
                    <a:lnTo>
                      <a:pt x="89" y="119"/>
                    </a:lnTo>
                    <a:lnTo>
                      <a:pt x="66" y="114"/>
                    </a:lnTo>
                    <a:lnTo>
                      <a:pt x="43" y="106"/>
                    </a:lnTo>
                    <a:lnTo>
                      <a:pt x="21" y="99"/>
                    </a:lnTo>
                    <a:lnTo>
                      <a:pt x="0" y="89"/>
                    </a:lnTo>
                    <a:lnTo>
                      <a:pt x="2" y="75"/>
                    </a:lnTo>
                    <a:lnTo>
                      <a:pt x="9" y="46"/>
                    </a:lnTo>
                    <a:lnTo>
                      <a:pt x="16" y="1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353400">
                <a:off x="7735320" y="3333240"/>
                <a:ext cx="99720" cy="93960"/>
              </a:xfrm>
              <a:custGeom>
                <a:avLst/>
                <a:gdLst/>
                <a:ahLst/>
                <a:rect l="l" t="t" r="r" b="b"/>
                <a:pathLst>
                  <a:path w="81" h="89">
                    <a:moveTo>
                      <a:pt x="81" y="45"/>
                    </a:moveTo>
                    <a:lnTo>
                      <a:pt x="80" y="53"/>
                    </a:lnTo>
                    <a:lnTo>
                      <a:pt x="77" y="62"/>
                    </a:lnTo>
                    <a:lnTo>
                      <a:pt x="74" y="70"/>
                    </a:lnTo>
                    <a:lnTo>
                      <a:pt x="69" y="76"/>
                    </a:lnTo>
                    <a:lnTo>
                      <a:pt x="62" y="82"/>
                    </a:lnTo>
                    <a:lnTo>
                      <a:pt x="56" y="86"/>
                    </a:lnTo>
                    <a:lnTo>
                      <a:pt x="48" y="88"/>
                    </a:lnTo>
                    <a:lnTo>
                      <a:pt x="40" y="89"/>
                    </a:lnTo>
                    <a:lnTo>
                      <a:pt x="32" y="88"/>
                    </a:lnTo>
                    <a:lnTo>
                      <a:pt x="25" y="86"/>
                    </a:lnTo>
                    <a:lnTo>
                      <a:pt x="18" y="82"/>
                    </a:lnTo>
                    <a:lnTo>
                      <a:pt x="11" y="76"/>
                    </a:lnTo>
                    <a:lnTo>
                      <a:pt x="7" y="70"/>
                    </a:lnTo>
                    <a:lnTo>
                      <a:pt x="3" y="62"/>
                    </a:lnTo>
                    <a:lnTo>
                      <a:pt x="1" y="53"/>
                    </a:lnTo>
                    <a:lnTo>
                      <a:pt x="0" y="45"/>
                    </a:lnTo>
                    <a:lnTo>
                      <a:pt x="1" y="36"/>
                    </a:lnTo>
                    <a:lnTo>
                      <a:pt x="3" y="27"/>
                    </a:lnTo>
                    <a:lnTo>
                      <a:pt x="7" y="20"/>
                    </a:lnTo>
                    <a:lnTo>
                      <a:pt x="11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8" y="1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9" y="13"/>
                    </a:lnTo>
                    <a:lnTo>
                      <a:pt x="74" y="20"/>
                    </a:lnTo>
                    <a:lnTo>
                      <a:pt x="77" y="27"/>
                    </a:lnTo>
                    <a:lnTo>
                      <a:pt x="80" y="36"/>
                    </a:lnTo>
                    <a:lnTo>
                      <a:pt x="8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353400">
                <a:off x="7760520" y="3356640"/>
                <a:ext cx="52560" cy="482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42" y="24"/>
                    </a:moveTo>
                    <a:lnTo>
                      <a:pt x="40" y="34"/>
                    </a:lnTo>
                    <a:lnTo>
                      <a:pt x="36" y="41"/>
                    </a:lnTo>
                    <a:lnTo>
                      <a:pt x="29" y="46"/>
                    </a:lnTo>
                    <a:lnTo>
                      <a:pt x="21" y="47"/>
                    </a:lnTo>
                    <a:lnTo>
                      <a:pt x="13" y="46"/>
                    </a:lnTo>
                    <a:lnTo>
                      <a:pt x="6" y="41"/>
                    </a:lnTo>
                    <a:lnTo>
                      <a:pt x="1" y="34"/>
                    </a:lnTo>
                    <a:lnTo>
                      <a:pt x="0" y="24"/>
                    </a:lnTo>
                    <a:lnTo>
                      <a:pt x="1" y="15"/>
                    </a:lnTo>
                    <a:lnTo>
                      <a:pt x="6" y="8"/>
                    </a:lnTo>
                    <a:lnTo>
                      <a:pt x="13" y="3"/>
                    </a:lnTo>
                    <a:lnTo>
                      <a:pt x="21" y="0"/>
                    </a:lnTo>
                    <a:lnTo>
                      <a:pt x="29" y="3"/>
                    </a:lnTo>
                    <a:lnTo>
                      <a:pt x="36" y="8"/>
                    </a:lnTo>
                    <a:lnTo>
                      <a:pt x="40" y="15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e5a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flipV="1" rot="20119200">
              <a:off x="7661880" y="2556360"/>
              <a:ext cx="128160" cy="9432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0" y="48"/>
                  </a:moveTo>
                  <a:lnTo>
                    <a:pt x="0" y="45"/>
                  </a:lnTo>
                  <a:lnTo>
                    <a:pt x="0" y="39"/>
                  </a:lnTo>
                  <a:lnTo>
                    <a:pt x="3" y="30"/>
                  </a:lnTo>
                  <a:lnTo>
                    <a:pt x="7" y="19"/>
                  </a:lnTo>
                  <a:lnTo>
                    <a:pt x="15" y="9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5" y="9"/>
                  </a:lnTo>
                  <a:lnTo>
                    <a:pt x="77" y="14"/>
                  </a:lnTo>
                  <a:lnTo>
                    <a:pt x="70" y="17"/>
                  </a:lnTo>
                  <a:lnTo>
                    <a:pt x="64" y="17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37" y="20"/>
                  </a:lnTo>
                  <a:lnTo>
                    <a:pt x="28" y="23"/>
                  </a:lnTo>
                  <a:lnTo>
                    <a:pt x="18" y="30"/>
                  </a:lnTo>
                  <a:lnTo>
                    <a:pt x="9" y="3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 rot="14080800">
            <a:off x="134640" y="3473280"/>
            <a:ext cx="3191040" cy="31021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1476360" y="1557360"/>
            <a:ext cx="5616720" cy="251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2" name="Рисунок 7" descr="Рисунок1 (3).png"/>
          <p:cNvPicPr/>
          <p:nvPr/>
        </p:nvPicPr>
        <p:blipFill>
          <a:blip r:embed="rId2"/>
          <a:stretch/>
        </p:blipFill>
        <p:spPr>
          <a:xfrm>
            <a:off x="4716360" y="4076640"/>
            <a:ext cx="1778040" cy="24210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DOG1-2.GIF"/>
          <p:cNvPicPr/>
          <p:nvPr/>
        </p:nvPicPr>
        <p:blipFill>
          <a:blip r:embed="rId3"/>
          <a:stretch/>
        </p:blipFill>
        <p:spPr>
          <a:xfrm>
            <a:off x="3276720" y="3500280"/>
            <a:ext cx="2087280" cy="240192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3" descr="24866c8143ae.png"/>
          <p:cNvPicPr/>
          <p:nvPr/>
        </p:nvPicPr>
        <p:blipFill>
          <a:blip r:embed="rId4"/>
          <a:stretch/>
        </p:blipFill>
        <p:spPr>
          <a:xfrm>
            <a:off x="6877080" y="3933720"/>
            <a:ext cx="3359160" cy="398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0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сточники информ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35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ртинки (собачка, свинка)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ki.rdf.ru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дратьева О.Л. «Развитие логического мышления» (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forum.materinstvo.ru/index.php?s=d0c1a26d8e62fe7927b9208c2de446cd&amp;showforum=223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ki.rdf.ru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Боброва Н.Н. и Боброва А. «Что растёт у нас на грядке»;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nach 114/ pp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Саввина Н.В. «Словарная работа, 2 класс»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r.foto.radikal.ru/0702/24866c8143ae.pn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ЛИСИЦА; Н.Сидорченко  «Разные професс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Елена Бортникова «Чудо-обучайка. Изучаем геометрические фигуры» ООО «Издательский дом Литур», 201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720720" y="549360"/>
            <a:ext cx="7559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89040" y="3246480"/>
            <a:ext cx="571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76280"/>
            <a:ext cx="896472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резентацию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«Изучаем геометрические фигуры. Круг. Полукруг. Овал. Шар» в цикле занятий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«Наглядная геометри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одготовила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Пономарева Ольга Ивановна,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учитель начальных класс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МОУ «Кардымовская средняя школа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Смоленская област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Кардымовский район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492280"/>
            <a:ext cx="2303640" cy="21384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780000" y="1412640"/>
            <a:ext cx="51465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зывают меня КР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нцу я отличный др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 ним во многом мы похож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лнце – круглое, я – тож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ного у меня друз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ы найди их поскор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88000" y="260280"/>
            <a:ext cx="273528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КРУГ</a:t>
            </a:r>
            <a:endParaRPr b="1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0"/>
            <a:ext cx="2282760" cy="2016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4360" y="3141720"/>
            <a:ext cx="2341440" cy="2786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708280"/>
            <a:ext cx="846000" cy="2417760"/>
          </a:xfrm>
          <a:custGeom>
            <a:avLst/>
            <a:gdLst/>
            <a:ahLst/>
            <a:rect l="l" t="t" r="r" b="b"/>
            <a:pathLst>
              <a:path w="533" h="1523">
                <a:moveTo>
                  <a:pt x="0" y="1489"/>
                </a:moveTo>
                <a:cubicBezTo>
                  <a:pt x="92" y="1512"/>
                  <a:pt x="110" y="1523"/>
                  <a:pt x="238" y="1489"/>
                </a:cubicBezTo>
                <a:cubicBezTo>
                  <a:pt x="310" y="1470"/>
                  <a:pt x="339" y="1400"/>
                  <a:pt x="407" y="1377"/>
                </a:cubicBezTo>
                <a:cubicBezTo>
                  <a:pt x="487" y="1295"/>
                  <a:pt x="466" y="1338"/>
                  <a:pt x="491" y="1264"/>
                </a:cubicBezTo>
                <a:cubicBezTo>
                  <a:pt x="486" y="1147"/>
                  <a:pt x="485" y="1030"/>
                  <a:pt x="477" y="913"/>
                </a:cubicBezTo>
                <a:cubicBezTo>
                  <a:pt x="474" y="863"/>
                  <a:pt x="450" y="805"/>
                  <a:pt x="435" y="759"/>
                </a:cubicBezTo>
                <a:cubicBezTo>
                  <a:pt x="430" y="745"/>
                  <a:pt x="421" y="716"/>
                  <a:pt x="421" y="716"/>
                </a:cubicBezTo>
                <a:cubicBezTo>
                  <a:pt x="410" y="640"/>
                  <a:pt x="403" y="565"/>
                  <a:pt x="379" y="492"/>
                </a:cubicBezTo>
                <a:cubicBezTo>
                  <a:pt x="391" y="419"/>
                  <a:pt x="395" y="382"/>
                  <a:pt x="435" y="323"/>
                </a:cubicBezTo>
                <a:cubicBezTo>
                  <a:pt x="455" y="206"/>
                  <a:pt x="433" y="263"/>
                  <a:pt x="505" y="154"/>
                </a:cubicBezTo>
                <a:cubicBezTo>
                  <a:pt x="533" y="111"/>
                  <a:pt x="505" y="51"/>
                  <a:pt x="505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463400">
            <a:off x="3276360" y="2636640"/>
            <a:ext cx="215640" cy="1936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1916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84360" y="1869480"/>
            <a:ext cx="2172960" cy="3284640"/>
            <a:chOff x="2484360" y="1869480"/>
            <a:chExt cx="2172960" cy="3284640"/>
          </a:xfrm>
        </p:grpSpPr>
        <p:sp>
          <p:nvSpPr>
            <p:cNvPr id="118" name=""/>
            <p:cNvSpPr/>
            <p:nvPr/>
          </p:nvSpPr>
          <p:spPr>
            <a:xfrm>
              <a:off x="2484360" y="3282840"/>
              <a:ext cx="1728720" cy="1871280"/>
            </a:xfrm>
            <a:custGeom>
              <a:avLst/>
              <a:gdLst/>
              <a:ahLst/>
              <a:rect l="l" t="t" r="r" b="b"/>
              <a:pathLst>
                <a:path w="1195" h="2139">
                  <a:moveTo>
                    <a:pt x="0" y="1952"/>
                  </a:moveTo>
                  <a:cubicBezTo>
                    <a:pt x="19" y="1957"/>
                    <a:pt x="42" y="1953"/>
                    <a:pt x="57" y="1966"/>
                  </a:cubicBezTo>
                  <a:cubicBezTo>
                    <a:pt x="101" y="2005"/>
                    <a:pt x="102" y="2064"/>
                    <a:pt x="155" y="2093"/>
                  </a:cubicBezTo>
                  <a:cubicBezTo>
                    <a:pt x="181" y="2107"/>
                    <a:pt x="211" y="2112"/>
                    <a:pt x="239" y="2121"/>
                  </a:cubicBezTo>
                  <a:cubicBezTo>
                    <a:pt x="253" y="2126"/>
                    <a:pt x="281" y="2135"/>
                    <a:pt x="281" y="2135"/>
                  </a:cubicBezTo>
                  <a:cubicBezTo>
                    <a:pt x="520" y="2130"/>
                    <a:pt x="760" y="2139"/>
                    <a:pt x="998" y="2121"/>
                  </a:cubicBezTo>
                  <a:cubicBezTo>
                    <a:pt x="1015" y="2120"/>
                    <a:pt x="1014" y="2091"/>
                    <a:pt x="1026" y="2079"/>
                  </a:cubicBezTo>
                  <a:cubicBezTo>
                    <a:pt x="1038" y="2067"/>
                    <a:pt x="1054" y="2060"/>
                    <a:pt x="1068" y="2051"/>
                  </a:cubicBezTo>
                  <a:cubicBezTo>
                    <a:pt x="1097" y="1932"/>
                    <a:pt x="1157" y="1829"/>
                    <a:pt x="1195" y="1713"/>
                  </a:cubicBezTo>
                  <a:cubicBezTo>
                    <a:pt x="1190" y="1652"/>
                    <a:pt x="1193" y="1591"/>
                    <a:pt x="1181" y="1531"/>
                  </a:cubicBezTo>
                  <a:cubicBezTo>
                    <a:pt x="1178" y="1518"/>
                    <a:pt x="1160" y="1514"/>
                    <a:pt x="1152" y="1503"/>
                  </a:cubicBezTo>
                  <a:cubicBezTo>
                    <a:pt x="1131" y="1472"/>
                    <a:pt x="1113" y="1438"/>
                    <a:pt x="1096" y="1404"/>
                  </a:cubicBezTo>
                  <a:cubicBezTo>
                    <a:pt x="1089" y="1391"/>
                    <a:pt x="1090" y="1374"/>
                    <a:pt x="1082" y="1362"/>
                  </a:cubicBezTo>
                  <a:cubicBezTo>
                    <a:pt x="1057" y="1323"/>
                    <a:pt x="998" y="1250"/>
                    <a:pt x="998" y="1250"/>
                  </a:cubicBezTo>
                  <a:cubicBezTo>
                    <a:pt x="968" y="1130"/>
                    <a:pt x="1009" y="1254"/>
                    <a:pt x="942" y="1152"/>
                  </a:cubicBezTo>
                  <a:cubicBezTo>
                    <a:pt x="934" y="1139"/>
                    <a:pt x="935" y="1123"/>
                    <a:pt x="928" y="1109"/>
                  </a:cubicBezTo>
                  <a:cubicBezTo>
                    <a:pt x="910" y="1073"/>
                    <a:pt x="898" y="1065"/>
                    <a:pt x="871" y="1039"/>
                  </a:cubicBezTo>
                  <a:cubicBezTo>
                    <a:pt x="846" y="965"/>
                    <a:pt x="818" y="890"/>
                    <a:pt x="801" y="814"/>
                  </a:cubicBezTo>
                  <a:cubicBezTo>
                    <a:pt x="790" y="768"/>
                    <a:pt x="782" y="721"/>
                    <a:pt x="773" y="674"/>
                  </a:cubicBezTo>
                  <a:cubicBezTo>
                    <a:pt x="768" y="651"/>
                    <a:pt x="759" y="604"/>
                    <a:pt x="759" y="604"/>
                  </a:cubicBezTo>
                  <a:cubicBezTo>
                    <a:pt x="748" y="473"/>
                    <a:pt x="685" y="163"/>
                    <a:pt x="759" y="70"/>
                  </a:cubicBezTo>
                  <a:cubicBezTo>
                    <a:pt x="807" y="10"/>
                    <a:pt x="888" y="54"/>
                    <a:pt x="94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866000">
              <a:off x="3850920" y="3067200"/>
              <a:ext cx="142920" cy="2660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356600">
              <a:off x="3924000" y="1916280"/>
              <a:ext cx="50328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016400" y="4415400"/>
            <a:ext cx="579960" cy="581040"/>
            <a:chOff x="7016400" y="4415400"/>
            <a:chExt cx="579960" cy="581040"/>
          </a:xfrm>
        </p:grpSpPr>
        <p:sp>
          <p:nvSpPr>
            <p:cNvPr id="122" name=""/>
            <p:cNvSpPr/>
            <p:nvPr/>
          </p:nvSpPr>
          <p:spPr>
            <a:xfrm>
              <a:off x="7093080" y="4437000"/>
              <a:ext cx="503280" cy="474480"/>
            </a:xfrm>
            <a:prstGeom prst="ellipse">
              <a:avLst/>
            </a:prstGeom>
            <a:solidFill>
              <a:srgbClr val="0066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3597000">
              <a:off x="7048440" y="4532760"/>
              <a:ext cx="471240" cy="345960"/>
            </a:xfrm>
            <a:prstGeom prst="blockArc">
              <a:avLst>
                <a:gd name="adj1" fmla="val 10523890"/>
                <a:gd name="adj2" fmla="val 276110"/>
                <a:gd name="adj3" fmla="val 4532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4" name="Picture 16" descr=""/>
          <p:cNvPicPr/>
          <p:nvPr/>
        </p:nvPicPr>
        <p:blipFill>
          <a:blip r:embed="rId2"/>
          <a:stretch/>
        </p:blipFill>
        <p:spPr>
          <a:xfrm rot="20941800">
            <a:off x="6084360" y="2565000"/>
            <a:ext cx="2303640" cy="199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659640" y="476280"/>
            <a:ext cx="1584360" cy="1584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45160" y="4995720"/>
            <a:ext cx="1261800" cy="1098720"/>
          </a:xfrm>
          <a:prstGeom prst="bevel">
            <a:avLst>
              <a:gd name="adj" fmla="val 12500"/>
            </a:avLst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19760" y="5148360"/>
            <a:ext cx="871560" cy="734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933720"/>
            <a:ext cx="1655640" cy="106200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3357720"/>
            <a:ext cx="574920" cy="482400"/>
          </a:xfrm>
          <a:prstGeom prst="ellipse">
            <a:avLst/>
          </a:prstGeom>
          <a:solidFill>
            <a:srgbClr val="2f978d"/>
          </a:solidFill>
          <a:ln w="9360">
            <a:solidFill>
              <a:srgbClr val="2f97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948360" y="836640"/>
            <a:ext cx="986040" cy="914400"/>
          </a:xfrm>
          <a:prstGeom prst="ellipse">
            <a:avLst/>
          </a:prstGeom>
          <a:solidFill>
            <a:srgbClr val="2f978d"/>
          </a:solidFill>
          <a:ln w="9360">
            <a:solidFill>
              <a:srgbClr val="2f97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0"/>
            <a:ext cx="5113440" cy="1628640"/>
          </a:xfrm>
          <a:prstGeom prst="rect">
            <a:avLst/>
          </a:prstGeom>
          <a:solidFill>
            <a:srgbClr val="2f978d"/>
          </a:solidFill>
          <a:ln w="9360">
            <a:solidFill>
              <a:srgbClr val="2f97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йди все круг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Щелкни два раза по экран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узнай правильность отв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веть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расивым ли получился новый рисунок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делай выв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95640" y="1980720"/>
            <a:ext cx="4897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ыр лиса на всех дели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полам переломи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ловину круга, друг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зывают полукру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42920" y="2133720"/>
            <a:ext cx="2448000" cy="2590560"/>
          </a:xfrm>
          <a:prstGeom prst="blockArc">
            <a:avLst>
              <a:gd name="adj1" fmla="val 10800000"/>
              <a:gd name="adj2" fmla="val 0"/>
              <a:gd name="adj3" fmla="val 4922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1042920" y="2133720"/>
            <a:ext cx="2448000" cy="2590560"/>
          </a:xfrm>
          <a:prstGeom prst="blockArc">
            <a:avLst>
              <a:gd name="adj1" fmla="val 10800000"/>
              <a:gd name="adj2" fmla="val 0"/>
              <a:gd name="adj3" fmla="val 49227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27640" y="69228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ПОЛУКРУГ</a:t>
            </a:r>
            <a:endParaRPr b="1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pic>
        <p:nvPicPr>
          <p:cNvPr id="136" name="Рисунок 13" descr="24866c8143ae.png"/>
          <p:cNvPicPr/>
          <p:nvPr/>
        </p:nvPicPr>
        <p:blipFill>
          <a:blip r:embed="rId1"/>
          <a:stretch/>
        </p:blipFill>
        <p:spPr>
          <a:xfrm>
            <a:off x="-973080" y="3789360"/>
            <a:ext cx="3359160" cy="398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йди полукруги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Щелкни по экрану и проверь свой ответ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Щёлкни по экрану второй раз и восстанови рису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7032000">
            <a:off x="6228360" y="4077360"/>
            <a:ext cx="1800360" cy="1944720"/>
          </a:xfrm>
          <a:prstGeom prst="blockArc">
            <a:avLst>
              <a:gd name="adj1" fmla="val 10800000"/>
              <a:gd name="adj2" fmla="val 0"/>
              <a:gd name="adj3" fmla="val 47606"/>
            </a:avLst>
          </a:prstGeom>
          <a:solidFill>
            <a:srgbClr val="ffffff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970680" y="5388120"/>
            <a:ext cx="235080" cy="4269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8700200">
            <a:off x="7222320" y="5293800"/>
            <a:ext cx="201600" cy="390240"/>
          </a:xfrm>
          <a:prstGeom prst="triangle">
            <a:avLst>
              <a:gd name="adj" fmla="val 82241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700200">
            <a:off x="7453800" y="4992840"/>
            <a:ext cx="203400" cy="39240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7296800">
            <a:off x="7492680" y="4655880"/>
            <a:ext cx="200160" cy="466920"/>
          </a:xfrm>
          <a:prstGeom prst="triangl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4052600">
            <a:off x="7429320" y="4479840"/>
            <a:ext cx="255600" cy="4302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773760" y="4307040"/>
            <a:ext cx="711360" cy="1512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73400" y="4307040"/>
            <a:ext cx="709560" cy="14605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65400" y="3132000"/>
            <a:ext cx="5209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5080800">
            <a:off x="3408840" y="2230920"/>
            <a:ext cx="303120" cy="1301760"/>
          </a:xfrm>
          <a:prstGeom prst="blockArc">
            <a:avLst>
              <a:gd name="adj1" fmla="val 12182947"/>
              <a:gd name="adj2" fmla="val 20217053"/>
              <a:gd name="adj3" fmla="val 117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2700000" y="1916280"/>
            <a:ext cx="1251000" cy="1266480"/>
          </a:xfrm>
          <a:prstGeom prst="blockArc">
            <a:avLst>
              <a:gd name="adj1" fmla="val 10800000"/>
              <a:gd name="adj2" fmla="val 0"/>
              <a:gd name="adj3" fmla="val 4921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09880" y="2778120"/>
            <a:ext cx="1555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70160" y="2625840"/>
            <a:ext cx="15552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2879640"/>
            <a:ext cx="15732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33760" y="2676600"/>
            <a:ext cx="157320" cy="154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tebulb"/>
          <p:cNvSpPr/>
          <p:nvPr/>
        </p:nvSpPr>
        <p:spPr>
          <a:xfrm rot="10800000">
            <a:off x="6462360" y="2852280"/>
            <a:ext cx="560520" cy="870120"/>
          </a:xfrm>
          <a:prstGeom prst="pie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2276640"/>
            <a:ext cx="1224000" cy="1441440"/>
          </a:xfrm>
          <a:prstGeom prst="blockArc">
            <a:avLst>
              <a:gd name="adj1" fmla="val 10800000"/>
              <a:gd name="adj2" fmla="val 0"/>
              <a:gd name="adj3" fmla="val 49218"/>
            </a:avLst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4" descr="DOG1-2.GIF"/>
          <p:cNvPicPr/>
          <p:nvPr/>
        </p:nvPicPr>
        <p:blipFill>
          <a:blip r:embed="rId1"/>
          <a:stretch/>
        </p:blipFill>
        <p:spPr>
          <a:xfrm>
            <a:off x="324000" y="3500280"/>
            <a:ext cx="2087280" cy="2401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9114600">
            <a:off x="3201480" y="4727520"/>
            <a:ext cx="1081080" cy="357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подарок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2195640" y="3645000"/>
            <a:ext cx="1860480" cy="2087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57360" y="5556240"/>
            <a:ext cx="1131840" cy="825480"/>
          </a:xfrm>
          <a:prstGeom prst="flowChartCollat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0800000">
            <a:off x="2268000" y="4220640"/>
            <a:ext cx="1511640" cy="1590840"/>
          </a:xfrm>
          <a:prstGeom prst="blockArc">
            <a:avLst>
              <a:gd name="adj1" fmla="val 10800000"/>
              <a:gd name="adj2" fmla="val 0"/>
              <a:gd name="adj3" fmla="val 49218"/>
            </a:avLst>
          </a:prstGeom>
          <a:solidFill>
            <a:srgbClr val="ff99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91040" y="4778280"/>
            <a:ext cx="930240" cy="8924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4221000"/>
            <a:ext cx="935280" cy="1152720"/>
          </a:xfrm>
          <a:prstGeom prst="blockArc">
            <a:avLst>
              <a:gd name="adj1" fmla="val 10800000"/>
              <a:gd name="adj2" fmla="val 0"/>
              <a:gd name="adj3" fmla="val 4921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64000" y="4076640"/>
            <a:ext cx="177840" cy="162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702400" y="5549760"/>
            <a:ext cx="17784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51520" y="5549760"/>
            <a:ext cx="17784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46720" y="5135400"/>
            <a:ext cx="177840" cy="160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24560" y="5016600"/>
            <a:ext cx="296640" cy="1778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465880" y="4778280"/>
            <a:ext cx="0" cy="357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1268280"/>
            <a:ext cx="1943280" cy="17780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63640" y="3429000"/>
            <a:ext cx="3745080" cy="165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33336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ОВАЛ</a:t>
            </a:r>
            <a:endParaRPr b="1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pic>
        <p:nvPicPr>
          <p:cNvPr id="171" name="Рисунок 7" descr="Рисунок1 (3).png"/>
          <p:cNvPicPr/>
          <p:nvPr/>
        </p:nvPicPr>
        <p:blipFill>
          <a:blip r:embed="rId1"/>
          <a:stretch/>
        </p:blipFill>
        <p:spPr>
          <a:xfrm>
            <a:off x="0" y="4437000"/>
            <a:ext cx="1778040" cy="2421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3280" y="260280"/>
            <a:ext cx="4105440" cy="1130400"/>
          </a:xfrm>
          <a:prstGeom prst="rect">
            <a:avLst/>
          </a:prstGeom>
          <a:solidFill>
            <a:srgbClr val="2f978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ился круг и вдруг упа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ка себе чуть-чуть помя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гуру эту я узна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л круг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тал теперь ОВ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3645000"/>
            <a:ext cx="3744720" cy="165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9640" y="4941720"/>
            <a:ext cx="3745080" cy="165600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76 0.01988 C 0.11285 0.01919 0.11562 0.01549 0.11719 0.01757 C 0.11944 0.02058 0.11753 0.02636 0.11875 0.03029 C 0.12257 0.04254 0.12708 0.04324 0.13299 0.05156 C 0.13906 0.08786 0.16805 0.08347 0.19028 0.08532 C 0.23351 0.08902 0.17326 0.0874 0.25052 0.08948 C 0.28854 0.0904 0.32674 0.09087 0.36476 0.09156 C 0.38507 0.10081 0.40712 0.09965 0.4283 0.10428 C 0.46823 0.10243 0.50417 0.09827 0.5441 0.10012 C 0.58003 0.10798 0.51944 0.09526 0.62031 0.10428 C 0.62274 0.10451 0.62448 0.10751 0.62674 0.10867 C 0.63976 0.11538 0.65434 0.11954 0.66805 0.12347 C 0.68003 0.13133 0.69601 0.1341 0.7092 0.13595 C 0.71701 0.14127 0.72448 0.14636 0.73299 0.14867 C 0.73524 0.15699 0.73472 0.15283 0.73472 0.16139 E">
                                      <p:cBhvr>
                                        <p:cTn id="76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5.78035E-007 L 0.14966 -0.31214 E">
                                      <p:cBhvr>
                                        <p:cTn id="11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здушный шарик надуваю. Его, как мячик, я катаю,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росаю вверх, опять ловлю. На форму я его смотрю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н 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круглый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как и плоский круг. Но кругу он 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объём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друг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ой же формы апельсин, арбуз, и мяч, и мандари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05360" y="3944520"/>
            <a:ext cx="2885400" cy="2974680"/>
            <a:chOff x="6705360" y="3944520"/>
            <a:chExt cx="2885400" cy="2974680"/>
          </a:xfrm>
        </p:grpSpPr>
        <p:grpSp>
          <p:nvGrpSpPr>
            <p:cNvPr id="177" name=""/>
            <p:cNvGrpSpPr/>
            <p:nvPr/>
          </p:nvGrpSpPr>
          <p:grpSpPr>
            <a:xfrm>
              <a:off x="6705360" y="3944520"/>
              <a:ext cx="2885400" cy="2974680"/>
              <a:chOff x="6705360" y="3944520"/>
              <a:chExt cx="2885400" cy="2974680"/>
            </a:xfrm>
          </p:grpSpPr>
          <p:sp>
            <p:nvSpPr>
              <p:cNvPr id="178" name=""/>
              <p:cNvSpPr/>
              <p:nvPr/>
            </p:nvSpPr>
            <p:spPr>
              <a:xfrm rot="1638600">
                <a:off x="7790760" y="6693480"/>
                <a:ext cx="252720" cy="176040"/>
              </a:xfrm>
              <a:custGeom>
                <a:avLst/>
                <a:gdLst/>
                <a:ahLst/>
                <a:rect l="l" t="t" r="r" b="b"/>
                <a:pathLst>
                  <a:path w="202" h="168">
                    <a:moveTo>
                      <a:pt x="79" y="16"/>
                    </a:moveTo>
                    <a:lnTo>
                      <a:pt x="74" y="22"/>
                    </a:lnTo>
                    <a:lnTo>
                      <a:pt x="60" y="37"/>
                    </a:lnTo>
                    <a:lnTo>
                      <a:pt x="42" y="58"/>
                    </a:lnTo>
                    <a:lnTo>
                      <a:pt x="23" y="84"/>
                    </a:lnTo>
                    <a:lnTo>
                      <a:pt x="8" y="111"/>
                    </a:lnTo>
                    <a:lnTo>
                      <a:pt x="0" y="136"/>
                    </a:lnTo>
                    <a:lnTo>
                      <a:pt x="4" y="156"/>
                    </a:lnTo>
                    <a:lnTo>
                      <a:pt x="23" y="168"/>
                    </a:lnTo>
                    <a:lnTo>
                      <a:pt x="27" y="168"/>
                    </a:lnTo>
                    <a:lnTo>
                      <a:pt x="35" y="167"/>
                    </a:lnTo>
                    <a:lnTo>
                      <a:pt x="48" y="166"/>
                    </a:lnTo>
                    <a:lnTo>
                      <a:pt x="66" y="163"/>
                    </a:lnTo>
                    <a:lnTo>
                      <a:pt x="84" y="161"/>
                    </a:lnTo>
                    <a:lnTo>
                      <a:pt x="104" y="156"/>
                    </a:lnTo>
                    <a:lnTo>
                      <a:pt x="126" y="151"/>
                    </a:lnTo>
                    <a:lnTo>
                      <a:pt x="147" y="143"/>
                    </a:lnTo>
                    <a:lnTo>
                      <a:pt x="165" y="135"/>
                    </a:lnTo>
                    <a:lnTo>
                      <a:pt x="181" y="123"/>
                    </a:lnTo>
                    <a:lnTo>
                      <a:pt x="193" y="111"/>
                    </a:lnTo>
                    <a:lnTo>
                      <a:pt x="201" y="97"/>
                    </a:lnTo>
                    <a:lnTo>
                      <a:pt x="202" y="80"/>
                    </a:lnTo>
                    <a:lnTo>
                      <a:pt x="198" y="61"/>
                    </a:lnTo>
                    <a:lnTo>
                      <a:pt x="185" y="40"/>
                    </a:lnTo>
                    <a:lnTo>
                      <a:pt x="164" y="16"/>
                    </a:lnTo>
                    <a:lnTo>
                      <a:pt x="161" y="14"/>
                    </a:lnTo>
                    <a:lnTo>
                      <a:pt x="157" y="11"/>
                    </a:lnTo>
                    <a:lnTo>
                      <a:pt x="149" y="6"/>
                    </a:lnTo>
                    <a:lnTo>
                      <a:pt x="139" y="2"/>
                    </a:lnTo>
                    <a:lnTo>
                      <a:pt x="126" y="0"/>
                    </a:lnTo>
                    <a:lnTo>
                      <a:pt x="111" y="0"/>
                    </a:lnTo>
                    <a:lnTo>
                      <a:pt x="95" y="5"/>
                    </a:lnTo>
                    <a:lnTo>
                      <a:pt x="79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38600">
                <a:off x="6913800" y="5301720"/>
                <a:ext cx="1653840" cy="1310760"/>
              </a:xfrm>
              <a:custGeom>
                <a:avLst/>
                <a:gdLst/>
                <a:ahLst/>
                <a:rect l="l" t="t" r="r" b="b"/>
                <a:pathLst>
                  <a:path w="1320" h="1249">
                    <a:moveTo>
                      <a:pt x="955" y="0"/>
                    </a:moveTo>
                    <a:lnTo>
                      <a:pt x="957" y="1"/>
                    </a:lnTo>
                    <a:lnTo>
                      <a:pt x="963" y="3"/>
                    </a:lnTo>
                    <a:lnTo>
                      <a:pt x="972" y="8"/>
                    </a:lnTo>
                    <a:lnTo>
                      <a:pt x="984" y="13"/>
                    </a:lnTo>
                    <a:lnTo>
                      <a:pt x="999" y="21"/>
                    </a:lnTo>
                    <a:lnTo>
                      <a:pt x="1018" y="30"/>
                    </a:lnTo>
                    <a:lnTo>
                      <a:pt x="1037" y="42"/>
                    </a:lnTo>
                    <a:lnTo>
                      <a:pt x="1059" y="56"/>
                    </a:lnTo>
                    <a:lnTo>
                      <a:pt x="1083" y="72"/>
                    </a:lnTo>
                    <a:lnTo>
                      <a:pt x="1108" y="91"/>
                    </a:lnTo>
                    <a:lnTo>
                      <a:pt x="1133" y="112"/>
                    </a:lnTo>
                    <a:lnTo>
                      <a:pt x="1160" y="135"/>
                    </a:lnTo>
                    <a:lnTo>
                      <a:pt x="1186" y="161"/>
                    </a:lnTo>
                    <a:lnTo>
                      <a:pt x="1214" y="190"/>
                    </a:lnTo>
                    <a:lnTo>
                      <a:pt x="1241" y="222"/>
                    </a:lnTo>
                    <a:lnTo>
                      <a:pt x="1267" y="257"/>
                    </a:lnTo>
                    <a:lnTo>
                      <a:pt x="1290" y="294"/>
                    </a:lnTo>
                    <a:lnTo>
                      <a:pt x="1306" y="331"/>
                    </a:lnTo>
                    <a:lnTo>
                      <a:pt x="1315" y="369"/>
                    </a:lnTo>
                    <a:lnTo>
                      <a:pt x="1320" y="407"/>
                    </a:lnTo>
                    <a:lnTo>
                      <a:pt x="1320" y="445"/>
                    </a:lnTo>
                    <a:lnTo>
                      <a:pt x="1315" y="482"/>
                    </a:lnTo>
                    <a:lnTo>
                      <a:pt x="1306" y="518"/>
                    </a:lnTo>
                    <a:lnTo>
                      <a:pt x="1294" y="553"/>
                    </a:lnTo>
                    <a:lnTo>
                      <a:pt x="1279" y="585"/>
                    </a:lnTo>
                    <a:lnTo>
                      <a:pt x="1262" y="616"/>
                    </a:lnTo>
                    <a:lnTo>
                      <a:pt x="1242" y="646"/>
                    </a:lnTo>
                    <a:lnTo>
                      <a:pt x="1222" y="672"/>
                    </a:lnTo>
                    <a:lnTo>
                      <a:pt x="1200" y="694"/>
                    </a:lnTo>
                    <a:lnTo>
                      <a:pt x="1180" y="714"/>
                    </a:lnTo>
                    <a:lnTo>
                      <a:pt x="1158" y="730"/>
                    </a:lnTo>
                    <a:lnTo>
                      <a:pt x="1137" y="742"/>
                    </a:lnTo>
                    <a:lnTo>
                      <a:pt x="1136" y="752"/>
                    </a:lnTo>
                    <a:lnTo>
                      <a:pt x="1133" y="782"/>
                    </a:lnTo>
                    <a:lnTo>
                      <a:pt x="1129" y="826"/>
                    </a:lnTo>
                    <a:lnTo>
                      <a:pt x="1127" y="885"/>
                    </a:lnTo>
                    <a:lnTo>
                      <a:pt x="1128" y="951"/>
                    </a:lnTo>
                    <a:lnTo>
                      <a:pt x="1134" y="1025"/>
                    </a:lnTo>
                    <a:lnTo>
                      <a:pt x="1145" y="1101"/>
                    </a:lnTo>
                    <a:lnTo>
                      <a:pt x="1164" y="1178"/>
                    </a:lnTo>
                    <a:lnTo>
                      <a:pt x="1164" y="1182"/>
                    </a:lnTo>
                    <a:lnTo>
                      <a:pt x="1165" y="1193"/>
                    </a:lnTo>
                    <a:lnTo>
                      <a:pt x="1164" y="1207"/>
                    </a:lnTo>
                    <a:lnTo>
                      <a:pt x="1160" y="1223"/>
                    </a:lnTo>
                    <a:lnTo>
                      <a:pt x="1152" y="1236"/>
                    </a:lnTo>
                    <a:lnTo>
                      <a:pt x="1137" y="1246"/>
                    </a:lnTo>
                    <a:lnTo>
                      <a:pt x="1116" y="1249"/>
                    </a:lnTo>
                    <a:lnTo>
                      <a:pt x="1085" y="1243"/>
                    </a:lnTo>
                    <a:lnTo>
                      <a:pt x="1067" y="1236"/>
                    </a:lnTo>
                    <a:lnTo>
                      <a:pt x="1047" y="1228"/>
                    </a:lnTo>
                    <a:lnTo>
                      <a:pt x="1026" y="1218"/>
                    </a:lnTo>
                    <a:lnTo>
                      <a:pt x="1005" y="1207"/>
                    </a:lnTo>
                    <a:lnTo>
                      <a:pt x="982" y="1194"/>
                    </a:lnTo>
                    <a:lnTo>
                      <a:pt x="959" y="1179"/>
                    </a:lnTo>
                    <a:lnTo>
                      <a:pt x="937" y="1162"/>
                    </a:lnTo>
                    <a:lnTo>
                      <a:pt x="914" y="1143"/>
                    </a:lnTo>
                    <a:lnTo>
                      <a:pt x="891" y="1122"/>
                    </a:lnTo>
                    <a:lnTo>
                      <a:pt x="869" y="1100"/>
                    </a:lnTo>
                    <a:lnTo>
                      <a:pt x="848" y="1074"/>
                    </a:lnTo>
                    <a:lnTo>
                      <a:pt x="827" y="1047"/>
                    </a:lnTo>
                    <a:lnTo>
                      <a:pt x="806" y="1017"/>
                    </a:lnTo>
                    <a:lnTo>
                      <a:pt x="788" y="984"/>
                    </a:lnTo>
                    <a:lnTo>
                      <a:pt x="771" y="949"/>
                    </a:lnTo>
                    <a:lnTo>
                      <a:pt x="755" y="911"/>
                    </a:lnTo>
                    <a:lnTo>
                      <a:pt x="754" y="913"/>
                    </a:lnTo>
                    <a:lnTo>
                      <a:pt x="749" y="918"/>
                    </a:lnTo>
                    <a:lnTo>
                      <a:pt x="744" y="927"/>
                    </a:lnTo>
                    <a:lnTo>
                      <a:pt x="736" y="939"/>
                    </a:lnTo>
                    <a:lnTo>
                      <a:pt x="725" y="954"/>
                    </a:lnTo>
                    <a:lnTo>
                      <a:pt x="714" y="971"/>
                    </a:lnTo>
                    <a:lnTo>
                      <a:pt x="701" y="990"/>
                    </a:lnTo>
                    <a:lnTo>
                      <a:pt x="688" y="1011"/>
                    </a:lnTo>
                    <a:lnTo>
                      <a:pt x="673" y="1034"/>
                    </a:lnTo>
                    <a:lnTo>
                      <a:pt x="658" y="1058"/>
                    </a:lnTo>
                    <a:lnTo>
                      <a:pt x="642" y="1083"/>
                    </a:lnTo>
                    <a:lnTo>
                      <a:pt x="626" y="1108"/>
                    </a:lnTo>
                    <a:lnTo>
                      <a:pt x="610" y="1134"/>
                    </a:lnTo>
                    <a:lnTo>
                      <a:pt x="595" y="1160"/>
                    </a:lnTo>
                    <a:lnTo>
                      <a:pt x="579" y="1186"/>
                    </a:lnTo>
                    <a:lnTo>
                      <a:pt x="566" y="1210"/>
                    </a:lnTo>
                    <a:lnTo>
                      <a:pt x="561" y="1213"/>
                    </a:lnTo>
                    <a:lnTo>
                      <a:pt x="551" y="1220"/>
                    </a:lnTo>
                    <a:lnTo>
                      <a:pt x="534" y="1228"/>
                    </a:lnTo>
                    <a:lnTo>
                      <a:pt x="514" y="1231"/>
                    </a:lnTo>
                    <a:lnTo>
                      <a:pt x="491" y="1229"/>
                    </a:lnTo>
                    <a:lnTo>
                      <a:pt x="470" y="1215"/>
                    </a:lnTo>
                    <a:lnTo>
                      <a:pt x="450" y="1189"/>
                    </a:lnTo>
                    <a:lnTo>
                      <a:pt x="434" y="1146"/>
                    </a:lnTo>
                    <a:lnTo>
                      <a:pt x="422" y="1090"/>
                    </a:lnTo>
                    <a:lnTo>
                      <a:pt x="413" y="1037"/>
                    </a:lnTo>
                    <a:lnTo>
                      <a:pt x="409" y="984"/>
                    </a:lnTo>
                    <a:lnTo>
                      <a:pt x="409" y="928"/>
                    </a:lnTo>
                    <a:lnTo>
                      <a:pt x="415" y="868"/>
                    </a:lnTo>
                    <a:lnTo>
                      <a:pt x="425" y="802"/>
                    </a:lnTo>
                    <a:lnTo>
                      <a:pt x="441" y="725"/>
                    </a:lnTo>
                    <a:lnTo>
                      <a:pt x="462" y="637"/>
                    </a:lnTo>
                    <a:lnTo>
                      <a:pt x="472" y="589"/>
                    </a:lnTo>
                    <a:lnTo>
                      <a:pt x="477" y="543"/>
                    </a:lnTo>
                    <a:lnTo>
                      <a:pt x="477" y="502"/>
                    </a:lnTo>
                    <a:lnTo>
                      <a:pt x="471" y="465"/>
                    </a:lnTo>
                    <a:lnTo>
                      <a:pt x="461" y="434"/>
                    </a:lnTo>
                    <a:lnTo>
                      <a:pt x="446" y="408"/>
                    </a:lnTo>
                    <a:lnTo>
                      <a:pt x="425" y="388"/>
                    </a:lnTo>
                    <a:lnTo>
                      <a:pt x="399" y="376"/>
                    </a:lnTo>
                    <a:lnTo>
                      <a:pt x="376" y="368"/>
                    </a:lnTo>
                    <a:lnTo>
                      <a:pt x="353" y="361"/>
                    </a:lnTo>
                    <a:lnTo>
                      <a:pt x="329" y="352"/>
                    </a:lnTo>
                    <a:lnTo>
                      <a:pt x="305" y="343"/>
                    </a:lnTo>
                    <a:lnTo>
                      <a:pt x="280" y="333"/>
                    </a:lnTo>
                    <a:lnTo>
                      <a:pt x="255" y="324"/>
                    </a:lnTo>
                    <a:lnTo>
                      <a:pt x="230" y="315"/>
                    </a:lnTo>
                    <a:lnTo>
                      <a:pt x="204" y="304"/>
                    </a:lnTo>
                    <a:lnTo>
                      <a:pt x="179" y="294"/>
                    </a:lnTo>
                    <a:lnTo>
                      <a:pt x="154" y="284"/>
                    </a:lnTo>
                    <a:lnTo>
                      <a:pt x="130" y="274"/>
                    </a:lnTo>
                    <a:lnTo>
                      <a:pt x="106" y="263"/>
                    </a:lnTo>
                    <a:lnTo>
                      <a:pt x="83" y="253"/>
                    </a:lnTo>
                    <a:lnTo>
                      <a:pt x="60" y="243"/>
                    </a:lnTo>
                    <a:lnTo>
                      <a:pt x="40" y="233"/>
                    </a:lnTo>
                    <a:lnTo>
                      <a:pt x="19" y="224"/>
                    </a:lnTo>
                    <a:lnTo>
                      <a:pt x="17" y="222"/>
                    </a:lnTo>
                    <a:lnTo>
                      <a:pt x="10" y="216"/>
                    </a:lnTo>
                    <a:lnTo>
                      <a:pt x="3" y="206"/>
                    </a:lnTo>
                    <a:lnTo>
                      <a:pt x="0" y="195"/>
                    </a:lnTo>
                    <a:lnTo>
                      <a:pt x="1" y="182"/>
                    </a:lnTo>
                    <a:lnTo>
                      <a:pt x="12" y="170"/>
                    </a:lnTo>
                    <a:lnTo>
                      <a:pt x="34" y="160"/>
                    </a:lnTo>
                    <a:lnTo>
                      <a:pt x="71" y="151"/>
                    </a:lnTo>
                    <a:lnTo>
                      <a:pt x="95" y="148"/>
                    </a:lnTo>
                    <a:lnTo>
                      <a:pt x="121" y="145"/>
                    </a:lnTo>
                    <a:lnTo>
                      <a:pt x="148" y="141"/>
                    </a:lnTo>
                    <a:lnTo>
                      <a:pt x="178" y="138"/>
                    </a:lnTo>
                    <a:lnTo>
                      <a:pt x="207" y="133"/>
                    </a:lnTo>
                    <a:lnTo>
                      <a:pt x="238" y="129"/>
                    </a:lnTo>
                    <a:lnTo>
                      <a:pt x="269" y="124"/>
                    </a:lnTo>
                    <a:lnTo>
                      <a:pt x="301" y="118"/>
                    </a:lnTo>
                    <a:lnTo>
                      <a:pt x="333" y="113"/>
                    </a:lnTo>
                    <a:lnTo>
                      <a:pt x="364" y="106"/>
                    </a:lnTo>
                    <a:lnTo>
                      <a:pt x="394" y="99"/>
                    </a:lnTo>
                    <a:lnTo>
                      <a:pt x="425" y="92"/>
                    </a:lnTo>
                    <a:lnTo>
                      <a:pt x="454" y="83"/>
                    </a:lnTo>
                    <a:lnTo>
                      <a:pt x="481" y="75"/>
                    </a:lnTo>
                    <a:lnTo>
                      <a:pt x="507" y="65"/>
                    </a:lnTo>
                    <a:lnTo>
                      <a:pt x="531" y="55"/>
                    </a:lnTo>
                    <a:lnTo>
                      <a:pt x="535" y="55"/>
                    </a:lnTo>
                    <a:lnTo>
                      <a:pt x="545" y="55"/>
                    </a:lnTo>
                    <a:lnTo>
                      <a:pt x="560" y="54"/>
                    </a:lnTo>
                    <a:lnTo>
                      <a:pt x="580" y="52"/>
                    </a:lnTo>
                    <a:lnTo>
                      <a:pt x="606" y="51"/>
                    </a:lnTo>
                    <a:lnTo>
                      <a:pt x="633" y="50"/>
                    </a:lnTo>
                    <a:lnTo>
                      <a:pt x="665" y="47"/>
                    </a:lnTo>
                    <a:lnTo>
                      <a:pt x="698" y="45"/>
                    </a:lnTo>
                    <a:lnTo>
                      <a:pt x="732" y="42"/>
                    </a:lnTo>
                    <a:lnTo>
                      <a:pt x="768" y="39"/>
                    </a:lnTo>
                    <a:lnTo>
                      <a:pt x="803" y="34"/>
                    </a:lnTo>
                    <a:lnTo>
                      <a:pt x="837" y="29"/>
                    </a:lnTo>
                    <a:lnTo>
                      <a:pt x="870" y="23"/>
                    </a:lnTo>
                    <a:lnTo>
                      <a:pt x="902" y="16"/>
                    </a:lnTo>
                    <a:lnTo>
                      <a:pt x="930" y="9"/>
                    </a:lnTo>
                    <a:lnTo>
                      <a:pt x="95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38600">
                <a:off x="7047000" y="5344920"/>
                <a:ext cx="1463400" cy="1197360"/>
              </a:xfrm>
              <a:custGeom>
                <a:avLst/>
                <a:gdLst/>
                <a:ahLst/>
                <a:rect l="l" t="t" r="r" b="b"/>
                <a:pathLst>
                  <a:path w="1167" h="1141">
                    <a:moveTo>
                      <a:pt x="827" y="23"/>
                    </a:moveTo>
                    <a:lnTo>
                      <a:pt x="830" y="24"/>
                    </a:lnTo>
                    <a:lnTo>
                      <a:pt x="840" y="28"/>
                    </a:lnTo>
                    <a:lnTo>
                      <a:pt x="853" y="34"/>
                    </a:lnTo>
                    <a:lnTo>
                      <a:pt x="871" y="42"/>
                    </a:lnTo>
                    <a:lnTo>
                      <a:pt x="894" y="54"/>
                    </a:lnTo>
                    <a:lnTo>
                      <a:pt x="919" y="67"/>
                    </a:lnTo>
                    <a:lnTo>
                      <a:pt x="947" y="84"/>
                    </a:lnTo>
                    <a:lnTo>
                      <a:pt x="975" y="104"/>
                    </a:lnTo>
                    <a:lnTo>
                      <a:pt x="1004" y="128"/>
                    </a:lnTo>
                    <a:lnTo>
                      <a:pt x="1034" y="153"/>
                    </a:lnTo>
                    <a:lnTo>
                      <a:pt x="1062" y="182"/>
                    </a:lnTo>
                    <a:lnTo>
                      <a:pt x="1089" y="215"/>
                    </a:lnTo>
                    <a:lnTo>
                      <a:pt x="1113" y="249"/>
                    </a:lnTo>
                    <a:lnTo>
                      <a:pt x="1135" y="289"/>
                    </a:lnTo>
                    <a:lnTo>
                      <a:pt x="1152" y="331"/>
                    </a:lnTo>
                    <a:lnTo>
                      <a:pt x="1166" y="377"/>
                    </a:lnTo>
                    <a:lnTo>
                      <a:pt x="1167" y="384"/>
                    </a:lnTo>
                    <a:lnTo>
                      <a:pt x="1167" y="405"/>
                    </a:lnTo>
                    <a:lnTo>
                      <a:pt x="1165" y="436"/>
                    </a:lnTo>
                    <a:lnTo>
                      <a:pt x="1158" y="476"/>
                    </a:lnTo>
                    <a:lnTo>
                      <a:pt x="1144" y="520"/>
                    </a:lnTo>
                    <a:lnTo>
                      <a:pt x="1120" y="566"/>
                    </a:lnTo>
                    <a:lnTo>
                      <a:pt x="1084" y="611"/>
                    </a:lnTo>
                    <a:lnTo>
                      <a:pt x="1034" y="653"/>
                    </a:lnTo>
                    <a:lnTo>
                      <a:pt x="1032" y="651"/>
                    </a:lnTo>
                    <a:lnTo>
                      <a:pt x="1028" y="644"/>
                    </a:lnTo>
                    <a:lnTo>
                      <a:pt x="1021" y="634"/>
                    </a:lnTo>
                    <a:lnTo>
                      <a:pt x="1013" y="622"/>
                    </a:lnTo>
                    <a:lnTo>
                      <a:pt x="1004" y="611"/>
                    </a:lnTo>
                    <a:lnTo>
                      <a:pt x="994" y="600"/>
                    </a:lnTo>
                    <a:lnTo>
                      <a:pt x="982" y="591"/>
                    </a:lnTo>
                    <a:lnTo>
                      <a:pt x="972" y="585"/>
                    </a:lnTo>
                    <a:lnTo>
                      <a:pt x="973" y="577"/>
                    </a:lnTo>
                    <a:lnTo>
                      <a:pt x="978" y="555"/>
                    </a:lnTo>
                    <a:lnTo>
                      <a:pt x="982" y="525"/>
                    </a:lnTo>
                    <a:lnTo>
                      <a:pt x="986" y="488"/>
                    </a:lnTo>
                    <a:lnTo>
                      <a:pt x="987" y="451"/>
                    </a:lnTo>
                    <a:lnTo>
                      <a:pt x="986" y="415"/>
                    </a:lnTo>
                    <a:lnTo>
                      <a:pt x="979" y="387"/>
                    </a:lnTo>
                    <a:lnTo>
                      <a:pt x="965" y="367"/>
                    </a:lnTo>
                    <a:lnTo>
                      <a:pt x="948" y="357"/>
                    </a:lnTo>
                    <a:lnTo>
                      <a:pt x="930" y="351"/>
                    </a:lnTo>
                    <a:lnTo>
                      <a:pt x="911" y="347"/>
                    </a:lnTo>
                    <a:lnTo>
                      <a:pt x="893" y="345"/>
                    </a:lnTo>
                    <a:lnTo>
                      <a:pt x="875" y="341"/>
                    </a:lnTo>
                    <a:lnTo>
                      <a:pt x="858" y="335"/>
                    </a:lnTo>
                    <a:lnTo>
                      <a:pt x="841" y="325"/>
                    </a:lnTo>
                    <a:lnTo>
                      <a:pt x="825" y="307"/>
                    </a:lnTo>
                    <a:lnTo>
                      <a:pt x="824" y="310"/>
                    </a:lnTo>
                    <a:lnTo>
                      <a:pt x="824" y="319"/>
                    </a:lnTo>
                    <a:lnTo>
                      <a:pt x="825" y="331"/>
                    </a:lnTo>
                    <a:lnTo>
                      <a:pt x="829" y="345"/>
                    </a:lnTo>
                    <a:lnTo>
                      <a:pt x="838" y="361"/>
                    </a:lnTo>
                    <a:lnTo>
                      <a:pt x="856" y="377"/>
                    </a:lnTo>
                    <a:lnTo>
                      <a:pt x="879" y="390"/>
                    </a:lnTo>
                    <a:lnTo>
                      <a:pt x="915" y="402"/>
                    </a:lnTo>
                    <a:lnTo>
                      <a:pt x="917" y="402"/>
                    </a:lnTo>
                    <a:lnTo>
                      <a:pt x="924" y="405"/>
                    </a:lnTo>
                    <a:lnTo>
                      <a:pt x="932" y="413"/>
                    </a:lnTo>
                    <a:lnTo>
                      <a:pt x="940" y="425"/>
                    </a:lnTo>
                    <a:lnTo>
                      <a:pt x="947" y="446"/>
                    </a:lnTo>
                    <a:lnTo>
                      <a:pt x="949" y="477"/>
                    </a:lnTo>
                    <a:lnTo>
                      <a:pt x="945" y="519"/>
                    </a:lnTo>
                    <a:lnTo>
                      <a:pt x="933" y="574"/>
                    </a:lnTo>
                    <a:lnTo>
                      <a:pt x="929" y="575"/>
                    </a:lnTo>
                    <a:lnTo>
                      <a:pt x="917" y="580"/>
                    </a:lnTo>
                    <a:lnTo>
                      <a:pt x="901" y="586"/>
                    </a:lnTo>
                    <a:lnTo>
                      <a:pt x="883" y="595"/>
                    </a:lnTo>
                    <a:lnTo>
                      <a:pt x="864" y="606"/>
                    </a:lnTo>
                    <a:lnTo>
                      <a:pt x="845" y="617"/>
                    </a:lnTo>
                    <a:lnTo>
                      <a:pt x="832" y="631"/>
                    </a:lnTo>
                    <a:lnTo>
                      <a:pt x="825" y="643"/>
                    </a:lnTo>
                    <a:lnTo>
                      <a:pt x="824" y="655"/>
                    </a:lnTo>
                    <a:lnTo>
                      <a:pt x="826" y="665"/>
                    </a:lnTo>
                    <a:lnTo>
                      <a:pt x="830" y="674"/>
                    </a:lnTo>
                    <a:lnTo>
                      <a:pt x="837" y="681"/>
                    </a:lnTo>
                    <a:lnTo>
                      <a:pt x="845" y="686"/>
                    </a:lnTo>
                    <a:lnTo>
                      <a:pt x="854" y="690"/>
                    </a:lnTo>
                    <a:lnTo>
                      <a:pt x="862" y="691"/>
                    </a:lnTo>
                    <a:lnTo>
                      <a:pt x="870" y="690"/>
                    </a:lnTo>
                    <a:lnTo>
                      <a:pt x="875" y="691"/>
                    </a:lnTo>
                    <a:lnTo>
                      <a:pt x="876" y="696"/>
                    </a:lnTo>
                    <a:lnTo>
                      <a:pt x="874" y="705"/>
                    </a:lnTo>
                    <a:lnTo>
                      <a:pt x="871" y="716"/>
                    </a:lnTo>
                    <a:lnTo>
                      <a:pt x="869" y="729"/>
                    </a:lnTo>
                    <a:lnTo>
                      <a:pt x="869" y="741"/>
                    </a:lnTo>
                    <a:lnTo>
                      <a:pt x="873" y="753"/>
                    </a:lnTo>
                    <a:lnTo>
                      <a:pt x="881" y="764"/>
                    </a:lnTo>
                    <a:lnTo>
                      <a:pt x="889" y="772"/>
                    </a:lnTo>
                    <a:lnTo>
                      <a:pt x="900" y="778"/>
                    </a:lnTo>
                    <a:lnTo>
                      <a:pt x="913" y="784"/>
                    </a:lnTo>
                    <a:lnTo>
                      <a:pt x="926" y="788"/>
                    </a:lnTo>
                    <a:lnTo>
                      <a:pt x="942" y="789"/>
                    </a:lnTo>
                    <a:lnTo>
                      <a:pt x="957" y="787"/>
                    </a:lnTo>
                    <a:lnTo>
                      <a:pt x="973" y="779"/>
                    </a:lnTo>
                    <a:lnTo>
                      <a:pt x="989" y="768"/>
                    </a:lnTo>
                    <a:lnTo>
                      <a:pt x="988" y="777"/>
                    </a:lnTo>
                    <a:lnTo>
                      <a:pt x="986" y="802"/>
                    </a:lnTo>
                    <a:lnTo>
                      <a:pt x="983" y="838"/>
                    </a:lnTo>
                    <a:lnTo>
                      <a:pt x="981" y="882"/>
                    </a:lnTo>
                    <a:lnTo>
                      <a:pt x="981" y="933"/>
                    </a:lnTo>
                    <a:lnTo>
                      <a:pt x="983" y="986"/>
                    </a:lnTo>
                    <a:lnTo>
                      <a:pt x="990" y="1038"/>
                    </a:lnTo>
                    <a:lnTo>
                      <a:pt x="1002" y="1086"/>
                    </a:lnTo>
                    <a:lnTo>
                      <a:pt x="1003" y="1090"/>
                    </a:lnTo>
                    <a:lnTo>
                      <a:pt x="1004" y="1100"/>
                    </a:lnTo>
                    <a:lnTo>
                      <a:pt x="1004" y="1112"/>
                    </a:lnTo>
                    <a:lnTo>
                      <a:pt x="1002" y="1125"/>
                    </a:lnTo>
                    <a:lnTo>
                      <a:pt x="995" y="1135"/>
                    </a:lnTo>
                    <a:lnTo>
                      <a:pt x="983" y="1141"/>
                    </a:lnTo>
                    <a:lnTo>
                      <a:pt x="965" y="1139"/>
                    </a:lnTo>
                    <a:lnTo>
                      <a:pt x="938" y="1126"/>
                    </a:lnTo>
                    <a:lnTo>
                      <a:pt x="929" y="1121"/>
                    </a:lnTo>
                    <a:lnTo>
                      <a:pt x="917" y="1114"/>
                    </a:lnTo>
                    <a:lnTo>
                      <a:pt x="905" y="1106"/>
                    </a:lnTo>
                    <a:lnTo>
                      <a:pt x="891" y="1098"/>
                    </a:lnTo>
                    <a:lnTo>
                      <a:pt x="876" y="1088"/>
                    </a:lnTo>
                    <a:lnTo>
                      <a:pt x="861" y="1075"/>
                    </a:lnTo>
                    <a:lnTo>
                      <a:pt x="844" y="1063"/>
                    </a:lnTo>
                    <a:lnTo>
                      <a:pt x="828" y="1047"/>
                    </a:lnTo>
                    <a:lnTo>
                      <a:pt x="810" y="1030"/>
                    </a:lnTo>
                    <a:lnTo>
                      <a:pt x="793" y="1011"/>
                    </a:lnTo>
                    <a:lnTo>
                      <a:pt x="776" y="989"/>
                    </a:lnTo>
                    <a:lnTo>
                      <a:pt x="759" y="964"/>
                    </a:lnTo>
                    <a:lnTo>
                      <a:pt x="743" y="938"/>
                    </a:lnTo>
                    <a:lnTo>
                      <a:pt x="727" y="908"/>
                    </a:lnTo>
                    <a:lnTo>
                      <a:pt x="711" y="876"/>
                    </a:lnTo>
                    <a:lnTo>
                      <a:pt x="697" y="840"/>
                    </a:lnTo>
                    <a:lnTo>
                      <a:pt x="683" y="810"/>
                    </a:lnTo>
                    <a:lnTo>
                      <a:pt x="671" y="795"/>
                    </a:lnTo>
                    <a:lnTo>
                      <a:pt x="659" y="792"/>
                    </a:lnTo>
                    <a:lnTo>
                      <a:pt x="648" y="799"/>
                    </a:lnTo>
                    <a:lnTo>
                      <a:pt x="636" y="813"/>
                    </a:lnTo>
                    <a:lnTo>
                      <a:pt x="625" y="833"/>
                    </a:lnTo>
                    <a:lnTo>
                      <a:pt x="614" y="854"/>
                    </a:lnTo>
                    <a:lnTo>
                      <a:pt x="602" y="875"/>
                    </a:lnTo>
                    <a:lnTo>
                      <a:pt x="586" y="901"/>
                    </a:lnTo>
                    <a:lnTo>
                      <a:pt x="563" y="937"/>
                    </a:lnTo>
                    <a:lnTo>
                      <a:pt x="537" y="979"/>
                    </a:lnTo>
                    <a:lnTo>
                      <a:pt x="511" y="1021"/>
                    </a:lnTo>
                    <a:lnTo>
                      <a:pt x="485" y="1060"/>
                    </a:lnTo>
                    <a:lnTo>
                      <a:pt x="463" y="1094"/>
                    </a:lnTo>
                    <a:lnTo>
                      <a:pt x="448" y="1117"/>
                    </a:lnTo>
                    <a:lnTo>
                      <a:pt x="442" y="1126"/>
                    </a:lnTo>
                    <a:lnTo>
                      <a:pt x="440" y="1129"/>
                    </a:lnTo>
                    <a:lnTo>
                      <a:pt x="433" y="1134"/>
                    </a:lnTo>
                    <a:lnTo>
                      <a:pt x="423" y="1140"/>
                    </a:lnTo>
                    <a:lnTo>
                      <a:pt x="412" y="1141"/>
                    </a:lnTo>
                    <a:lnTo>
                      <a:pt x="399" y="1136"/>
                    </a:lnTo>
                    <a:lnTo>
                      <a:pt x="386" y="1122"/>
                    </a:lnTo>
                    <a:lnTo>
                      <a:pt x="375" y="1095"/>
                    </a:lnTo>
                    <a:lnTo>
                      <a:pt x="367" y="1052"/>
                    </a:lnTo>
                    <a:lnTo>
                      <a:pt x="366" y="1043"/>
                    </a:lnTo>
                    <a:lnTo>
                      <a:pt x="365" y="1021"/>
                    </a:lnTo>
                    <a:lnTo>
                      <a:pt x="364" y="986"/>
                    </a:lnTo>
                    <a:lnTo>
                      <a:pt x="365" y="940"/>
                    </a:lnTo>
                    <a:lnTo>
                      <a:pt x="367" y="886"/>
                    </a:lnTo>
                    <a:lnTo>
                      <a:pt x="373" y="826"/>
                    </a:lnTo>
                    <a:lnTo>
                      <a:pt x="383" y="763"/>
                    </a:lnTo>
                    <a:lnTo>
                      <a:pt x="398" y="698"/>
                    </a:lnTo>
                    <a:lnTo>
                      <a:pt x="410" y="648"/>
                    </a:lnTo>
                    <a:lnTo>
                      <a:pt x="421" y="600"/>
                    </a:lnTo>
                    <a:lnTo>
                      <a:pt x="429" y="554"/>
                    </a:lnTo>
                    <a:lnTo>
                      <a:pt x="432" y="511"/>
                    </a:lnTo>
                    <a:lnTo>
                      <a:pt x="432" y="471"/>
                    </a:lnTo>
                    <a:lnTo>
                      <a:pt x="429" y="433"/>
                    </a:lnTo>
                    <a:lnTo>
                      <a:pt x="420" y="398"/>
                    </a:lnTo>
                    <a:lnTo>
                      <a:pt x="407" y="367"/>
                    </a:lnTo>
                    <a:lnTo>
                      <a:pt x="399" y="353"/>
                    </a:lnTo>
                    <a:lnTo>
                      <a:pt x="389" y="341"/>
                    </a:lnTo>
                    <a:lnTo>
                      <a:pt x="378" y="331"/>
                    </a:lnTo>
                    <a:lnTo>
                      <a:pt x="367" y="321"/>
                    </a:lnTo>
                    <a:lnTo>
                      <a:pt x="353" y="314"/>
                    </a:lnTo>
                    <a:lnTo>
                      <a:pt x="340" y="307"/>
                    </a:lnTo>
                    <a:lnTo>
                      <a:pt x="325" y="301"/>
                    </a:lnTo>
                    <a:lnTo>
                      <a:pt x="310" y="295"/>
                    </a:lnTo>
                    <a:lnTo>
                      <a:pt x="294" y="291"/>
                    </a:lnTo>
                    <a:lnTo>
                      <a:pt x="277" y="286"/>
                    </a:lnTo>
                    <a:lnTo>
                      <a:pt x="261" y="281"/>
                    </a:lnTo>
                    <a:lnTo>
                      <a:pt x="244" y="276"/>
                    </a:lnTo>
                    <a:lnTo>
                      <a:pt x="227" y="272"/>
                    </a:lnTo>
                    <a:lnTo>
                      <a:pt x="208" y="265"/>
                    </a:lnTo>
                    <a:lnTo>
                      <a:pt x="191" y="258"/>
                    </a:lnTo>
                    <a:lnTo>
                      <a:pt x="174" y="250"/>
                    </a:lnTo>
                    <a:lnTo>
                      <a:pt x="162" y="245"/>
                    </a:lnTo>
                    <a:lnTo>
                      <a:pt x="146" y="238"/>
                    </a:lnTo>
                    <a:lnTo>
                      <a:pt x="126" y="232"/>
                    </a:lnTo>
                    <a:lnTo>
                      <a:pt x="106" y="224"/>
                    </a:lnTo>
                    <a:lnTo>
                      <a:pt x="85" y="216"/>
                    </a:lnTo>
                    <a:lnTo>
                      <a:pt x="65" y="208"/>
                    </a:lnTo>
                    <a:lnTo>
                      <a:pt x="45" y="200"/>
                    </a:lnTo>
                    <a:lnTo>
                      <a:pt x="28" y="192"/>
                    </a:lnTo>
                    <a:lnTo>
                      <a:pt x="13" y="185"/>
                    </a:lnTo>
                    <a:lnTo>
                      <a:pt x="4" y="177"/>
                    </a:lnTo>
                    <a:lnTo>
                      <a:pt x="0" y="170"/>
                    </a:lnTo>
                    <a:lnTo>
                      <a:pt x="1" y="164"/>
                    </a:lnTo>
                    <a:lnTo>
                      <a:pt x="10" y="159"/>
                    </a:lnTo>
                    <a:lnTo>
                      <a:pt x="27" y="155"/>
                    </a:lnTo>
                    <a:lnTo>
                      <a:pt x="53" y="151"/>
                    </a:lnTo>
                    <a:lnTo>
                      <a:pt x="90" y="150"/>
                    </a:lnTo>
                    <a:lnTo>
                      <a:pt x="92" y="150"/>
                    </a:lnTo>
                    <a:lnTo>
                      <a:pt x="99" y="150"/>
                    </a:lnTo>
                    <a:lnTo>
                      <a:pt x="110" y="149"/>
                    </a:lnTo>
                    <a:lnTo>
                      <a:pt x="126" y="148"/>
                    </a:lnTo>
                    <a:lnTo>
                      <a:pt x="145" y="145"/>
                    </a:lnTo>
                    <a:lnTo>
                      <a:pt x="166" y="143"/>
                    </a:lnTo>
                    <a:lnTo>
                      <a:pt x="191" y="139"/>
                    </a:lnTo>
                    <a:lnTo>
                      <a:pt x="219" y="134"/>
                    </a:lnTo>
                    <a:lnTo>
                      <a:pt x="248" y="128"/>
                    </a:lnTo>
                    <a:lnTo>
                      <a:pt x="279" y="122"/>
                    </a:lnTo>
                    <a:lnTo>
                      <a:pt x="311" y="113"/>
                    </a:lnTo>
                    <a:lnTo>
                      <a:pt x="344" y="104"/>
                    </a:lnTo>
                    <a:lnTo>
                      <a:pt x="378" y="93"/>
                    </a:lnTo>
                    <a:lnTo>
                      <a:pt x="413" y="81"/>
                    </a:lnTo>
                    <a:lnTo>
                      <a:pt x="447" y="67"/>
                    </a:lnTo>
                    <a:lnTo>
                      <a:pt x="480" y="51"/>
                    </a:lnTo>
                    <a:lnTo>
                      <a:pt x="483" y="50"/>
                    </a:lnTo>
                    <a:lnTo>
                      <a:pt x="491" y="47"/>
                    </a:lnTo>
                    <a:lnTo>
                      <a:pt x="504" y="44"/>
                    </a:lnTo>
                    <a:lnTo>
                      <a:pt x="521" y="37"/>
                    </a:lnTo>
                    <a:lnTo>
                      <a:pt x="542" y="31"/>
                    </a:lnTo>
                    <a:lnTo>
                      <a:pt x="566" y="25"/>
                    </a:lnTo>
                    <a:lnTo>
                      <a:pt x="592" y="19"/>
                    </a:lnTo>
                    <a:lnTo>
                      <a:pt x="619" y="13"/>
                    </a:lnTo>
                    <a:lnTo>
                      <a:pt x="648" y="8"/>
                    </a:lnTo>
                    <a:lnTo>
                      <a:pt x="677" y="4"/>
                    </a:lnTo>
                    <a:lnTo>
                      <a:pt x="706" y="1"/>
                    </a:lnTo>
                    <a:lnTo>
                      <a:pt x="735" y="0"/>
                    </a:lnTo>
                    <a:lnTo>
                      <a:pt x="761" y="1"/>
                    </a:lnTo>
                    <a:lnTo>
                      <a:pt x="786" y="5"/>
                    </a:lnTo>
                    <a:lnTo>
                      <a:pt x="808" y="13"/>
                    </a:lnTo>
                    <a:lnTo>
                      <a:pt x="827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38600">
                <a:off x="7590960" y="4474800"/>
                <a:ext cx="1397880" cy="1054440"/>
              </a:xfrm>
              <a:custGeom>
                <a:avLst/>
                <a:gdLst/>
                <a:ahLst/>
                <a:rect l="l" t="t" r="r" b="b"/>
                <a:pathLst>
                  <a:path w="1115" h="1003">
                    <a:moveTo>
                      <a:pt x="0" y="501"/>
                    </a:moveTo>
                    <a:lnTo>
                      <a:pt x="4" y="552"/>
                    </a:lnTo>
                    <a:lnTo>
                      <a:pt x="12" y="603"/>
                    </a:lnTo>
                    <a:lnTo>
                      <a:pt x="25" y="651"/>
                    </a:lnTo>
                    <a:lnTo>
                      <a:pt x="43" y="697"/>
                    </a:lnTo>
                    <a:lnTo>
                      <a:pt x="67" y="740"/>
                    </a:lnTo>
                    <a:lnTo>
                      <a:pt x="95" y="783"/>
                    </a:lnTo>
                    <a:lnTo>
                      <a:pt x="128" y="821"/>
                    </a:lnTo>
                    <a:lnTo>
                      <a:pt x="163" y="856"/>
                    </a:lnTo>
                    <a:lnTo>
                      <a:pt x="203" y="889"/>
                    </a:lnTo>
                    <a:lnTo>
                      <a:pt x="245" y="918"/>
                    </a:lnTo>
                    <a:lnTo>
                      <a:pt x="292" y="942"/>
                    </a:lnTo>
                    <a:lnTo>
                      <a:pt x="340" y="963"/>
                    </a:lnTo>
                    <a:lnTo>
                      <a:pt x="392" y="981"/>
                    </a:lnTo>
                    <a:lnTo>
                      <a:pt x="445" y="993"/>
                    </a:lnTo>
                    <a:lnTo>
                      <a:pt x="500" y="1001"/>
                    </a:lnTo>
                    <a:lnTo>
                      <a:pt x="557" y="1003"/>
                    </a:lnTo>
                    <a:lnTo>
                      <a:pt x="614" y="1001"/>
                    </a:lnTo>
                    <a:lnTo>
                      <a:pt x="670" y="993"/>
                    </a:lnTo>
                    <a:lnTo>
                      <a:pt x="722" y="981"/>
                    </a:lnTo>
                    <a:lnTo>
                      <a:pt x="774" y="963"/>
                    </a:lnTo>
                    <a:lnTo>
                      <a:pt x="823" y="942"/>
                    </a:lnTo>
                    <a:lnTo>
                      <a:pt x="869" y="918"/>
                    </a:lnTo>
                    <a:lnTo>
                      <a:pt x="912" y="889"/>
                    </a:lnTo>
                    <a:lnTo>
                      <a:pt x="952" y="856"/>
                    </a:lnTo>
                    <a:lnTo>
                      <a:pt x="987" y="821"/>
                    </a:lnTo>
                    <a:lnTo>
                      <a:pt x="1019" y="783"/>
                    </a:lnTo>
                    <a:lnTo>
                      <a:pt x="1048" y="740"/>
                    </a:lnTo>
                    <a:lnTo>
                      <a:pt x="1072" y="697"/>
                    </a:lnTo>
                    <a:lnTo>
                      <a:pt x="1090" y="651"/>
                    </a:lnTo>
                    <a:lnTo>
                      <a:pt x="1104" y="603"/>
                    </a:lnTo>
                    <a:lnTo>
                      <a:pt x="1112" y="552"/>
                    </a:lnTo>
                    <a:lnTo>
                      <a:pt x="1115" y="501"/>
                    </a:lnTo>
                    <a:lnTo>
                      <a:pt x="1112" y="451"/>
                    </a:lnTo>
                    <a:lnTo>
                      <a:pt x="1104" y="400"/>
                    </a:lnTo>
                    <a:lnTo>
                      <a:pt x="1090" y="352"/>
                    </a:lnTo>
                    <a:lnTo>
                      <a:pt x="1072" y="306"/>
                    </a:lnTo>
                    <a:lnTo>
                      <a:pt x="1048" y="262"/>
                    </a:lnTo>
                    <a:lnTo>
                      <a:pt x="1019" y="220"/>
                    </a:lnTo>
                    <a:lnTo>
                      <a:pt x="987" y="182"/>
                    </a:lnTo>
                    <a:lnTo>
                      <a:pt x="952" y="146"/>
                    </a:lnTo>
                    <a:lnTo>
                      <a:pt x="912" y="114"/>
                    </a:lnTo>
                    <a:lnTo>
                      <a:pt x="869" y="85"/>
                    </a:lnTo>
                    <a:lnTo>
                      <a:pt x="823" y="60"/>
                    </a:lnTo>
                    <a:lnTo>
                      <a:pt x="774" y="39"/>
                    </a:lnTo>
                    <a:lnTo>
                      <a:pt x="722" y="22"/>
                    </a:lnTo>
                    <a:lnTo>
                      <a:pt x="670" y="10"/>
                    </a:lnTo>
                    <a:lnTo>
                      <a:pt x="614" y="2"/>
                    </a:lnTo>
                    <a:lnTo>
                      <a:pt x="557" y="0"/>
                    </a:lnTo>
                    <a:lnTo>
                      <a:pt x="500" y="2"/>
                    </a:lnTo>
                    <a:lnTo>
                      <a:pt x="445" y="10"/>
                    </a:lnTo>
                    <a:lnTo>
                      <a:pt x="392" y="22"/>
                    </a:lnTo>
                    <a:lnTo>
                      <a:pt x="340" y="39"/>
                    </a:lnTo>
                    <a:lnTo>
                      <a:pt x="292" y="60"/>
                    </a:lnTo>
                    <a:lnTo>
                      <a:pt x="245" y="85"/>
                    </a:lnTo>
                    <a:lnTo>
                      <a:pt x="203" y="114"/>
                    </a:lnTo>
                    <a:lnTo>
                      <a:pt x="163" y="146"/>
                    </a:lnTo>
                    <a:lnTo>
                      <a:pt x="128" y="182"/>
                    </a:lnTo>
                    <a:lnTo>
                      <a:pt x="95" y="220"/>
                    </a:lnTo>
                    <a:lnTo>
                      <a:pt x="67" y="262"/>
                    </a:lnTo>
                    <a:lnTo>
                      <a:pt x="43" y="306"/>
                    </a:lnTo>
                    <a:lnTo>
                      <a:pt x="25" y="352"/>
                    </a:lnTo>
                    <a:lnTo>
                      <a:pt x="12" y="400"/>
                    </a:lnTo>
                    <a:lnTo>
                      <a:pt x="4" y="45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38600">
                <a:off x="7659000" y="4530960"/>
                <a:ext cx="1260360" cy="941040"/>
              </a:xfrm>
              <a:custGeom>
                <a:avLst/>
                <a:gdLst/>
                <a:ahLst/>
                <a:rect l="l" t="t" r="r" b="b"/>
                <a:pathLst>
                  <a:path w="1005" h="897">
                    <a:moveTo>
                      <a:pt x="0" y="448"/>
                    </a:moveTo>
                    <a:lnTo>
                      <a:pt x="2" y="494"/>
                    </a:lnTo>
                    <a:lnTo>
                      <a:pt x="10" y="539"/>
                    </a:lnTo>
                    <a:lnTo>
                      <a:pt x="23" y="582"/>
                    </a:lnTo>
                    <a:lnTo>
                      <a:pt x="40" y="623"/>
                    </a:lnTo>
                    <a:lnTo>
                      <a:pt x="60" y="663"/>
                    </a:lnTo>
                    <a:lnTo>
                      <a:pt x="85" y="700"/>
                    </a:lnTo>
                    <a:lnTo>
                      <a:pt x="114" y="735"/>
                    </a:lnTo>
                    <a:lnTo>
                      <a:pt x="147" y="765"/>
                    </a:lnTo>
                    <a:lnTo>
                      <a:pt x="182" y="795"/>
                    </a:lnTo>
                    <a:lnTo>
                      <a:pt x="221" y="820"/>
                    </a:lnTo>
                    <a:lnTo>
                      <a:pt x="262" y="844"/>
                    </a:lnTo>
                    <a:lnTo>
                      <a:pt x="307" y="862"/>
                    </a:lnTo>
                    <a:lnTo>
                      <a:pt x="353" y="877"/>
                    </a:lnTo>
                    <a:lnTo>
                      <a:pt x="400" y="888"/>
                    </a:lnTo>
                    <a:lnTo>
                      <a:pt x="451" y="894"/>
                    </a:lnTo>
                    <a:lnTo>
                      <a:pt x="502" y="897"/>
                    </a:lnTo>
                    <a:lnTo>
                      <a:pt x="553" y="894"/>
                    </a:lnTo>
                    <a:lnTo>
                      <a:pt x="604" y="888"/>
                    </a:lnTo>
                    <a:lnTo>
                      <a:pt x="652" y="877"/>
                    </a:lnTo>
                    <a:lnTo>
                      <a:pt x="698" y="862"/>
                    </a:lnTo>
                    <a:lnTo>
                      <a:pt x="742" y="844"/>
                    </a:lnTo>
                    <a:lnTo>
                      <a:pt x="784" y="820"/>
                    </a:lnTo>
                    <a:lnTo>
                      <a:pt x="823" y="795"/>
                    </a:lnTo>
                    <a:lnTo>
                      <a:pt x="858" y="765"/>
                    </a:lnTo>
                    <a:lnTo>
                      <a:pt x="890" y="735"/>
                    </a:lnTo>
                    <a:lnTo>
                      <a:pt x="920" y="700"/>
                    </a:lnTo>
                    <a:lnTo>
                      <a:pt x="945" y="663"/>
                    </a:lnTo>
                    <a:lnTo>
                      <a:pt x="965" y="623"/>
                    </a:lnTo>
                    <a:lnTo>
                      <a:pt x="982" y="582"/>
                    </a:lnTo>
                    <a:lnTo>
                      <a:pt x="995" y="539"/>
                    </a:lnTo>
                    <a:lnTo>
                      <a:pt x="1003" y="494"/>
                    </a:lnTo>
                    <a:lnTo>
                      <a:pt x="1005" y="448"/>
                    </a:lnTo>
                    <a:lnTo>
                      <a:pt x="1003" y="403"/>
                    </a:lnTo>
                    <a:lnTo>
                      <a:pt x="995" y="358"/>
                    </a:lnTo>
                    <a:lnTo>
                      <a:pt x="982" y="315"/>
                    </a:lnTo>
                    <a:lnTo>
                      <a:pt x="965" y="274"/>
                    </a:lnTo>
                    <a:lnTo>
                      <a:pt x="945" y="234"/>
                    </a:lnTo>
                    <a:lnTo>
                      <a:pt x="920" y="198"/>
                    </a:lnTo>
                    <a:lnTo>
                      <a:pt x="890" y="164"/>
                    </a:lnTo>
                    <a:lnTo>
                      <a:pt x="858" y="131"/>
                    </a:lnTo>
                    <a:lnTo>
                      <a:pt x="823" y="103"/>
                    </a:lnTo>
                    <a:lnTo>
                      <a:pt x="784" y="77"/>
                    </a:lnTo>
                    <a:lnTo>
                      <a:pt x="742" y="55"/>
                    </a:lnTo>
                    <a:lnTo>
                      <a:pt x="698" y="35"/>
                    </a:lnTo>
                    <a:lnTo>
                      <a:pt x="652" y="20"/>
                    </a:lnTo>
                    <a:lnTo>
                      <a:pt x="604" y="9"/>
                    </a:lnTo>
                    <a:lnTo>
                      <a:pt x="553" y="3"/>
                    </a:lnTo>
                    <a:lnTo>
                      <a:pt x="502" y="0"/>
                    </a:lnTo>
                    <a:lnTo>
                      <a:pt x="451" y="3"/>
                    </a:lnTo>
                    <a:lnTo>
                      <a:pt x="400" y="9"/>
                    </a:lnTo>
                    <a:lnTo>
                      <a:pt x="353" y="20"/>
                    </a:lnTo>
                    <a:lnTo>
                      <a:pt x="307" y="35"/>
                    </a:lnTo>
                    <a:lnTo>
                      <a:pt x="262" y="55"/>
                    </a:lnTo>
                    <a:lnTo>
                      <a:pt x="221" y="77"/>
                    </a:lnTo>
                    <a:lnTo>
                      <a:pt x="182" y="103"/>
                    </a:lnTo>
                    <a:lnTo>
                      <a:pt x="147" y="131"/>
                    </a:lnTo>
                    <a:lnTo>
                      <a:pt x="114" y="164"/>
                    </a:lnTo>
                    <a:lnTo>
                      <a:pt x="85" y="198"/>
                    </a:lnTo>
                    <a:lnTo>
                      <a:pt x="60" y="234"/>
                    </a:lnTo>
                    <a:lnTo>
                      <a:pt x="40" y="274"/>
                    </a:lnTo>
                    <a:lnTo>
                      <a:pt x="23" y="315"/>
                    </a:lnTo>
                    <a:lnTo>
                      <a:pt x="10" y="358"/>
                    </a:lnTo>
                    <a:lnTo>
                      <a:pt x="2" y="403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38600">
                <a:off x="8285040" y="4969800"/>
                <a:ext cx="72720" cy="123840"/>
              </a:xfrm>
              <a:custGeom>
                <a:avLst/>
                <a:gdLst/>
                <a:ahLst/>
                <a:rect l="l" t="t" r="r" b="b"/>
                <a:pathLst>
                  <a:path w="57" h="119">
                    <a:moveTo>
                      <a:pt x="0" y="60"/>
                    </a:moveTo>
                    <a:lnTo>
                      <a:pt x="2" y="82"/>
                    </a:lnTo>
                    <a:lnTo>
                      <a:pt x="9" y="102"/>
                    </a:lnTo>
                    <a:lnTo>
                      <a:pt x="18" y="114"/>
                    </a:lnTo>
                    <a:lnTo>
                      <a:pt x="28" y="119"/>
                    </a:lnTo>
                    <a:lnTo>
                      <a:pt x="40" y="114"/>
                    </a:lnTo>
                    <a:lnTo>
                      <a:pt x="49" y="102"/>
                    </a:lnTo>
                    <a:lnTo>
                      <a:pt x="55" y="82"/>
                    </a:lnTo>
                    <a:lnTo>
                      <a:pt x="57" y="60"/>
                    </a:lnTo>
                    <a:lnTo>
                      <a:pt x="55" y="36"/>
                    </a:lnTo>
                    <a:lnTo>
                      <a:pt x="49" y="17"/>
                    </a:lnTo>
                    <a:lnTo>
                      <a:pt x="40" y="5"/>
                    </a:lnTo>
                    <a:lnTo>
                      <a:pt x="28" y="0"/>
                    </a:lnTo>
                    <a:lnTo>
                      <a:pt x="18" y="5"/>
                    </a:lnTo>
                    <a:lnTo>
                      <a:pt x="9" y="17"/>
                    </a:lnTo>
                    <a:lnTo>
                      <a:pt x="2" y="36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38600">
                <a:off x="7821000" y="4677840"/>
                <a:ext cx="57960" cy="109080"/>
              </a:xfrm>
              <a:custGeom>
                <a:avLst/>
                <a:gdLst/>
                <a:ahLst/>
                <a:rect l="l" t="t" r="r" b="b"/>
                <a:pathLst>
                  <a:path w="45" h="106">
                    <a:moveTo>
                      <a:pt x="0" y="52"/>
                    </a:moveTo>
                    <a:lnTo>
                      <a:pt x="2" y="74"/>
                    </a:lnTo>
                    <a:lnTo>
                      <a:pt x="6" y="90"/>
                    </a:lnTo>
                    <a:lnTo>
                      <a:pt x="13" y="102"/>
                    </a:lnTo>
                    <a:lnTo>
                      <a:pt x="22" y="106"/>
                    </a:lnTo>
                    <a:lnTo>
                      <a:pt x="31" y="102"/>
                    </a:lnTo>
                    <a:lnTo>
                      <a:pt x="38" y="90"/>
                    </a:lnTo>
                    <a:lnTo>
                      <a:pt x="43" y="74"/>
                    </a:lnTo>
                    <a:lnTo>
                      <a:pt x="45" y="52"/>
                    </a:lnTo>
                    <a:lnTo>
                      <a:pt x="43" y="33"/>
                    </a:lnTo>
                    <a:lnTo>
                      <a:pt x="38" y="15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13" y="4"/>
                    </a:lnTo>
                    <a:lnTo>
                      <a:pt x="6" y="15"/>
                    </a:lnTo>
                    <a:lnTo>
                      <a:pt x="2" y="3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38600">
                <a:off x="8021160" y="6176160"/>
                <a:ext cx="177840" cy="14688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82" y="1"/>
                    </a:moveTo>
                    <a:lnTo>
                      <a:pt x="85" y="2"/>
                    </a:lnTo>
                    <a:lnTo>
                      <a:pt x="90" y="5"/>
                    </a:lnTo>
                    <a:lnTo>
                      <a:pt x="99" y="11"/>
                    </a:lnTo>
                    <a:lnTo>
                      <a:pt x="110" y="18"/>
                    </a:lnTo>
                    <a:lnTo>
                      <a:pt x="120" y="28"/>
                    </a:lnTo>
                    <a:lnTo>
                      <a:pt x="129" y="40"/>
                    </a:lnTo>
                    <a:lnTo>
                      <a:pt x="137" y="57"/>
                    </a:lnTo>
                    <a:lnTo>
                      <a:pt x="142" y="74"/>
                    </a:lnTo>
                    <a:lnTo>
                      <a:pt x="140" y="78"/>
                    </a:lnTo>
                    <a:lnTo>
                      <a:pt x="138" y="86"/>
                    </a:lnTo>
                    <a:lnTo>
                      <a:pt x="134" y="99"/>
                    </a:lnTo>
                    <a:lnTo>
                      <a:pt x="127" y="112"/>
                    </a:lnTo>
                    <a:lnTo>
                      <a:pt x="116" y="125"/>
                    </a:lnTo>
                    <a:lnTo>
                      <a:pt x="103" y="135"/>
                    </a:lnTo>
                    <a:lnTo>
                      <a:pt x="86" y="138"/>
                    </a:lnTo>
                    <a:lnTo>
                      <a:pt x="65" y="135"/>
                    </a:lnTo>
                    <a:lnTo>
                      <a:pt x="53" y="130"/>
                    </a:lnTo>
                    <a:lnTo>
                      <a:pt x="45" y="125"/>
                    </a:lnTo>
                    <a:lnTo>
                      <a:pt x="41" y="118"/>
                    </a:lnTo>
                    <a:lnTo>
                      <a:pt x="40" y="112"/>
                    </a:lnTo>
                    <a:lnTo>
                      <a:pt x="41" y="106"/>
                    </a:lnTo>
                    <a:lnTo>
                      <a:pt x="43" y="99"/>
                    </a:lnTo>
                    <a:lnTo>
                      <a:pt x="47" y="90"/>
                    </a:lnTo>
                    <a:lnTo>
                      <a:pt x="49" y="80"/>
                    </a:lnTo>
                    <a:lnTo>
                      <a:pt x="49" y="63"/>
                    </a:lnTo>
                    <a:lnTo>
                      <a:pt x="45" y="50"/>
                    </a:lnTo>
                    <a:lnTo>
                      <a:pt x="38" y="45"/>
                    </a:lnTo>
                    <a:lnTo>
                      <a:pt x="30" y="44"/>
                    </a:lnTo>
                    <a:lnTo>
                      <a:pt x="24" y="45"/>
                    </a:lnTo>
                    <a:lnTo>
                      <a:pt x="17" y="47"/>
                    </a:lnTo>
                    <a:lnTo>
                      <a:pt x="10" y="45"/>
                    </a:lnTo>
                    <a:lnTo>
                      <a:pt x="5" y="44"/>
                    </a:lnTo>
                    <a:lnTo>
                      <a:pt x="1" y="42"/>
                    </a:lnTo>
                    <a:lnTo>
                      <a:pt x="0" y="38"/>
                    </a:lnTo>
                    <a:lnTo>
                      <a:pt x="4" y="32"/>
                    </a:lnTo>
                    <a:lnTo>
                      <a:pt x="11" y="26"/>
                    </a:lnTo>
                    <a:lnTo>
                      <a:pt x="22" y="19"/>
                    </a:lnTo>
                    <a:lnTo>
                      <a:pt x="32" y="13"/>
                    </a:lnTo>
                    <a:lnTo>
                      <a:pt x="42" y="8"/>
                    </a:lnTo>
                    <a:lnTo>
                      <a:pt x="53" y="5"/>
                    </a:lnTo>
                    <a:lnTo>
                      <a:pt x="62" y="1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638600">
                <a:off x="7116480" y="6361560"/>
                <a:ext cx="257760" cy="121680"/>
              </a:xfrm>
              <a:custGeom>
                <a:avLst/>
                <a:gdLst/>
                <a:ahLst/>
                <a:rect l="l" t="t" r="r" b="b"/>
                <a:pathLst>
                  <a:path w="207" h="116">
                    <a:moveTo>
                      <a:pt x="178" y="6"/>
                    </a:moveTo>
                    <a:lnTo>
                      <a:pt x="182" y="11"/>
                    </a:lnTo>
                    <a:lnTo>
                      <a:pt x="189" y="22"/>
                    </a:lnTo>
                    <a:lnTo>
                      <a:pt x="199" y="39"/>
                    </a:lnTo>
                    <a:lnTo>
                      <a:pt x="205" y="58"/>
                    </a:lnTo>
                    <a:lnTo>
                      <a:pt x="207" y="78"/>
                    </a:lnTo>
                    <a:lnTo>
                      <a:pt x="199" y="95"/>
                    </a:lnTo>
                    <a:lnTo>
                      <a:pt x="178" y="109"/>
                    </a:lnTo>
                    <a:lnTo>
                      <a:pt x="143" y="115"/>
                    </a:lnTo>
                    <a:lnTo>
                      <a:pt x="121" y="116"/>
                    </a:lnTo>
                    <a:lnTo>
                      <a:pt x="99" y="116"/>
                    </a:lnTo>
                    <a:lnTo>
                      <a:pt x="80" y="115"/>
                    </a:lnTo>
                    <a:lnTo>
                      <a:pt x="62" y="114"/>
                    </a:lnTo>
                    <a:lnTo>
                      <a:pt x="45" y="111"/>
                    </a:lnTo>
                    <a:lnTo>
                      <a:pt x="31" y="107"/>
                    </a:lnTo>
                    <a:lnTo>
                      <a:pt x="18" y="104"/>
                    </a:lnTo>
                    <a:lnTo>
                      <a:pt x="9" y="98"/>
                    </a:lnTo>
                    <a:lnTo>
                      <a:pt x="3" y="91"/>
                    </a:lnTo>
                    <a:lnTo>
                      <a:pt x="0" y="83"/>
                    </a:lnTo>
                    <a:lnTo>
                      <a:pt x="1" y="74"/>
                    </a:lnTo>
                    <a:lnTo>
                      <a:pt x="6" y="63"/>
                    </a:lnTo>
                    <a:lnTo>
                      <a:pt x="14" y="49"/>
                    </a:lnTo>
                    <a:lnTo>
                      <a:pt x="27" y="34"/>
                    </a:lnTo>
                    <a:lnTo>
                      <a:pt x="45" y="18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8" y="5"/>
                    </a:lnTo>
                    <a:lnTo>
                      <a:pt x="89" y="10"/>
                    </a:lnTo>
                    <a:lnTo>
                      <a:pt x="104" y="15"/>
                    </a:lnTo>
                    <a:lnTo>
                      <a:pt x="121" y="18"/>
                    </a:lnTo>
                    <a:lnTo>
                      <a:pt x="139" y="18"/>
                    </a:lnTo>
                    <a:lnTo>
                      <a:pt x="159" y="15"/>
                    </a:lnTo>
                    <a:lnTo>
                      <a:pt x="17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638600">
                <a:off x="7161120" y="6355440"/>
                <a:ext cx="278280" cy="62640"/>
              </a:xfrm>
              <a:custGeom>
                <a:avLst/>
                <a:gdLst/>
                <a:ahLst/>
                <a:rect l="l" t="t" r="r" b="b"/>
                <a:pathLst>
                  <a:path w="223" h="59">
                    <a:moveTo>
                      <a:pt x="0" y="12"/>
                    </a:moveTo>
                    <a:lnTo>
                      <a:pt x="1" y="17"/>
                    </a:lnTo>
                    <a:lnTo>
                      <a:pt x="7" y="23"/>
                    </a:lnTo>
                    <a:lnTo>
                      <a:pt x="17" y="28"/>
                    </a:lnTo>
                    <a:lnTo>
                      <a:pt x="31" y="34"/>
                    </a:lnTo>
                    <a:lnTo>
                      <a:pt x="47" y="39"/>
                    </a:lnTo>
                    <a:lnTo>
                      <a:pt x="65" y="44"/>
                    </a:lnTo>
                    <a:lnTo>
                      <a:pt x="86" y="49"/>
                    </a:lnTo>
                    <a:lnTo>
                      <a:pt x="109" y="53"/>
                    </a:lnTo>
                    <a:lnTo>
                      <a:pt x="131" y="55"/>
                    </a:lnTo>
                    <a:lnTo>
                      <a:pt x="152" y="58"/>
                    </a:lnTo>
                    <a:lnTo>
                      <a:pt x="171" y="59"/>
                    </a:lnTo>
                    <a:lnTo>
                      <a:pt x="188" y="58"/>
                    </a:lnTo>
                    <a:lnTo>
                      <a:pt x="202" y="57"/>
                    </a:lnTo>
                    <a:lnTo>
                      <a:pt x="214" y="54"/>
                    </a:lnTo>
                    <a:lnTo>
                      <a:pt x="220" y="50"/>
                    </a:lnTo>
                    <a:lnTo>
                      <a:pt x="223" y="45"/>
                    </a:lnTo>
                    <a:lnTo>
                      <a:pt x="222" y="41"/>
                    </a:lnTo>
                    <a:lnTo>
                      <a:pt x="216" y="34"/>
                    </a:lnTo>
                    <a:lnTo>
                      <a:pt x="206" y="29"/>
                    </a:lnTo>
                    <a:lnTo>
                      <a:pt x="193" y="23"/>
                    </a:lnTo>
                    <a:lnTo>
                      <a:pt x="176" y="18"/>
                    </a:lnTo>
                    <a:lnTo>
                      <a:pt x="158" y="13"/>
                    </a:lnTo>
                    <a:lnTo>
                      <a:pt x="137" y="8"/>
                    </a:lnTo>
                    <a:lnTo>
                      <a:pt x="114" y="5"/>
                    </a:lnTo>
                    <a:lnTo>
                      <a:pt x="91" y="2"/>
                    </a:lnTo>
                    <a:lnTo>
                      <a:pt x="71" y="0"/>
                    </a:lnTo>
                    <a:lnTo>
                      <a:pt x="52" y="0"/>
                    </a:lnTo>
                    <a:lnTo>
                      <a:pt x="34" y="0"/>
                    </a:lnTo>
                    <a:lnTo>
                      <a:pt x="21" y="1"/>
                    </a:lnTo>
                    <a:lnTo>
                      <a:pt x="9" y="3"/>
                    </a:lnTo>
                    <a:lnTo>
                      <a:pt x="2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1638600">
                <a:off x="7792200" y="6696360"/>
                <a:ext cx="276120" cy="81720"/>
              </a:xfrm>
              <a:custGeom>
                <a:avLst/>
                <a:gdLst/>
                <a:ahLst/>
                <a:rect l="l" t="t" r="r" b="b"/>
                <a:pathLst>
                  <a:path w="219" h="78">
                    <a:moveTo>
                      <a:pt x="0" y="69"/>
                    </a:moveTo>
                    <a:lnTo>
                      <a:pt x="3" y="73"/>
                    </a:lnTo>
                    <a:lnTo>
                      <a:pt x="11" y="77"/>
                    </a:lnTo>
                    <a:lnTo>
                      <a:pt x="21" y="78"/>
                    </a:lnTo>
                    <a:lnTo>
                      <a:pt x="36" y="77"/>
                    </a:lnTo>
                    <a:lnTo>
                      <a:pt x="53" y="76"/>
                    </a:lnTo>
                    <a:lnTo>
                      <a:pt x="72" y="73"/>
                    </a:lnTo>
                    <a:lnTo>
                      <a:pt x="93" y="68"/>
                    </a:lnTo>
                    <a:lnTo>
                      <a:pt x="115" y="63"/>
                    </a:lnTo>
                    <a:lnTo>
                      <a:pt x="137" y="57"/>
                    </a:lnTo>
                    <a:lnTo>
                      <a:pt x="157" y="50"/>
                    </a:lnTo>
                    <a:lnTo>
                      <a:pt x="175" y="42"/>
                    </a:lnTo>
                    <a:lnTo>
                      <a:pt x="191" y="35"/>
                    </a:lnTo>
                    <a:lnTo>
                      <a:pt x="204" y="27"/>
                    </a:lnTo>
                    <a:lnTo>
                      <a:pt x="213" y="21"/>
                    </a:lnTo>
                    <a:lnTo>
                      <a:pt x="218" y="14"/>
                    </a:lnTo>
                    <a:lnTo>
                      <a:pt x="219" y="9"/>
                    </a:lnTo>
                    <a:lnTo>
                      <a:pt x="215" y="5"/>
                    </a:lnTo>
                    <a:lnTo>
                      <a:pt x="207" y="1"/>
                    </a:lnTo>
                    <a:lnTo>
                      <a:pt x="197" y="0"/>
                    </a:lnTo>
                    <a:lnTo>
                      <a:pt x="182" y="1"/>
                    </a:lnTo>
                    <a:lnTo>
                      <a:pt x="165" y="3"/>
                    </a:lnTo>
                    <a:lnTo>
                      <a:pt x="147" y="6"/>
                    </a:lnTo>
                    <a:lnTo>
                      <a:pt x="125" y="10"/>
                    </a:lnTo>
                    <a:lnTo>
                      <a:pt x="103" y="16"/>
                    </a:lnTo>
                    <a:lnTo>
                      <a:pt x="82" y="22"/>
                    </a:lnTo>
                    <a:lnTo>
                      <a:pt x="61" y="30"/>
                    </a:lnTo>
                    <a:lnTo>
                      <a:pt x="43" y="37"/>
                    </a:lnTo>
                    <a:lnTo>
                      <a:pt x="28" y="45"/>
                    </a:lnTo>
                    <a:lnTo>
                      <a:pt x="16" y="51"/>
                    </a:lnTo>
                    <a:lnTo>
                      <a:pt x="6" y="58"/>
                    </a:lnTo>
                    <a:lnTo>
                      <a:pt x="1" y="64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1638600">
                <a:off x="7870320" y="4891320"/>
                <a:ext cx="55080" cy="102600"/>
              </a:xfrm>
              <a:custGeom>
                <a:avLst/>
                <a:gdLst/>
                <a:ahLst/>
                <a:rect l="l" t="t" r="r" b="b"/>
                <a:pathLst>
                  <a:path w="45" h="99">
                    <a:moveTo>
                      <a:pt x="45" y="0"/>
                    </a:moveTo>
                    <a:lnTo>
                      <a:pt x="41" y="1"/>
                    </a:lnTo>
                    <a:lnTo>
                      <a:pt x="32" y="5"/>
                    </a:lnTo>
                    <a:lnTo>
                      <a:pt x="21" y="13"/>
                    </a:lnTo>
                    <a:lnTo>
                      <a:pt x="10" y="23"/>
                    </a:lnTo>
                    <a:lnTo>
                      <a:pt x="2" y="35"/>
                    </a:lnTo>
                    <a:lnTo>
                      <a:pt x="0" y="52"/>
                    </a:lnTo>
                    <a:lnTo>
                      <a:pt x="6" y="72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7" y="99"/>
                    </a:lnTo>
                    <a:lnTo>
                      <a:pt x="44" y="97"/>
                    </a:lnTo>
                    <a:lnTo>
                      <a:pt x="42" y="87"/>
                    </a:lnTo>
                    <a:lnTo>
                      <a:pt x="37" y="80"/>
                    </a:lnTo>
                    <a:lnTo>
                      <a:pt x="30" y="72"/>
                    </a:lnTo>
                    <a:lnTo>
                      <a:pt x="22" y="65"/>
                    </a:lnTo>
                    <a:lnTo>
                      <a:pt x="16" y="56"/>
                    </a:lnTo>
                    <a:lnTo>
                      <a:pt x="13" y="46"/>
                    </a:lnTo>
                    <a:lnTo>
                      <a:pt x="16" y="34"/>
                    </a:lnTo>
                    <a:lnTo>
                      <a:pt x="25" y="19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1638600">
                <a:off x="8123040" y="5119920"/>
                <a:ext cx="323280" cy="22644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258" y="109"/>
                    </a:moveTo>
                    <a:lnTo>
                      <a:pt x="256" y="131"/>
                    </a:lnTo>
                    <a:lnTo>
                      <a:pt x="248" y="151"/>
                    </a:lnTo>
                    <a:lnTo>
                      <a:pt x="236" y="170"/>
                    </a:lnTo>
                    <a:lnTo>
                      <a:pt x="220" y="184"/>
                    </a:lnTo>
                    <a:lnTo>
                      <a:pt x="201" y="198"/>
                    </a:lnTo>
                    <a:lnTo>
                      <a:pt x="179" y="208"/>
                    </a:lnTo>
                    <a:lnTo>
                      <a:pt x="155" y="214"/>
                    </a:lnTo>
                    <a:lnTo>
                      <a:pt x="129" y="217"/>
                    </a:lnTo>
                    <a:lnTo>
                      <a:pt x="103" y="214"/>
                    </a:lnTo>
                    <a:lnTo>
                      <a:pt x="79" y="208"/>
                    </a:lnTo>
                    <a:lnTo>
                      <a:pt x="57" y="198"/>
                    </a:lnTo>
                    <a:lnTo>
                      <a:pt x="38" y="184"/>
                    </a:lnTo>
                    <a:lnTo>
                      <a:pt x="22" y="170"/>
                    </a:lnTo>
                    <a:lnTo>
                      <a:pt x="11" y="151"/>
                    </a:lnTo>
                    <a:lnTo>
                      <a:pt x="3" y="131"/>
                    </a:lnTo>
                    <a:lnTo>
                      <a:pt x="0" y="109"/>
                    </a:lnTo>
                    <a:lnTo>
                      <a:pt x="3" y="87"/>
                    </a:lnTo>
                    <a:lnTo>
                      <a:pt x="11" y="67"/>
                    </a:lnTo>
                    <a:lnTo>
                      <a:pt x="22" y="48"/>
                    </a:lnTo>
                    <a:lnTo>
                      <a:pt x="38" y="32"/>
                    </a:lnTo>
                    <a:lnTo>
                      <a:pt x="57" y="18"/>
                    </a:lnTo>
                    <a:lnTo>
                      <a:pt x="79" y="9"/>
                    </a:lnTo>
                    <a:lnTo>
                      <a:pt x="103" y="2"/>
                    </a:lnTo>
                    <a:lnTo>
                      <a:pt x="129" y="0"/>
                    </a:lnTo>
                    <a:lnTo>
                      <a:pt x="155" y="2"/>
                    </a:lnTo>
                    <a:lnTo>
                      <a:pt x="179" y="9"/>
                    </a:lnTo>
                    <a:lnTo>
                      <a:pt x="201" y="18"/>
                    </a:lnTo>
                    <a:lnTo>
                      <a:pt x="220" y="32"/>
                    </a:lnTo>
                    <a:lnTo>
                      <a:pt x="236" y="48"/>
                    </a:lnTo>
                    <a:lnTo>
                      <a:pt x="248" y="67"/>
                    </a:lnTo>
                    <a:lnTo>
                      <a:pt x="256" y="87"/>
                    </a:lnTo>
                    <a:lnTo>
                      <a:pt x="258" y="109"/>
                    </a:lnTo>
                    <a:close/>
                  </a:path>
                </a:pathLst>
              </a:custGeom>
              <a:solidFill>
                <a:srgbClr val="ffa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1638600">
                <a:off x="7673760" y="4789440"/>
                <a:ext cx="167400" cy="199440"/>
              </a:xfrm>
              <a:custGeom>
                <a:avLst/>
                <a:gdLst/>
                <a:ahLst/>
                <a:rect l="l" t="t" r="r" b="b"/>
                <a:pathLst>
                  <a:path w="134" h="188">
                    <a:moveTo>
                      <a:pt x="129" y="93"/>
                    </a:moveTo>
                    <a:lnTo>
                      <a:pt x="132" y="111"/>
                    </a:lnTo>
                    <a:lnTo>
                      <a:pt x="134" y="130"/>
                    </a:lnTo>
                    <a:lnTo>
                      <a:pt x="132" y="146"/>
                    </a:lnTo>
                    <a:lnTo>
                      <a:pt x="129" y="160"/>
                    </a:lnTo>
                    <a:lnTo>
                      <a:pt x="122" y="171"/>
                    </a:lnTo>
                    <a:lnTo>
                      <a:pt x="114" y="179"/>
                    </a:lnTo>
                    <a:lnTo>
                      <a:pt x="104" y="186"/>
                    </a:lnTo>
                    <a:lnTo>
                      <a:pt x="92" y="188"/>
                    </a:lnTo>
                    <a:lnTo>
                      <a:pt x="80" y="187"/>
                    </a:lnTo>
                    <a:lnTo>
                      <a:pt x="70" y="184"/>
                    </a:lnTo>
                    <a:lnTo>
                      <a:pt x="58" y="178"/>
                    </a:lnTo>
                    <a:lnTo>
                      <a:pt x="48" y="169"/>
                    </a:lnTo>
                    <a:lnTo>
                      <a:pt x="38" y="157"/>
                    </a:lnTo>
                    <a:lnTo>
                      <a:pt x="27" y="141"/>
                    </a:lnTo>
                    <a:lnTo>
                      <a:pt x="17" y="120"/>
                    </a:lnTo>
                    <a:lnTo>
                      <a:pt x="7" y="95"/>
                    </a:lnTo>
                    <a:lnTo>
                      <a:pt x="1" y="77"/>
                    </a:lnTo>
                    <a:lnTo>
                      <a:pt x="0" y="59"/>
                    </a:lnTo>
                    <a:lnTo>
                      <a:pt x="1" y="43"/>
                    </a:lnTo>
                    <a:lnTo>
                      <a:pt x="5" y="28"/>
                    </a:lnTo>
                    <a:lnTo>
                      <a:pt x="11" y="17"/>
                    </a:lnTo>
                    <a:lnTo>
                      <a:pt x="21" y="7"/>
                    </a:lnTo>
                    <a:lnTo>
                      <a:pt x="31" y="2"/>
                    </a:lnTo>
                    <a:lnTo>
                      <a:pt x="42" y="0"/>
                    </a:lnTo>
                    <a:lnTo>
                      <a:pt x="55" y="1"/>
                    </a:lnTo>
                    <a:lnTo>
                      <a:pt x="68" y="7"/>
                    </a:lnTo>
                    <a:lnTo>
                      <a:pt x="81" y="16"/>
                    </a:lnTo>
                    <a:lnTo>
                      <a:pt x="94" y="27"/>
                    </a:lnTo>
                    <a:lnTo>
                      <a:pt x="105" y="41"/>
                    </a:lnTo>
                    <a:lnTo>
                      <a:pt x="114" y="57"/>
                    </a:lnTo>
                    <a:lnTo>
                      <a:pt x="123" y="74"/>
                    </a:lnTo>
                    <a:lnTo>
                      <a:pt x="129" y="93"/>
                    </a:lnTo>
                    <a:close/>
                  </a:path>
                </a:pathLst>
              </a:custGeom>
              <a:solidFill>
                <a:srgbClr val="ffa0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1638600">
                <a:off x="7392600" y="4293720"/>
                <a:ext cx="1924920" cy="1657440"/>
              </a:xfrm>
              <a:custGeom>
                <a:avLst/>
                <a:gdLst/>
                <a:ahLst/>
                <a:rect l="l" t="t" r="r" b="b"/>
                <a:pathLst>
                  <a:path w="1536" h="1579">
                    <a:moveTo>
                      <a:pt x="824" y="625"/>
                    </a:moveTo>
                    <a:lnTo>
                      <a:pt x="829" y="645"/>
                    </a:lnTo>
                    <a:lnTo>
                      <a:pt x="840" y="699"/>
                    </a:lnTo>
                    <a:lnTo>
                      <a:pt x="851" y="787"/>
                    </a:lnTo>
                    <a:lnTo>
                      <a:pt x="862" y="902"/>
                    </a:lnTo>
                    <a:lnTo>
                      <a:pt x="863" y="1044"/>
                    </a:lnTo>
                    <a:lnTo>
                      <a:pt x="851" y="1206"/>
                    </a:lnTo>
                    <a:lnTo>
                      <a:pt x="822" y="1385"/>
                    </a:lnTo>
                    <a:lnTo>
                      <a:pt x="772" y="1579"/>
                    </a:lnTo>
                    <a:lnTo>
                      <a:pt x="773" y="1579"/>
                    </a:lnTo>
                    <a:lnTo>
                      <a:pt x="777" y="1577"/>
                    </a:lnTo>
                    <a:lnTo>
                      <a:pt x="784" y="1576"/>
                    </a:lnTo>
                    <a:lnTo>
                      <a:pt x="794" y="1575"/>
                    </a:lnTo>
                    <a:lnTo>
                      <a:pt x="807" y="1573"/>
                    </a:lnTo>
                    <a:lnTo>
                      <a:pt x="822" y="1569"/>
                    </a:lnTo>
                    <a:lnTo>
                      <a:pt x="838" y="1566"/>
                    </a:lnTo>
                    <a:lnTo>
                      <a:pt x="857" y="1561"/>
                    </a:lnTo>
                    <a:lnTo>
                      <a:pt x="878" y="1558"/>
                    </a:lnTo>
                    <a:lnTo>
                      <a:pt x="901" y="1553"/>
                    </a:lnTo>
                    <a:lnTo>
                      <a:pt x="925" y="1548"/>
                    </a:lnTo>
                    <a:lnTo>
                      <a:pt x="950" y="1542"/>
                    </a:lnTo>
                    <a:lnTo>
                      <a:pt x="976" y="1535"/>
                    </a:lnTo>
                    <a:lnTo>
                      <a:pt x="1004" y="1529"/>
                    </a:lnTo>
                    <a:lnTo>
                      <a:pt x="1033" y="1522"/>
                    </a:lnTo>
                    <a:lnTo>
                      <a:pt x="1063" y="1514"/>
                    </a:lnTo>
                    <a:lnTo>
                      <a:pt x="1093" y="1507"/>
                    </a:lnTo>
                    <a:lnTo>
                      <a:pt x="1124" y="1498"/>
                    </a:lnTo>
                    <a:lnTo>
                      <a:pt x="1156" y="1490"/>
                    </a:lnTo>
                    <a:lnTo>
                      <a:pt x="1188" y="1481"/>
                    </a:lnTo>
                    <a:lnTo>
                      <a:pt x="1219" y="1471"/>
                    </a:lnTo>
                    <a:lnTo>
                      <a:pt x="1251" y="1461"/>
                    </a:lnTo>
                    <a:lnTo>
                      <a:pt x="1283" y="1451"/>
                    </a:lnTo>
                    <a:lnTo>
                      <a:pt x="1314" y="1441"/>
                    </a:lnTo>
                    <a:lnTo>
                      <a:pt x="1344" y="1430"/>
                    </a:lnTo>
                    <a:lnTo>
                      <a:pt x="1375" y="1419"/>
                    </a:lnTo>
                    <a:lnTo>
                      <a:pt x="1405" y="1407"/>
                    </a:lnTo>
                    <a:lnTo>
                      <a:pt x="1434" y="1395"/>
                    </a:lnTo>
                    <a:lnTo>
                      <a:pt x="1461" y="1383"/>
                    </a:lnTo>
                    <a:lnTo>
                      <a:pt x="1487" y="1371"/>
                    </a:lnTo>
                    <a:lnTo>
                      <a:pt x="1512" y="1358"/>
                    </a:lnTo>
                    <a:lnTo>
                      <a:pt x="1535" y="1345"/>
                    </a:lnTo>
                    <a:lnTo>
                      <a:pt x="1535" y="1331"/>
                    </a:lnTo>
                    <a:lnTo>
                      <a:pt x="1536" y="1291"/>
                    </a:lnTo>
                    <a:lnTo>
                      <a:pt x="1535" y="1231"/>
                    </a:lnTo>
                    <a:lnTo>
                      <a:pt x="1533" y="1151"/>
                    </a:lnTo>
                    <a:lnTo>
                      <a:pt x="1526" y="1056"/>
                    </a:lnTo>
                    <a:lnTo>
                      <a:pt x="1515" y="951"/>
                    </a:lnTo>
                    <a:lnTo>
                      <a:pt x="1499" y="836"/>
                    </a:lnTo>
                    <a:lnTo>
                      <a:pt x="1473" y="717"/>
                    </a:lnTo>
                    <a:lnTo>
                      <a:pt x="1441" y="598"/>
                    </a:lnTo>
                    <a:lnTo>
                      <a:pt x="1399" y="480"/>
                    </a:lnTo>
                    <a:lnTo>
                      <a:pt x="1346" y="367"/>
                    </a:lnTo>
                    <a:lnTo>
                      <a:pt x="1281" y="265"/>
                    </a:lnTo>
                    <a:lnTo>
                      <a:pt x="1203" y="175"/>
                    </a:lnTo>
                    <a:lnTo>
                      <a:pt x="1111" y="101"/>
                    </a:lnTo>
                    <a:lnTo>
                      <a:pt x="1002" y="47"/>
                    </a:lnTo>
                    <a:lnTo>
                      <a:pt x="877" y="16"/>
                    </a:lnTo>
                    <a:lnTo>
                      <a:pt x="874" y="14"/>
                    </a:lnTo>
                    <a:lnTo>
                      <a:pt x="865" y="13"/>
                    </a:lnTo>
                    <a:lnTo>
                      <a:pt x="853" y="11"/>
                    </a:lnTo>
                    <a:lnTo>
                      <a:pt x="834" y="8"/>
                    </a:lnTo>
                    <a:lnTo>
                      <a:pt x="813" y="4"/>
                    </a:lnTo>
                    <a:lnTo>
                      <a:pt x="786" y="2"/>
                    </a:lnTo>
                    <a:lnTo>
                      <a:pt x="757" y="1"/>
                    </a:lnTo>
                    <a:lnTo>
                      <a:pt x="725" y="0"/>
                    </a:lnTo>
                    <a:lnTo>
                      <a:pt x="689" y="1"/>
                    </a:lnTo>
                    <a:lnTo>
                      <a:pt x="652" y="3"/>
                    </a:lnTo>
                    <a:lnTo>
                      <a:pt x="613" y="8"/>
                    </a:lnTo>
                    <a:lnTo>
                      <a:pt x="572" y="16"/>
                    </a:lnTo>
                    <a:lnTo>
                      <a:pt x="530" y="27"/>
                    </a:lnTo>
                    <a:lnTo>
                      <a:pt x="486" y="40"/>
                    </a:lnTo>
                    <a:lnTo>
                      <a:pt x="443" y="58"/>
                    </a:lnTo>
                    <a:lnTo>
                      <a:pt x="400" y="80"/>
                    </a:lnTo>
                    <a:lnTo>
                      <a:pt x="356" y="107"/>
                    </a:lnTo>
                    <a:lnTo>
                      <a:pt x="314" y="138"/>
                    </a:lnTo>
                    <a:lnTo>
                      <a:pt x="273" y="175"/>
                    </a:lnTo>
                    <a:lnTo>
                      <a:pt x="233" y="218"/>
                    </a:lnTo>
                    <a:lnTo>
                      <a:pt x="194" y="266"/>
                    </a:lnTo>
                    <a:lnTo>
                      <a:pt x="159" y="320"/>
                    </a:lnTo>
                    <a:lnTo>
                      <a:pt x="126" y="382"/>
                    </a:lnTo>
                    <a:lnTo>
                      <a:pt x="96" y="452"/>
                    </a:lnTo>
                    <a:lnTo>
                      <a:pt x="69" y="528"/>
                    </a:lnTo>
                    <a:lnTo>
                      <a:pt x="46" y="613"/>
                    </a:lnTo>
                    <a:lnTo>
                      <a:pt x="28" y="704"/>
                    </a:lnTo>
                    <a:lnTo>
                      <a:pt x="13" y="806"/>
                    </a:lnTo>
                    <a:lnTo>
                      <a:pt x="4" y="917"/>
                    </a:lnTo>
                    <a:lnTo>
                      <a:pt x="0" y="1036"/>
                    </a:lnTo>
                    <a:lnTo>
                      <a:pt x="1" y="1166"/>
                    </a:lnTo>
                    <a:lnTo>
                      <a:pt x="9" y="1306"/>
                    </a:lnTo>
                    <a:lnTo>
                      <a:pt x="15" y="1306"/>
                    </a:lnTo>
                    <a:lnTo>
                      <a:pt x="30" y="1306"/>
                    </a:lnTo>
                    <a:lnTo>
                      <a:pt x="53" y="1305"/>
                    </a:lnTo>
                    <a:lnTo>
                      <a:pt x="83" y="1304"/>
                    </a:lnTo>
                    <a:lnTo>
                      <a:pt x="119" y="1303"/>
                    </a:lnTo>
                    <a:lnTo>
                      <a:pt x="160" y="1300"/>
                    </a:lnTo>
                    <a:lnTo>
                      <a:pt x="204" y="1296"/>
                    </a:lnTo>
                    <a:lnTo>
                      <a:pt x="250" y="1291"/>
                    </a:lnTo>
                    <a:lnTo>
                      <a:pt x="297" y="1285"/>
                    </a:lnTo>
                    <a:lnTo>
                      <a:pt x="343" y="1276"/>
                    </a:lnTo>
                    <a:lnTo>
                      <a:pt x="387" y="1268"/>
                    </a:lnTo>
                    <a:lnTo>
                      <a:pt x="428" y="1257"/>
                    </a:lnTo>
                    <a:lnTo>
                      <a:pt x="466" y="1243"/>
                    </a:lnTo>
                    <a:lnTo>
                      <a:pt x="497" y="1228"/>
                    </a:lnTo>
                    <a:lnTo>
                      <a:pt x="522" y="1211"/>
                    </a:lnTo>
                    <a:lnTo>
                      <a:pt x="538" y="1191"/>
                    </a:lnTo>
                    <a:lnTo>
                      <a:pt x="532" y="1189"/>
                    </a:lnTo>
                    <a:lnTo>
                      <a:pt x="515" y="1179"/>
                    </a:lnTo>
                    <a:lnTo>
                      <a:pt x="489" y="1164"/>
                    </a:lnTo>
                    <a:lnTo>
                      <a:pt x="457" y="1144"/>
                    </a:lnTo>
                    <a:lnTo>
                      <a:pt x="418" y="1119"/>
                    </a:lnTo>
                    <a:lnTo>
                      <a:pt x="377" y="1088"/>
                    </a:lnTo>
                    <a:lnTo>
                      <a:pt x="335" y="1054"/>
                    </a:lnTo>
                    <a:lnTo>
                      <a:pt x="292" y="1015"/>
                    </a:lnTo>
                    <a:lnTo>
                      <a:pt x="252" y="972"/>
                    </a:lnTo>
                    <a:lnTo>
                      <a:pt x="217" y="925"/>
                    </a:lnTo>
                    <a:lnTo>
                      <a:pt x="187" y="874"/>
                    </a:lnTo>
                    <a:lnTo>
                      <a:pt x="166" y="821"/>
                    </a:lnTo>
                    <a:lnTo>
                      <a:pt x="154" y="764"/>
                    </a:lnTo>
                    <a:lnTo>
                      <a:pt x="155" y="704"/>
                    </a:lnTo>
                    <a:lnTo>
                      <a:pt x="169" y="642"/>
                    </a:lnTo>
                    <a:lnTo>
                      <a:pt x="199" y="578"/>
                    </a:lnTo>
                    <a:lnTo>
                      <a:pt x="201" y="578"/>
                    </a:lnTo>
                    <a:lnTo>
                      <a:pt x="209" y="579"/>
                    </a:lnTo>
                    <a:lnTo>
                      <a:pt x="220" y="580"/>
                    </a:lnTo>
                    <a:lnTo>
                      <a:pt x="235" y="582"/>
                    </a:lnTo>
                    <a:lnTo>
                      <a:pt x="253" y="583"/>
                    </a:lnTo>
                    <a:lnTo>
                      <a:pt x="274" y="584"/>
                    </a:lnTo>
                    <a:lnTo>
                      <a:pt x="297" y="585"/>
                    </a:lnTo>
                    <a:lnTo>
                      <a:pt x="321" y="588"/>
                    </a:lnTo>
                    <a:lnTo>
                      <a:pt x="347" y="589"/>
                    </a:lnTo>
                    <a:lnTo>
                      <a:pt x="372" y="590"/>
                    </a:lnTo>
                    <a:lnTo>
                      <a:pt x="397" y="592"/>
                    </a:lnTo>
                    <a:lnTo>
                      <a:pt x="422" y="593"/>
                    </a:lnTo>
                    <a:lnTo>
                      <a:pt x="446" y="594"/>
                    </a:lnTo>
                    <a:lnTo>
                      <a:pt x="468" y="594"/>
                    </a:lnTo>
                    <a:lnTo>
                      <a:pt x="487" y="594"/>
                    </a:lnTo>
                    <a:lnTo>
                      <a:pt x="505" y="593"/>
                    </a:lnTo>
                    <a:lnTo>
                      <a:pt x="505" y="589"/>
                    </a:lnTo>
                    <a:lnTo>
                      <a:pt x="506" y="577"/>
                    </a:lnTo>
                    <a:lnTo>
                      <a:pt x="509" y="559"/>
                    </a:lnTo>
                    <a:lnTo>
                      <a:pt x="514" y="537"/>
                    </a:lnTo>
                    <a:lnTo>
                      <a:pt x="519" y="512"/>
                    </a:lnTo>
                    <a:lnTo>
                      <a:pt x="530" y="486"/>
                    </a:lnTo>
                    <a:lnTo>
                      <a:pt x="541" y="459"/>
                    </a:lnTo>
                    <a:lnTo>
                      <a:pt x="557" y="434"/>
                    </a:lnTo>
                    <a:lnTo>
                      <a:pt x="556" y="452"/>
                    </a:lnTo>
                    <a:lnTo>
                      <a:pt x="555" y="495"/>
                    </a:lnTo>
                    <a:lnTo>
                      <a:pt x="555" y="547"/>
                    </a:lnTo>
                    <a:lnTo>
                      <a:pt x="557" y="593"/>
                    </a:lnTo>
                    <a:lnTo>
                      <a:pt x="559" y="593"/>
                    </a:lnTo>
                    <a:lnTo>
                      <a:pt x="566" y="594"/>
                    </a:lnTo>
                    <a:lnTo>
                      <a:pt x="576" y="595"/>
                    </a:lnTo>
                    <a:lnTo>
                      <a:pt x="590" y="597"/>
                    </a:lnTo>
                    <a:lnTo>
                      <a:pt x="607" y="599"/>
                    </a:lnTo>
                    <a:lnTo>
                      <a:pt x="627" y="601"/>
                    </a:lnTo>
                    <a:lnTo>
                      <a:pt x="647" y="604"/>
                    </a:lnTo>
                    <a:lnTo>
                      <a:pt x="669" y="606"/>
                    </a:lnTo>
                    <a:lnTo>
                      <a:pt x="692" y="609"/>
                    </a:lnTo>
                    <a:lnTo>
                      <a:pt x="715" y="611"/>
                    </a:lnTo>
                    <a:lnTo>
                      <a:pt x="736" y="614"/>
                    </a:lnTo>
                    <a:lnTo>
                      <a:pt x="758" y="616"/>
                    </a:lnTo>
                    <a:lnTo>
                      <a:pt x="777" y="619"/>
                    </a:lnTo>
                    <a:lnTo>
                      <a:pt x="796" y="621"/>
                    </a:lnTo>
                    <a:lnTo>
                      <a:pt x="812" y="624"/>
                    </a:lnTo>
                    <a:lnTo>
                      <a:pt x="824" y="6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638600">
                <a:off x="7461360" y="4335120"/>
                <a:ext cx="1799280" cy="1518480"/>
              </a:xfrm>
              <a:custGeom>
                <a:avLst/>
                <a:gdLst/>
                <a:ahLst/>
                <a:rect l="l" t="t" r="r" b="b"/>
                <a:pathLst>
                  <a:path w="1434" h="1446">
                    <a:moveTo>
                      <a:pt x="541" y="274"/>
                    </a:moveTo>
                    <a:lnTo>
                      <a:pt x="536" y="279"/>
                    </a:lnTo>
                    <a:lnTo>
                      <a:pt x="522" y="293"/>
                    </a:lnTo>
                    <a:lnTo>
                      <a:pt x="504" y="314"/>
                    </a:lnTo>
                    <a:lnTo>
                      <a:pt x="483" y="342"/>
                    </a:lnTo>
                    <a:lnTo>
                      <a:pt x="460" y="377"/>
                    </a:lnTo>
                    <a:lnTo>
                      <a:pt x="439" y="415"/>
                    </a:lnTo>
                    <a:lnTo>
                      <a:pt x="421" y="457"/>
                    </a:lnTo>
                    <a:lnTo>
                      <a:pt x="411" y="502"/>
                    </a:lnTo>
                    <a:lnTo>
                      <a:pt x="134" y="482"/>
                    </a:lnTo>
                    <a:lnTo>
                      <a:pt x="132" y="485"/>
                    </a:lnTo>
                    <a:lnTo>
                      <a:pt x="128" y="495"/>
                    </a:lnTo>
                    <a:lnTo>
                      <a:pt x="121" y="508"/>
                    </a:lnTo>
                    <a:lnTo>
                      <a:pt x="113" y="528"/>
                    </a:lnTo>
                    <a:lnTo>
                      <a:pt x="104" y="552"/>
                    </a:lnTo>
                    <a:lnTo>
                      <a:pt x="96" y="580"/>
                    </a:lnTo>
                    <a:lnTo>
                      <a:pt x="88" y="613"/>
                    </a:lnTo>
                    <a:lnTo>
                      <a:pt x="83" y="649"/>
                    </a:lnTo>
                    <a:lnTo>
                      <a:pt x="82" y="689"/>
                    </a:lnTo>
                    <a:lnTo>
                      <a:pt x="84" y="731"/>
                    </a:lnTo>
                    <a:lnTo>
                      <a:pt x="91" y="776"/>
                    </a:lnTo>
                    <a:lnTo>
                      <a:pt x="105" y="823"/>
                    </a:lnTo>
                    <a:lnTo>
                      <a:pt x="124" y="872"/>
                    </a:lnTo>
                    <a:lnTo>
                      <a:pt x="152" y="922"/>
                    </a:lnTo>
                    <a:lnTo>
                      <a:pt x="187" y="974"/>
                    </a:lnTo>
                    <a:lnTo>
                      <a:pt x="233" y="1026"/>
                    </a:lnTo>
                    <a:lnTo>
                      <a:pt x="234" y="1027"/>
                    </a:lnTo>
                    <a:lnTo>
                      <a:pt x="235" y="1030"/>
                    </a:lnTo>
                    <a:lnTo>
                      <a:pt x="238" y="1033"/>
                    </a:lnTo>
                    <a:lnTo>
                      <a:pt x="244" y="1038"/>
                    </a:lnTo>
                    <a:lnTo>
                      <a:pt x="251" y="1046"/>
                    </a:lnTo>
                    <a:lnTo>
                      <a:pt x="259" y="1053"/>
                    </a:lnTo>
                    <a:lnTo>
                      <a:pt x="269" y="1062"/>
                    </a:lnTo>
                    <a:lnTo>
                      <a:pt x="282" y="1072"/>
                    </a:lnTo>
                    <a:lnTo>
                      <a:pt x="297" y="1082"/>
                    </a:lnTo>
                    <a:lnTo>
                      <a:pt x="312" y="1092"/>
                    </a:lnTo>
                    <a:lnTo>
                      <a:pt x="332" y="1103"/>
                    </a:lnTo>
                    <a:lnTo>
                      <a:pt x="354" y="1113"/>
                    </a:lnTo>
                    <a:lnTo>
                      <a:pt x="378" y="1124"/>
                    </a:lnTo>
                    <a:lnTo>
                      <a:pt x="404" y="1135"/>
                    </a:lnTo>
                    <a:lnTo>
                      <a:pt x="433" y="1145"/>
                    </a:lnTo>
                    <a:lnTo>
                      <a:pt x="465" y="1155"/>
                    </a:lnTo>
                    <a:lnTo>
                      <a:pt x="464" y="1155"/>
                    </a:lnTo>
                    <a:lnTo>
                      <a:pt x="461" y="1157"/>
                    </a:lnTo>
                    <a:lnTo>
                      <a:pt x="455" y="1160"/>
                    </a:lnTo>
                    <a:lnTo>
                      <a:pt x="448" y="1162"/>
                    </a:lnTo>
                    <a:lnTo>
                      <a:pt x="438" y="1166"/>
                    </a:lnTo>
                    <a:lnTo>
                      <a:pt x="427" y="1170"/>
                    </a:lnTo>
                    <a:lnTo>
                      <a:pt x="414" y="1175"/>
                    </a:lnTo>
                    <a:lnTo>
                      <a:pt x="399" y="1180"/>
                    </a:lnTo>
                    <a:lnTo>
                      <a:pt x="382" y="1184"/>
                    </a:lnTo>
                    <a:lnTo>
                      <a:pt x="364" y="1189"/>
                    </a:lnTo>
                    <a:lnTo>
                      <a:pt x="343" y="1194"/>
                    </a:lnTo>
                    <a:lnTo>
                      <a:pt x="323" y="1198"/>
                    </a:lnTo>
                    <a:lnTo>
                      <a:pt x="300" y="1203"/>
                    </a:lnTo>
                    <a:lnTo>
                      <a:pt x="276" y="1207"/>
                    </a:lnTo>
                    <a:lnTo>
                      <a:pt x="250" y="1209"/>
                    </a:lnTo>
                    <a:lnTo>
                      <a:pt x="223" y="1212"/>
                    </a:lnTo>
                    <a:lnTo>
                      <a:pt x="220" y="1207"/>
                    </a:lnTo>
                    <a:lnTo>
                      <a:pt x="212" y="1192"/>
                    </a:lnTo>
                    <a:lnTo>
                      <a:pt x="199" y="1171"/>
                    </a:lnTo>
                    <a:lnTo>
                      <a:pt x="186" y="1144"/>
                    </a:lnTo>
                    <a:lnTo>
                      <a:pt x="172" y="1115"/>
                    </a:lnTo>
                    <a:lnTo>
                      <a:pt x="160" y="1084"/>
                    </a:lnTo>
                    <a:lnTo>
                      <a:pt x="152" y="1056"/>
                    </a:lnTo>
                    <a:lnTo>
                      <a:pt x="148" y="1031"/>
                    </a:lnTo>
                    <a:lnTo>
                      <a:pt x="148" y="1035"/>
                    </a:lnTo>
                    <a:lnTo>
                      <a:pt x="147" y="1047"/>
                    </a:lnTo>
                    <a:lnTo>
                      <a:pt x="146" y="1066"/>
                    </a:lnTo>
                    <a:lnTo>
                      <a:pt x="146" y="1090"/>
                    </a:lnTo>
                    <a:lnTo>
                      <a:pt x="148" y="1119"/>
                    </a:lnTo>
                    <a:lnTo>
                      <a:pt x="153" y="1150"/>
                    </a:lnTo>
                    <a:lnTo>
                      <a:pt x="161" y="1183"/>
                    </a:lnTo>
                    <a:lnTo>
                      <a:pt x="172" y="1218"/>
                    </a:lnTo>
                    <a:lnTo>
                      <a:pt x="17" y="1238"/>
                    </a:lnTo>
                    <a:lnTo>
                      <a:pt x="13" y="1218"/>
                    </a:lnTo>
                    <a:lnTo>
                      <a:pt x="8" y="1162"/>
                    </a:lnTo>
                    <a:lnTo>
                      <a:pt x="2" y="1077"/>
                    </a:lnTo>
                    <a:lnTo>
                      <a:pt x="0" y="965"/>
                    </a:lnTo>
                    <a:lnTo>
                      <a:pt x="5" y="835"/>
                    </a:lnTo>
                    <a:lnTo>
                      <a:pt x="21" y="690"/>
                    </a:lnTo>
                    <a:lnTo>
                      <a:pt x="52" y="537"/>
                    </a:lnTo>
                    <a:lnTo>
                      <a:pt x="101" y="381"/>
                    </a:lnTo>
                    <a:lnTo>
                      <a:pt x="104" y="376"/>
                    </a:lnTo>
                    <a:lnTo>
                      <a:pt x="109" y="363"/>
                    </a:lnTo>
                    <a:lnTo>
                      <a:pt x="118" y="343"/>
                    </a:lnTo>
                    <a:lnTo>
                      <a:pt x="133" y="319"/>
                    </a:lnTo>
                    <a:lnTo>
                      <a:pt x="153" y="288"/>
                    </a:lnTo>
                    <a:lnTo>
                      <a:pt x="176" y="254"/>
                    </a:lnTo>
                    <a:lnTo>
                      <a:pt x="204" y="220"/>
                    </a:lnTo>
                    <a:lnTo>
                      <a:pt x="238" y="182"/>
                    </a:lnTo>
                    <a:lnTo>
                      <a:pt x="278" y="147"/>
                    </a:lnTo>
                    <a:lnTo>
                      <a:pt x="323" y="112"/>
                    </a:lnTo>
                    <a:lnTo>
                      <a:pt x="373" y="80"/>
                    </a:lnTo>
                    <a:lnTo>
                      <a:pt x="430" y="51"/>
                    </a:lnTo>
                    <a:lnTo>
                      <a:pt x="493" y="28"/>
                    </a:lnTo>
                    <a:lnTo>
                      <a:pt x="562" y="10"/>
                    </a:lnTo>
                    <a:lnTo>
                      <a:pt x="639" y="2"/>
                    </a:lnTo>
                    <a:lnTo>
                      <a:pt x="722" y="0"/>
                    </a:lnTo>
                    <a:lnTo>
                      <a:pt x="726" y="0"/>
                    </a:lnTo>
                    <a:lnTo>
                      <a:pt x="737" y="2"/>
                    </a:lnTo>
                    <a:lnTo>
                      <a:pt x="755" y="3"/>
                    </a:lnTo>
                    <a:lnTo>
                      <a:pt x="779" y="7"/>
                    </a:lnTo>
                    <a:lnTo>
                      <a:pt x="808" y="12"/>
                    </a:lnTo>
                    <a:lnTo>
                      <a:pt x="841" y="20"/>
                    </a:lnTo>
                    <a:lnTo>
                      <a:pt x="876" y="30"/>
                    </a:lnTo>
                    <a:lnTo>
                      <a:pt x="915" y="44"/>
                    </a:lnTo>
                    <a:lnTo>
                      <a:pt x="956" y="61"/>
                    </a:lnTo>
                    <a:lnTo>
                      <a:pt x="998" y="83"/>
                    </a:lnTo>
                    <a:lnTo>
                      <a:pt x="1041" y="108"/>
                    </a:lnTo>
                    <a:lnTo>
                      <a:pt x="1082" y="139"/>
                    </a:lnTo>
                    <a:lnTo>
                      <a:pt x="1123" y="175"/>
                    </a:lnTo>
                    <a:lnTo>
                      <a:pt x="1160" y="217"/>
                    </a:lnTo>
                    <a:lnTo>
                      <a:pt x="1196" y="265"/>
                    </a:lnTo>
                    <a:lnTo>
                      <a:pt x="1228" y="320"/>
                    </a:lnTo>
                    <a:lnTo>
                      <a:pt x="1230" y="324"/>
                    </a:lnTo>
                    <a:lnTo>
                      <a:pt x="1237" y="334"/>
                    </a:lnTo>
                    <a:lnTo>
                      <a:pt x="1247" y="351"/>
                    </a:lnTo>
                    <a:lnTo>
                      <a:pt x="1260" y="376"/>
                    </a:lnTo>
                    <a:lnTo>
                      <a:pt x="1276" y="408"/>
                    </a:lnTo>
                    <a:lnTo>
                      <a:pt x="1293" y="448"/>
                    </a:lnTo>
                    <a:lnTo>
                      <a:pt x="1312" y="493"/>
                    </a:lnTo>
                    <a:lnTo>
                      <a:pt x="1332" y="548"/>
                    </a:lnTo>
                    <a:lnTo>
                      <a:pt x="1350" y="610"/>
                    </a:lnTo>
                    <a:lnTo>
                      <a:pt x="1369" y="678"/>
                    </a:lnTo>
                    <a:lnTo>
                      <a:pt x="1386" y="755"/>
                    </a:lnTo>
                    <a:lnTo>
                      <a:pt x="1402" y="840"/>
                    </a:lnTo>
                    <a:lnTo>
                      <a:pt x="1415" y="932"/>
                    </a:lnTo>
                    <a:lnTo>
                      <a:pt x="1425" y="1032"/>
                    </a:lnTo>
                    <a:lnTo>
                      <a:pt x="1432" y="1141"/>
                    </a:lnTo>
                    <a:lnTo>
                      <a:pt x="1434" y="1258"/>
                    </a:lnTo>
                    <a:lnTo>
                      <a:pt x="1432" y="1259"/>
                    </a:lnTo>
                    <a:lnTo>
                      <a:pt x="1425" y="1263"/>
                    </a:lnTo>
                    <a:lnTo>
                      <a:pt x="1414" y="1267"/>
                    </a:lnTo>
                    <a:lnTo>
                      <a:pt x="1399" y="1275"/>
                    </a:lnTo>
                    <a:lnTo>
                      <a:pt x="1382" y="1284"/>
                    </a:lnTo>
                    <a:lnTo>
                      <a:pt x="1361" y="1292"/>
                    </a:lnTo>
                    <a:lnTo>
                      <a:pt x="1338" y="1303"/>
                    </a:lnTo>
                    <a:lnTo>
                      <a:pt x="1313" y="1315"/>
                    </a:lnTo>
                    <a:lnTo>
                      <a:pt x="1287" y="1326"/>
                    </a:lnTo>
                    <a:lnTo>
                      <a:pt x="1260" y="1337"/>
                    </a:lnTo>
                    <a:lnTo>
                      <a:pt x="1232" y="1348"/>
                    </a:lnTo>
                    <a:lnTo>
                      <a:pt x="1205" y="1358"/>
                    </a:lnTo>
                    <a:lnTo>
                      <a:pt x="1178" y="1368"/>
                    </a:lnTo>
                    <a:lnTo>
                      <a:pt x="1150" y="1376"/>
                    </a:lnTo>
                    <a:lnTo>
                      <a:pt x="1125" y="1384"/>
                    </a:lnTo>
                    <a:lnTo>
                      <a:pt x="1101" y="1390"/>
                    </a:lnTo>
                    <a:lnTo>
                      <a:pt x="1104" y="1362"/>
                    </a:lnTo>
                    <a:lnTo>
                      <a:pt x="1112" y="1292"/>
                    </a:lnTo>
                    <a:lnTo>
                      <a:pt x="1117" y="1212"/>
                    </a:lnTo>
                    <a:lnTo>
                      <a:pt x="1116" y="1146"/>
                    </a:lnTo>
                    <a:lnTo>
                      <a:pt x="1115" y="1154"/>
                    </a:lnTo>
                    <a:lnTo>
                      <a:pt x="1110" y="1176"/>
                    </a:lnTo>
                    <a:lnTo>
                      <a:pt x="1103" y="1208"/>
                    </a:lnTo>
                    <a:lnTo>
                      <a:pt x="1094" y="1246"/>
                    </a:lnTo>
                    <a:lnTo>
                      <a:pt x="1084" y="1289"/>
                    </a:lnTo>
                    <a:lnTo>
                      <a:pt x="1073" y="1331"/>
                    </a:lnTo>
                    <a:lnTo>
                      <a:pt x="1059" y="1369"/>
                    </a:lnTo>
                    <a:lnTo>
                      <a:pt x="1045" y="1400"/>
                    </a:lnTo>
                    <a:lnTo>
                      <a:pt x="807" y="1446"/>
                    </a:lnTo>
                    <a:lnTo>
                      <a:pt x="812" y="1426"/>
                    </a:lnTo>
                    <a:lnTo>
                      <a:pt x="825" y="1368"/>
                    </a:lnTo>
                    <a:lnTo>
                      <a:pt x="841" y="1279"/>
                    </a:lnTo>
                    <a:lnTo>
                      <a:pt x="857" y="1162"/>
                    </a:lnTo>
                    <a:lnTo>
                      <a:pt x="867" y="1025"/>
                    </a:lnTo>
                    <a:lnTo>
                      <a:pt x="868" y="871"/>
                    </a:lnTo>
                    <a:lnTo>
                      <a:pt x="856" y="708"/>
                    </a:lnTo>
                    <a:lnTo>
                      <a:pt x="825" y="539"/>
                    </a:lnTo>
                    <a:lnTo>
                      <a:pt x="551" y="497"/>
                    </a:lnTo>
                    <a:lnTo>
                      <a:pt x="550" y="466"/>
                    </a:lnTo>
                    <a:lnTo>
                      <a:pt x="546" y="397"/>
                    </a:lnTo>
                    <a:lnTo>
                      <a:pt x="542" y="322"/>
                    </a:lnTo>
                    <a:lnTo>
                      <a:pt x="541" y="274"/>
                    </a:lnTo>
                    <a:close/>
                  </a:path>
                </a:pathLst>
              </a:custGeom>
              <a:solidFill>
                <a:srgbClr val="e5a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38600">
                <a:off x="7608960" y="4523400"/>
                <a:ext cx="1663920" cy="777240"/>
              </a:xfrm>
              <a:custGeom>
                <a:avLst/>
                <a:gdLst/>
                <a:ahLst/>
                <a:rect l="l" t="t" r="r" b="b"/>
                <a:pathLst>
                  <a:path w="1329" h="741">
                    <a:moveTo>
                      <a:pt x="518" y="11"/>
                    </a:moveTo>
                    <a:lnTo>
                      <a:pt x="519" y="15"/>
                    </a:lnTo>
                    <a:lnTo>
                      <a:pt x="524" y="25"/>
                    </a:lnTo>
                    <a:lnTo>
                      <a:pt x="530" y="40"/>
                    </a:lnTo>
                    <a:lnTo>
                      <a:pt x="539" y="58"/>
                    </a:lnTo>
                    <a:lnTo>
                      <a:pt x="549" y="79"/>
                    </a:lnTo>
                    <a:lnTo>
                      <a:pt x="560" y="103"/>
                    </a:lnTo>
                    <a:lnTo>
                      <a:pt x="574" y="126"/>
                    </a:lnTo>
                    <a:lnTo>
                      <a:pt x="588" y="150"/>
                    </a:lnTo>
                    <a:lnTo>
                      <a:pt x="603" y="172"/>
                    </a:lnTo>
                    <a:lnTo>
                      <a:pt x="618" y="191"/>
                    </a:lnTo>
                    <a:lnTo>
                      <a:pt x="634" y="207"/>
                    </a:lnTo>
                    <a:lnTo>
                      <a:pt x="648" y="217"/>
                    </a:lnTo>
                    <a:lnTo>
                      <a:pt x="663" y="222"/>
                    </a:lnTo>
                    <a:lnTo>
                      <a:pt x="677" y="218"/>
                    </a:lnTo>
                    <a:lnTo>
                      <a:pt x="691" y="208"/>
                    </a:lnTo>
                    <a:lnTo>
                      <a:pt x="702" y="187"/>
                    </a:lnTo>
                    <a:lnTo>
                      <a:pt x="721" y="142"/>
                    </a:lnTo>
                    <a:lnTo>
                      <a:pt x="735" y="113"/>
                    </a:lnTo>
                    <a:lnTo>
                      <a:pt x="747" y="94"/>
                    </a:lnTo>
                    <a:lnTo>
                      <a:pt x="756" y="87"/>
                    </a:lnTo>
                    <a:lnTo>
                      <a:pt x="765" y="90"/>
                    </a:lnTo>
                    <a:lnTo>
                      <a:pt x="775" y="104"/>
                    </a:lnTo>
                    <a:lnTo>
                      <a:pt x="788" y="125"/>
                    </a:lnTo>
                    <a:lnTo>
                      <a:pt x="805" y="155"/>
                    </a:lnTo>
                    <a:lnTo>
                      <a:pt x="815" y="172"/>
                    </a:lnTo>
                    <a:lnTo>
                      <a:pt x="828" y="191"/>
                    </a:lnTo>
                    <a:lnTo>
                      <a:pt x="840" y="210"/>
                    </a:lnTo>
                    <a:lnTo>
                      <a:pt x="854" y="230"/>
                    </a:lnTo>
                    <a:lnTo>
                      <a:pt x="869" y="250"/>
                    </a:lnTo>
                    <a:lnTo>
                      <a:pt x="883" y="270"/>
                    </a:lnTo>
                    <a:lnTo>
                      <a:pt x="898" y="287"/>
                    </a:lnTo>
                    <a:lnTo>
                      <a:pt x="913" y="303"/>
                    </a:lnTo>
                    <a:lnTo>
                      <a:pt x="928" y="318"/>
                    </a:lnTo>
                    <a:lnTo>
                      <a:pt x="941" y="329"/>
                    </a:lnTo>
                    <a:lnTo>
                      <a:pt x="953" y="338"/>
                    </a:lnTo>
                    <a:lnTo>
                      <a:pt x="964" y="343"/>
                    </a:lnTo>
                    <a:lnTo>
                      <a:pt x="974" y="343"/>
                    </a:lnTo>
                    <a:lnTo>
                      <a:pt x="980" y="339"/>
                    </a:lnTo>
                    <a:lnTo>
                      <a:pt x="986" y="329"/>
                    </a:lnTo>
                    <a:lnTo>
                      <a:pt x="988" y="314"/>
                    </a:lnTo>
                    <a:lnTo>
                      <a:pt x="992" y="280"/>
                    </a:lnTo>
                    <a:lnTo>
                      <a:pt x="995" y="250"/>
                    </a:lnTo>
                    <a:lnTo>
                      <a:pt x="999" y="225"/>
                    </a:lnTo>
                    <a:lnTo>
                      <a:pt x="1003" y="205"/>
                    </a:lnTo>
                    <a:lnTo>
                      <a:pt x="1010" y="193"/>
                    </a:lnTo>
                    <a:lnTo>
                      <a:pt x="1018" y="189"/>
                    </a:lnTo>
                    <a:lnTo>
                      <a:pt x="1028" y="196"/>
                    </a:lnTo>
                    <a:lnTo>
                      <a:pt x="1041" y="210"/>
                    </a:lnTo>
                    <a:lnTo>
                      <a:pt x="1056" y="229"/>
                    </a:lnTo>
                    <a:lnTo>
                      <a:pt x="1071" y="244"/>
                    </a:lnTo>
                    <a:lnTo>
                      <a:pt x="1085" y="255"/>
                    </a:lnTo>
                    <a:lnTo>
                      <a:pt x="1099" y="261"/>
                    </a:lnTo>
                    <a:lnTo>
                      <a:pt x="1113" y="262"/>
                    </a:lnTo>
                    <a:lnTo>
                      <a:pt x="1123" y="259"/>
                    </a:lnTo>
                    <a:lnTo>
                      <a:pt x="1132" y="250"/>
                    </a:lnTo>
                    <a:lnTo>
                      <a:pt x="1137" y="235"/>
                    </a:lnTo>
                    <a:lnTo>
                      <a:pt x="1141" y="225"/>
                    </a:lnTo>
                    <a:lnTo>
                      <a:pt x="1149" y="228"/>
                    </a:lnTo>
                    <a:lnTo>
                      <a:pt x="1158" y="238"/>
                    </a:lnTo>
                    <a:lnTo>
                      <a:pt x="1170" y="250"/>
                    </a:lnTo>
                    <a:lnTo>
                      <a:pt x="1182" y="259"/>
                    </a:lnTo>
                    <a:lnTo>
                      <a:pt x="1193" y="259"/>
                    </a:lnTo>
                    <a:lnTo>
                      <a:pt x="1203" y="244"/>
                    </a:lnTo>
                    <a:lnTo>
                      <a:pt x="1210" y="210"/>
                    </a:lnTo>
                    <a:lnTo>
                      <a:pt x="1213" y="215"/>
                    </a:lnTo>
                    <a:lnTo>
                      <a:pt x="1224" y="230"/>
                    </a:lnTo>
                    <a:lnTo>
                      <a:pt x="1237" y="255"/>
                    </a:lnTo>
                    <a:lnTo>
                      <a:pt x="1255" y="291"/>
                    </a:lnTo>
                    <a:lnTo>
                      <a:pt x="1275" y="337"/>
                    </a:lnTo>
                    <a:lnTo>
                      <a:pt x="1294" y="393"/>
                    </a:lnTo>
                    <a:lnTo>
                      <a:pt x="1313" y="461"/>
                    </a:lnTo>
                    <a:lnTo>
                      <a:pt x="1329" y="539"/>
                    </a:lnTo>
                    <a:lnTo>
                      <a:pt x="1326" y="539"/>
                    </a:lnTo>
                    <a:lnTo>
                      <a:pt x="1322" y="539"/>
                    </a:lnTo>
                    <a:lnTo>
                      <a:pt x="1313" y="537"/>
                    </a:lnTo>
                    <a:lnTo>
                      <a:pt x="1302" y="535"/>
                    </a:lnTo>
                    <a:lnTo>
                      <a:pt x="1291" y="531"/>
                    </a:lnTo>
                    <a:lnTo>
                      <a:pt x="1278" y="525"/>
                    </a:lnTo>
                    <a:lnTo>
                      <a:pt x="1266" y="518"/>
                    </a:lnTo>
                    <a:lnTo>
                      <a:pt x="1254" y="506"/>
                    </a:lnTo>
                    <a:lnTo>
                      <a:pt x="1244" y="499"/>
                    </a:lnTo>
                    <a:lnTo>
                      <a:pt x="1236" y="499"/>
                    </a:lnTo>
                    <a:lnTo>
                      <a:pt x="1229" y="506"/>
                    </a:lnTo>
                    <a:lnTo>
                      <a:pt x="1224" y="520"/>
                    </a:lnTo>
                    <a:lnTo>
                      <a:pt x="1220" y="540"/>
                    </a:lnTo>
                    <a:lnTo>
                      <a:pt x="1216" y="563"/>
                    </a:lnTo>
                    <a:lnTo>
                      <a:pt x="1213" y="589"/>
                    </a:lnTo>
                    <a:lnTo>
                      <a:pt x="1210" y="619"/>
                    </a:lnTo>
                    <a:lnTo>
                      <a:pt x="1204" y="650"/>
                    </a:lnTo>
                    <a:lnTo>
                      <a:pt x="1195" y="680"/>
                    </a:lnTo>
                    <a:lnTo>
                      <a:pt x="1182" y="707"/>
                    </a:lnTo>
                    <a:lnTo>
                      <a:pt x="1168" y="727"/>
                    </a:lnTo>
                    <a:lnTo>
                      <a:pt x="1153" y="741"/>
                    </a:lnTo>
                    <a:lnTo>
                      <a:pt x="1138" y="741"/>
                    </a:lnTo>
                    <a:lnTo>
                      <a:pt x="1124" y="728"/>
                    </a:lnTo>
                    <a:lnTo>
                      <a:pt x="1114" y="698"/>
                    </a:lnTo>
                    <a:lnTo>
                      <a:pt x="1104" y="663"/>
                    </a:lnTo>
                    <a:lnTo>
                      <a:pt x="1090" y="632"/>
                    </a:lnTo>
                    <a:lnTo>
                      <a:pt x="1075" y="609"/>
                    </a:lnTo>
                    <a:lnTo>
                      <a:pt x="1057" y="593"/>
                    </a:lnTo>
                    <a:lnTo>
                      <a:pt x="1039" y="587"/>
                    </a:lnTo>
                    <a:lnTo>
                      <a:pt x="1020" y="589"/>
                    </a:lnTo>
                    <a:lnTo>
                      <a:pt x="1003" y="603"/>
                    </a:lnTo>
                    <a:lnTo>
                      <a:pt x="988" y="627"/>
                    </a:lnTo>
                    <a:lnTo>
                      <a:pt x="975" y="656"/>
                    </a:lnTo>
                    <a:lnTo>
                      <a:pt x="962" y="682"/>
                    </a:lnTo>
                    <a:lnTo>
                      <a:pt x="950" y="703"/>
                    </a:lnTo>
                    <a:lnTo>
                      <a:pt x="938" y="719"/>
                    </a:lnTo>
                    <a:lnTo>
                      <a:pt x="927" y="728"/>
                    </a:lnTo>
                    <a:lnTo>
                      <a:pt x="915" y="729"/>
                    </a:lnTo>
                    <a:lnTo>
                      <a:pt x="904" y="719"/>
                    </a:lnTo>
                    <a:lnTo>
                      <a:pt x="893" y="698"/>
                    </a:lnTo>
                    <a:lnTo>
                      <a:pt x="881" y="674"/>
                    </a:lnTo>
                    <a:lnTo>
                      <a:pt x="869" y="651"/>
                    </a:lnTo>
                    <a:lnTo>
                      <a:pt x="856" y="634"/>
                    </a:lnTo>
                    <a:lnTo>
                      <a:pt x="845" y="619"/>
                    </a:lnTo>
                    <a:lnTo>
                      <a:pt x="834" y="608"/>
                    </a:lnTo>
                    <a:lnTo>
                      <a:pt x="826" y="601"/>
                    </a:lnTo>
                    <a:lnTo>
                      <a:pt x="821" y="596"/>
                    </a:lnTo>
                    <a:lnTo>
                      <a:pt x="818" y="594"/>
                    </a:lnTo>
                    <a:lnTo>
                      <a:pt x="782" y="375"/>
                    </a:lnTo>
                    <a:lnTo>
                      <a:pt x="511" y="348"/>
                    </a:lnTo>
                    <a:lnTo>
                      <a:pt x="498" y="110"/>
                    </a:lnTo>
                    <a:lnTo>
                      <a:pt x="493" y="115"/>
                    </a:lnTo>
                    <a:lnTo>
                      <a:pt x="482" y="129"/>
                    </a:lnTo>
                    <a:lnTo>
                      <a:pt x="466" y="151"/>
                    </a:lnTo>
                    <a:lnTo>
                      <a:pt x="445" y="179"/>
                    </a:lnTo>
                    <a:lnTo>
                      <a:pt x="424" y="213"/>
                    </a:lnTo>
                    <a:lnTo>
                      <a:pt x="402" y="251"/>
                    </a:lnTo>
                    <a:lnTo>
                      <a:pt x="382" y="293"/>
                    </a:lnTo>
                    <a:lnTo>
                      <a:pt x="368" y="338"/>
                    </a:lnTo>
                    <a:lnTo>
                      <a:pt x="365" y="338"/>
                    </a:lnTo>
                    <a:lnTo>
                      <a:pt x="356" y="337"/>
                    </a:lnTo>
                    <a:lnTo>
                      <a:pt x="344" y="336"/>
                    </a:lnTo>
                    <a:lnTo>
                      <a:pt x="328" y="334"/>
                    </a:lnTo>
                    <a:lnTo>
                      <a:pt x="308" y="333"/>
                    </a:lnTo>
                    <a:lnTo>
                      <a:pt x="287" y="332"/>
                    </a:lnTo>
                    <a:lnTo>
                      <a:pt x="263" y="329"/>
                    </a:lnTo>
                    <a:lnTo>
                      <a:pt x="239" y="328"/>
                    </a:lnTo>
                    <a:lnTo>
                      <a:pt x="214" y="326"/>
                    </a:lnTo>
                    <a:lnTo>
                      <a:pt x="188" y="324"/>
                    </a:lnTo>
                    <a:lnTo>
                      <a:pt x="166" y="323"/>
                    </a:lnTo>
                    <a:lnTo>
                      <a:pt x="144" y="322"/>
                    </a:lnTo>
                    <a:lnTo>
                      <a:pt x="126" y="322"/>
                    </a:lnTo>
                    <a:lnTo>
                      <a:pt x="110" y="322"/>
                    </a:lnTo>
                    <a:lnTo>
                      <a:pt x="98" y="322"/>
                    </a:lnTo>
                    <a:lnTo>
                      <a:pt x="91" y="323"/>
                    </a:lnTo>
                    <a:lnTo>
                      <a:pt x="85" y="329"/>
                    </a:lnTo>
                    <a:lnTo>
                      <a:pt x="77" y="340"/>
                    </a:lnTo>
                    <a:lnTo>
                      <a:pt x="70" y="357"/>
                    </a:lnTo>
                    <a:lnTo>
                      <a:pt x="64" y="374"/>
                    </a:lnTo>
                    <a:lnTo>
                      <a:pt x="58" y="391"/>
                    </a:lnTo>
                    <a:lnTo>
                      <a:pt x="54" y="406"/>
                    </a:lnTo>
                    <a:lnTo>
                      <a:pt x="52" y="417"/>
                    </a:lnTo>
                    <a:lnTo>
                      <a:pt x="50" y="421"/>
                    </a:lnTo>
                    <a:lnTo>
                      <a:pt x="47" y="425"/>
                    </a:lnTo>
                    <a:lnTo>
                      <a:pt x="40" y="436"/>
                    </a:lnTo>
                    <a:lnTo>
                      <a:pt x="30" y="447"/>
                    </a:lnTo>
                    <a:lnTo>
                      <a:pt x="18" y="457"/>
                    </a:lnTo>
                    <a:lnTo>
                      <a:pt x="8" y="459"/>
                    </a:lnTo>
                    <a:lnTo>
                      <a:pt x="1" y="452"/>
                    </a:lnTo>
                    <a:lnTo>
                      <a:pt x="0" y="430"/>
                    </a:lnTo>
                    <a:lnTo>
                      <a:pt x="5" y="389"/>
                    </a:lnTo>
                    <a:lnTo>
                      <a:pt x="10" y="360"/>
                    </a:lnTo>
                    <a:lnTo>
                      <a:pt x="18" y="331"/>
                    </a:lnTo>
                    <a:lnTo>
                      <a:pt x="26" y="302"/>
                    </a:lnTo>
                    <a:lnTo>
                      <a:pt x="36" y="274"/>
                    </a:lnTo>
                    <a:lnTo>
                      <a:pt x="47" y="245"/>
                    </a:lnTo>
                    <a:lnTo>
                      <a:pt x="58" y="218"/>
                    </a:lnTo>
                    <a:lnTo>
                      <a:pt x="70" y="192"/>
                    </a:lnTo>
                    <a:lnTo>
                      <a:pt x="83" y="166"/>
                    </a:lnTo>
                    <a:lnTo>
                      <a:pt x="97" y="141"/>
                    </a:lnTo>
                    <a:lnTo>
                      <a:pt x="111" y="118"/>
                    </a:lnTo>
                    <a:lnTo>
                      <a:pt x="126" y="95"/>
                    </a:lnTo>
                    <a:lnTo>
                      <a:pt x="141" y="75"/>
                    </a:lnTo>
                    <a:lnTo>
                      <a:pt x="155" y="56"/>
                    </a:lnTo>
                    <a:lnTo>
                      <a:pt x="170" y="40"/>
                    </a:lnTo>
                    <a:lnTo>
                      <a:pt x="186" y="23"/>
                    </a:lnTo>
                    <a:lnTo>
                      <a:pt x="201" y="11"/>
                    </a:lnTo>
                    <a:lnTo>
                      <a:pt x="223" y="0"/>
                    </a:lnTo>
                    <a:lnTo>
                      <a:pt x="228" y="12"/>
                    </a:lnTo>
                    <a:lnTo>
                      <a:pt x="224" y="40"/>
                    </a:lnTo>
                    <a:lnTo>
                      <a:pt x="211" y="77"/>
                    </a:lnTo>
                    <a:lnTo>
                      <a:pt x="195" y="118"/>
                    </a:lnTo>
                    <a:lnTo>
                      <a:pt x="178" y="155"/>
                    </a:lnTo>
                    <a:lnTo>
                      <a:pt x="166" y="182"/>
                    </a:lnTo>
                    <a:lnTo>
                      <a:pt x="161" y="192"/>
                    </a:lnTo>
                    <a:lnTo>
                      <a:pt x="163" y="189"/>
                    </a:lnTo>
                    <a:lnTo>
                      <a:pt x="169" y="181"/>
                    </a:lnTo>
                    <a:lnTo>
                      <a:pt x="178" y="170"/>
                    </a:lnTo>
                    <a:lnTo>
                      <a:pt x="191" y="155"/>
                    </a:lnTo>
                    <a:lnTo>
                      <a:pt x="204" y="139"/>
                    </a:lnTo>
                    <a:lnTo>
                      <a:pt x="219" y="123"/>
                    </a:lnTo>
                    <a:lnTo>
                      <a:pt x="235" y="108"/>
                    </a:lnTo>
                    <a:lnTo>
                      <a:pt x="251" y="93"/>
                    </a:lnTo>
                    <a:lnTo>
                      <a:pt x="266" y="82"/>
                    </a:lnTo>
                    <a:lnTo>
                      <a:pt x="280" y="75"/>
                    </a:lnTo>
                    <a:lnTo>
                      <a:pt x="292" y="73"/>
                    </a:lnTo>
                    <a:lnTo>
                      <a:pt x="301" y="78"/>
                    </a:lnTo>
                    <a:lnTo>
                      <a:pt x="308" y="90"/>
                    </a:lnTo>
                    <a:lnTo>
                      <a:pt x="311" y="110"/>
                    </a:lnTo>
                    <a:lnTo>
                      <a:pt x="308" y="141"/>
                    </a:lnTo>
                    <a:lnTo>
                      <a:pt x="300" y="182"/>
                    </a:lnTo>
                    <a:lnTo>
                      <a:pt x="299" y="194"/>
                    </a:lnTo>
                    <a:lnTo>
                      <a:pt x="303" y="198"/>
                    </a:lnTo>
                    <a:lnTo>
                      <a:pt x="311" y="194"/>
                    </a:lnTo>
                    <a:lnTo>
                      <a:pt x="321" y="184"/>
                    </a:lnTo>
                    <a:lnTo>
                      <a:pt x="335" y="170"/>
                    </a:lnTo>
                    <a:lnTo>
                      <a:pt x="352" y="152"/>
                    </a:lnTo>
                    <a:lnTo>
                      <a:pt x="369" y="131"/>
                    </a:lnTo>
                    <a:lnTo>
                      <a:pt x="388" y="109"/>
                    </a:lnTo>
                    <a:lnTo>
                      <a:pt x="409" y="85"/>
                    </a:lnTo>
                    <a:lnTo>
                      <a:pt x="428" y="64"/>
                    </a:lnTo>
                    <a:lnTo>
                      <a:pt x="448" y="43"/>
                    </a:lnTo>
                    <a:lnTo>
                      <a:pt x="466" y="27"/>
                    </a:lnTo>
                    <a:lnTo>
                      <a:pt x="483" y="14"/>
                    </a:lnTo>
                    <a:lnTo>
                      <a:pt x="498" y="6"/>
                    </a:lnTo>
                    <a:lnTo>
                      <a:pt x="509" y="5"/>
                    </a:lnTo>
                    <a:lnTo>
                      <a:pt x="518" y="11"/>
                    </a:lnTo>
                    <a:close/>
                  </a:path>
                </a:pathLst>
              </a:custGeom>
              <a:solidFill>
                <a:srgbClr val="fffc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38600">
                <a:off x="7153560" y="5075280"/>
                <a:ext cx="250560" cy="218520"/>
              </a:xfrm>
              <a:custGeom>
                <a:avLst/>
                <a:gdLst/>
                <a:ahLst/>
                <a:rect l="l" t="t" r="r" b="b"/>
                <a:pathLst>
                  <a:path w="201" h="208">
                    <a:moveTo>
                      <a:pt x="0" y="99"/>
                    </a:moveTo>
                    <a:lnTo>
                      <a:pt x="0" y="103"/>
                    </a:lnTo>
                    <a:lnTo>
                      <a:pt x="0" y="114"/>
                    </a:lnTo>
                    <a:lnTo>
                      <a:pt x="1" y="129"/>
                    </a:lnTo>
                    <a:lnTo>
                      <a:pt x="6" y="147"/>
                    </a:lnTo>
                    <a:lnTo>
                      <a:pt x="14" y="166"/>
                    </a:lnTo>
                    <a:lnTo>
                      <a:pt x="28" y="184"/>
                    </a:lnTo>
                    <a:lnTo>
                      <a:pt x="47" y="199"/>
                    </a:lnTo>
                    <a:lnTo>
                      <a:pt x="76" y="208"/>
                    </a:lnTo>
                    <a:lnTo>
                      <a:pt x="78" y="208"/>
                    </a:lnTo>
                    <a:lnTo>
                      <a:pt x="82" y="208"/>
                    </a:lnTo>
                    <a:lnTo>
                      <a:pt x="89" y="208"/>
                    </a:lnTo>
                    <a:lnTo>
                      <a:pt x="98" y="207"/>
                    </a:lnTo>
                    <a:lnTo>
                      <a:pt x="106" y="206"/>
                    </a:lnTo>
                    <a:lnTo>
                      <a:pt x="116" y="202"/>
                    </a:lnTo>
                    <a:lnTo>
                      <a:pt x="122" y="196"/>
                    </a:lnTo>
                    <a:lnTo>
                      <a:pt x="127" y="187"/>
                    </a:lnTo>
                    <a:lnTo>
                      <a:pt x="129" y="189"/>
                    </a:lnTo>
                    <a:lnTo>
                      <a:pt x="136" y="191"/>
                    </a:lnTo>
                    <a:lnTo>
                      <a:pt x="146" y="194"/>
                    </a:lnTo>
                    <a:lnTo>
                      <a:pt x="159" y="194"/>
                    </a:lnTo>
                    <a:lnTo>
                      <a:pt x="171" y="191"/>
                    </a:lnTo>
                    <a:lnTo>
                      <a:pt x="183" y="184"/>
                    </a:lnTo>
                    <a:lnTo>
                      <a:pt x="192" y="170"/>
                    </a:lnTo>
                    <a:lnTo>
                      <a:pt x="199" y="149"/>
                    </a:lnTo>
                    <a:lnTo>
                      <a:pt x="201" y="123"/>
                    </a:lnTo>
                    <a:lnTo>
                      <a:pt x="198" y="95"/>
                    </a:lnTo>
                    <a:lnTo>
                      <a:pt x="191" y="68"/>
                    </a:lnTo>
                    <a:lnTo>
                      <a:pt x="178" y="44"/>
                    </a:lnTo>
                    <a:lnTo>
                      <a:pt x="160" y="24"/>
                    </a:lnTo>
                    <a:lnTo>
                      <a:pt x="138" y="8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49" y="9"/>
                    </a:lnTo>
                    <a:lnTo>
                      <a:pt x="28" y="21"/>
                    </a:lnTo>
                    <a:lnTo>
                      <a:pt x="14" y="38"/>
                    </a:lnTo>
                    <a:lnTo>
                      <a:pt x="6" y="55"/>
                    </a:lnTo>
                    <a:lnTo>
                      <a:pt x="1" y="72"/>
                    </a:lnTo>
                    <a:lnTo>
                      <a:pt x="0" y="86"/>
                    </a:lnTo>
                    <a:lnTo>
                      <a:pt x="0" y="96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638600">
                <a:off x="7201440" y="5098680"/>
                <a:ext cx="90360" cy="134280"/>
              </a:xfrm>
              <a:custGeom>
                <a:avLst/>
                <a:gdLst/>
                <a:ahLst/>
                <a:rect l="l" t="t" r="r" b="b"/>
                <a:pathLst>
                  <a:path w="72" h="127">
                    <a:moveTo>
                      <a:pt x="6" y="31"/>
                    </a:moveTo>
                    <a:lnTo>
                      <a:pt x="5" y="34"/>
                    </a:lnTo>
                    <a:lnTo>
                      <a:pt x="3" y="43"/>
                    </a:lnTo>
                    <a:lnTo>
                      <a:pt x="1" y="57"/>
                    </a:lnTo>
                    <a:lnTo>
                      <a:pt x="0" y="73"/>
                    </a:lnTo>
                    <a:lnTo>
                      <a:pt x="1" y="89"/>
                    </a:lnTo>
                    <a:lnTo>
                      <a:pt x="5" y="105"/>
                    </a:lnTo>
                    <a:lnTo>
                      <a:pt x="13" y="117"/>
                    </a:lnTo>
                    <a:lnTo>
                      <a:pt x="28" y="126"/>
                    </a:lnTo>
                    <a:lnTo>
                      <a:pt x="30" y="126"/>
                    </a:lnTo>
                    <a:lnTo>
                      <a:pt x="35" y="127"/>
                    </a:lnTo>
                    <a:lnTo>
                      <a:pt x="42" y="127"/>
                    </a:lnTo>
                    <a:lnTo>
                      <a:pt x="50" y="126"/>
                    </a:lnTo>
                    <a:lnTo>
                      <a:pt x="57" y="124"/>
                    </a:lnTo>
                    <a:lnTo>
                      <a:pt x="62" y="119"/>
                    </a:lnTo>
                    <a:lnTo>
                      <a:pt x="66" y="111"/>
                    </a:lnTo>
                    <a:lnTo>
                      <a:pt x="66" y="99"/>
                    </a:lnTo>
                    <a:lnTo>
                      <a:pt x="66" y="93"/>
                    </a:lnTo>
                    <a:lnTo>
                      <a:pt x="64" y="78"/>
                    </a:lnTo>
                    <a:lnTo>
                      <a:pt x="57" y="65"/>
                    </a:lnTo>
                    <a:lnTo>
                      <a:pt x="42" y="64"/>
                    </a:lnTo>
                    <a:lnTo>
                      <a:pt x="42" y="58"/>
                    </a:lnTo>
                    <a:lnTo>
                      <a:pt x="45" y="44"/>
                    </a:lnTo>
                    <a:lnTo>
                      <a:pt x="53" y="27"/>
                    </a:lnTo>
                    <a:lnTo>
                      <a:pt x="67" y="13"/>
                    </a:lnTo>
                    <a:lnTo>
                      <a:pt x="72" y="8"/>
                    </a:lnTo>
                    <a:lnTo>
                      <a:pt x="70" y="5"/>
                    </a:lnTo>
                    <a:lnTo>
                      <a:pt x="64" y="1"/>
                    </a:lnTo>
                    <a:lnTo>
                      <a:pt x="53" y="0"/>
                    </a:lnTo>
                    <a:lnTo>
                      <a:pt x="41" y="2"/>
                    </a:lnTo>
                    <a:lnTo>
                      <a:pt x="28" y="7"/>
                    </a:lnTo>
                    <a:lnTo>
                      <a:pt x="17" y="16"/>
                    </a:lnTo>
                    <a:lnTo>
                      <a:pt x="6" y="31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638600">
                <a:off x="7283160" y="5153400"/>
                <a:ext cx="64440" cy="109440"/>
              </a:xfrm>
              <a:custGeom>
                <a:avLst/>
                <a:gdLst/>
                <a:ahLst/>
                <a:rect l="l" t="t" r="r" b="b"/>
                <a:pathLst>
                  <a:path w="52" h="104">
                    <a:moveTo>
                      <a:pt x="19" y="99"/>
                    </a:moveTo>
                    <a:lnTo>
                      <a:pt x="20" y="92"/>
                    </a:lnTo>
                    <a:lnTo>
                      <a:pt x="20" y="74"/>
                    </a:lnTo>
                    <a:lnTo>
                      <a:pt x="17" y="56"/>
                    </a:lnTo>
                    <a:lnTo>
                      <a:pt x="8" y="41"/>
                    </a:lnTo>
                    <a:lnTo>
                      <a:pt x="3" y="36"/>
                    </a:lnTo>
                    <a:lnTo>
                      <a:pt x="0" y="30"/>
                    </a:lnTo>
                    <a:lnTo>
                      <a:pt x="0" y="24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11" y="6"/>
                    </a:lnTo>
                    <a:lnTo>
                      <a:pt x="18" y="3"/>
                    </a:lnTo>
                    <a:lnTo>
                      <a:pt x="26" y="0"/>
                    </a:lnTo>
                    <a:lnTo>
                      <a:pt x="40" y="6"/>
                    </a:lnTo>
                    <a:lnTo>
                      <a:pt x="49" y="26"/>
                    </a:lnTo>
                    <a:lnTo>
                      <a:pt x="52" y="53"/>
                    </a:lnTo>
                    <a:lnTo>
                      <a:pt x="52" y="79"/>
                    </a:lnTo>
                    <a:lnTo>
                      <a:pt x="48" y="97"/>
                    </a:lnTo>
                    <a:lnTo>
                      <a:pt x="41" y="104"/>
                    </a:lnTo>
                    <a:lnTo>
                      <a:pt x="30" y="104"/>
                    </a:lnTo>
                    <a:lnTo>
                      <a:pt x="19" y="99"/>
                    </a:lnTo>
                    <a:close/>
                  </a:path>
                </a:pathLst>
              </a:custGeom>
              <a:solidFill>
                <a:srgbClr val="ff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638600">
                <a:off x="7318080" y="5452200"/>
                <a:ext cx="1258200" cy="1018080"/>
              </a:xfrm>
              <a:custGeom>
                <a:avLst/>
                <a:gdLst/>
                <a:ahLst/>
                <a:rect l="l" t="t" r="r" b="b"/>
                <a:pathLst>
                  <a:path w="1005" h="970">
                    <a:moveTo>
                      <a:pt x="242" y="0"/>
                    </a:moveTo>
                    <a:lnTo>
                      <a:pt x="241" y="4"/>
                    </a:lnTo>
                    <a:lnTo>
                      <a:pt x="237" y="16"/>
                    </a:lnTo>
                    <a:lnTo>
                      <a:pt x="230" y="35"/>
                    </a:lnTo>
                    <a:lnTo>
                      <a:pt x="221" y="62"/>
                    </a:lnTo>
                    <a:lnTo>
                      <a:pt x="209" y="96"/>
                    </a:lnTo>
                    <a:lnTo>
                      <a:pt x="197" y="137"/>
                    </a:lnTo>
                    <a:lnTo>
                      <a:pt x="182" y="185"/>
                    </a:lnTo>
                    <a:lnTo>
                      <a:pt x="165" y="239"/>
                    </a:lnTo>
                    <a:lnTo>
                      <a:pt x="148" y="301"/>
                    </a:lnTo>
                    <a:lnTo>
                      <a:pt x="128" y="369"/>
                    </a:lnTo>
                    <a:lnTo>
                      <a:pt x="108" y="444"/>
                    </a:lnTo>
                    <a:lnTo>
                      <a:pt x="87" y="524"/>
                    </a:lnTo>
                    <a:lnTo>
                      <a:pt x="65" y="611"/>
                    </a:lnTo>
                    <a:lnTo>
                      <a:pt x="44" y="704"/>
                    </a:lnTo>
                    <a:lnTo>
                      <a:pt x="22" y="802"/>
                    </a:lnTo>
                    <a:lnTo>
                      <a:pt x="0" y="906"/>
                    </a:lnTo>
                    <a:lnTo>
                      <a:pt x="2" y="906"/>
                    </a:lnTo>
                    <a:lnTo>
                      <a:pt x="5" y="907"/>
                    </a:lnTo>
                    <a:lnTo>
                      <a:pt x="12" y="909"/>
                    </a:lnTo>
                    <a:lnTo>
                      <a:pt x="21" y="912"/>
                    </a:lnTo>
                    <a:lnTo>
                      <a:pt x="31" y="916"/>
                    </a:lnTo>
                    <a:lnTo>
                      <a:pt x="45" y="919"/>
                    </a:lnTo>
                    <a:lnTo>
                      <a:pt x="61" y="923"/>
                    </a:lnTo>
                    <a:lnTo>
                      <a:pt x="78" y="928"/>
                    </a:lnTo>
                    <a:lnTo>
                      <a:pt x="97" y="932"/>
                    </a:lnTo>
                    <a:lnTo>
                      <a:pt x="120" y="937"/>
                    </a:lnTo>
                    <a:lnTo>
                      <a:pt x="144" y="942"/>
                    </a:lnTo>
                    <a:lnTo>
                      <a:pt x="169" y="947"/>
                    </a:lnTo>
                    <a:lnTo>
                      <a:pt x="197" y="950"/>
                    </a:lnTo>
                    <a:lnTo>
                      <a:pt x="226" y="955"/>
                    </a:lnTo>
                    <a:lnTo>
                      <a:pt x="258" y="959"/>
                    </a:lnTo>
                    <a:lnTo>
                      <a:pt x="291" y="963"/>
                    </a:lnTo>
                    <a:lnTo>
                      <a:pt x="326" y="965"/>
                    </a:lnTo>
                    <a:lnTo>
                      <a:pt x="362" y="968"/>
                    </a:lnTo>
                    <a:lnTo>
                      <a:pt x="400" y="969"/>
                    </a:lnTo>
                    <a:lnTo>
                      <a:pt x="439" y="970"/>
                    </a:lnTo>
                    <a:lnTo>
                      <a:pt x="480" y="970"/>
                    </a:lnTo>
                    <a:lnTo>
                      <a:pt x="522" y="969"/>
                    </a:lnTo>
                    <a:lnTo>
                      <a:pt x="565" y="966"/>
                    </a:lnTo>
                    <a:lnTo>
                      <a:pt x="610" y="963"/>
                    </a:lnTo>
                    <a:lnTo>
                      <a:pt x="656" y="959"/>
                    </a:lnTo>
                    <a:lnTo>
                      <a:pt x="702" y="953"/>
                    </a:lnTo>
                    <a:lnTo>
                      <a:pt x="750" y="945"/>
                    </a:lnTo>
                    <a:lnTo>
                      <a:pt x="799" y="937"/>
                    </a:lnTo>
                    <a:lnTo>
                      <a:pt x="850" y="925"/>
                    </a:lnTo>
                    <a:lnTo>
                      <a:pt x="901" y="913"/>
                    </a:lnTo>
                    <a:lnTo>
                      <a:pt x="952" y="899"/>
                    </a:lnTo>
                    <a:lnTo>
                      <a:pt x="1005" y="883"/>
                    </a:lnTo>
                    <a:lnTo>
                      <a:pt x="892" y="633"/>
                    </a:lnTo>
                    <a:lnTo>
                      <a:pt x="815" y="683"/>
                    </a:lnTo>
                    <a:lnTo>
                      <a:pt x="813" y="686"/>
                    </a:lnTo>
                    <a:lnTo>
                      <a:pt x="808" y="695"/>
                    </a:lnTo>
                    <a:lnTo>
                      <a:pt x="799" y="707"/>
                    </a:lnTo>
                    <a:lnTo>
                      <a:pt x="787" y="721"/>
                    </a:lnTo>
                    <a:lnTo>
                      <a:pt x="771" y="735"/>
                    </a:lnTo>
                    <a:lnTo>
                      <a:pt x="753" y="745"/>
                    </a:lnTo>
                    <a:lnTo>
                      <a:pt x="731" y="748"/>
                    </a:lnTo>
                    <a:lnTo>
                      <a:pt x="707" y="746"/>
                    </a:lnTo>
                    <a:lnTo>
                      <a:pt x="705" y="746"/>
                    </a:lnTo>
                    <a:lnTo>
                      <a:pt x="700" y="743"/>
                    </a:lnTo>
                    <a:lnTo>
                      <a:pt x="693" y="741"/>
                    </a:lnTo>
                    <a:lnTo>
                      <a:pt x="686" y="736"/>
                    </a:lnTo>
                    <a:lnTo>
                      <a:pt x="679" y="729"/>
                    </a:lnTo>
                    <a:lnTo>
                      <a:pt x="675" y="719"/>
                    </a:lnTo>
                    <a:lnTo>
                      <a:pt x="674" y="707"/>
                    </a:lnTo>
                    <a:lnTo>
                      <a:pt x="676" y="693"/>
                    </a:lnTo>
                    <a:lnTo>
                      <a:pt x="678" y="678"/>
                    </a:lnTo>
                    <a:lnTo>
                      <a:pt x="676" y="667"/>
                    </a:lnTo>
                    <a:lnTo>
                      <a:pt x="671" y="658"/>
                    </a:lnTo>
                    <a:lnTo>
                      <a:pt x="665" y="651"/>
                    </a:lnTo>
                    <a:lnTo>
                      <a:pt x="658" y="647"/>
                    </a:lnTo>
                    <a:lnTo>
                      <a:pt x="651" y="644"/>
                    </a:lnTo>
                    <a:lnTo>
                      <a:pt x="646" y="643"/>
                    </a:lnTo>
                    <a:lnTo>
                      <a:pt x="644" y="643"/>
                    </a:lnTo>
                    <a:lnTo>
                      <a:pt x="641" y="637"/>
                    </a:lnTo>
                    <a:lnTo>
                      <a:pt x="637" y="622"/>
                    </a:lnTo>
                    <a:lnTo>
                      <a:pt x="638" y="606"/>
                    </a:lnTo>
                    <a:lnTo>
                      <a:pt x="653" y="594"/>
                    </a:lnTo>
                    <a:lnTo>
                      <a:pt x="666" y="590"/>
                    </a:lnTo>
                    <a:lnTo>
                      <a:pt x="681" y="585"/>
                    </a:lnTo>
                    <a:lnTo>
                      <a:pt x="694" y="581"/>
                    </a:lnTo>
                    <a:lnTo>
                      <a:pt x="708" y="576"/>
                    </a:lnTo>
                    <a:lnTo>
                      <a:pt x="721" y="571"/>
                    </a:lnTo>
                    <a:lnTo>
                      <a:pt x="730" y="569"/>
                    </a:lnTo>
                    <a:lnTo>
                      <a:pt x="737" y="566"/>
                    </a:lnTo>
                    <a:lnTo>
                      <a:pt x="739" y="565"/>
                    </a:lnTo>
                    <a:lnTo>
                      <a:pt x="741" y="558"/>
                    </a:lnTo>
                    <a:lnTo>
                      <a:pt x="746" y="539"/>
                    </a:lnTo>
                    <a:lnTo>
                      <a:pt x="750" y="512"/>
                    </a:lnTo>
                    <a:lnTo>
                      <a:pt x="756" y="481"/>
                    </a:lnTo>
                    <a:lnTo>
                      <a:pt x="758" y="447"/>
                    </a:lnTo>
                    <a:lnTo>
                      <a:pt x="756" y="416"/>
                    </a:lnTo>
                    <a:lnTo>
                      <a:pt x="749" y="390"/>
                    </a:lnTo>
                    <a:lnTo>
                      <a:pt x="734" y="374"/>
                    </a:lnTo>
                    <a:lnTo>
                      <a:pt x="716" y="364"/>
                    </a:lnTo>
                    <a:lnTo>
                      <a:pt x="700" y="356"/>
                    </a:lnTo>
                    <a:lnTo>
                      <a:pt x="685" y="348"/>
                    </a:lnTo>
                    <a:lnTo>
                      <a:pt x="673" y="343"/>
                    </a:lnTo>
                    <a:lnTo>
                      <a:pt x="662" y="340"/>
                    </a:lnTo>
                    <a:lnTo>
                      <a:pt x="656" y="337"/>
                    </a:lnTo>
                    <a:lnTo>
                      <a:pt x="650" y="335"/>
                    </a:lnTo>
                    <a:lnTo>
                      <a:pt x="649" y="335"/>
                    </a:lnTo>
                    <a:lnTo>
                      <a:pt x="522" y="350"/>
                    </a:lnTo>
                    <a:lnTo>
                      <a:pt x="549" y="227"/>
                    </a:lnTo>
                    <a:lnTo>
                      <a:pt x="547" y="227"/>
                    </a:lnTo>
                    <a:lnTo>
                      <a:pt x="543" y="227"/>
                    </a:lnTo>
                    <a:lnTo>
                      <a:pt x="533" y="228"/>
                    </a:lnTo>
                    <a:lnTo>
                      <a:pt x="522" y="228"/>
                    </a:lnTo>
                    <a:lnTo>
                      <a:pt x="507" y="228"/>
                    </a:lnTo>
                    <a:lnTo>
                      <a:pt x="491" y="228"/>
                    </a:lnTo>
                    <a:lnTo>
                      <a:pt x="473" y="228"/>
                    </a:lnTo>
                    <a:lnTo>
                      <a:pt x="454" y="228"/>
                    </a:lnTo>
                    <a:lnTo>
                      <a:pt x="433" y="228"/>
                    </a:lnTo>
                    <a:lnTo>
                      <a:pt x="411" y="227"/>
                    </a:lnTo>
                    <a:lnTo>
                      <a:pt x="390" y="226"/>
                    </a:lnTo>
                    <a:lnTo>
                      <a:pt x="367" y="223"/>
                    </a:lnTo>
                    <a:lnTo>
                      <a:pt x="345" y="221"/>
                    </a:lnTo>
                    <a:lnTo>
                      <a:pt x="323" y="217"/>
                    </a:lnTo>
                    <a:lnTo>
                      <a:pt x="303" y="213"/>
                    </a:lnTo>
                    <a:lnTo>
                      <a:pt x="283" y="208"/>
                    </a:lnTo>
                    <a:lnTo>
                      <a:pt x="337" y="3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638600">
                <a:off x="7392600" y="5482440"/>
                <a:ext cx="1119960" cy="941040"/>
              </a:xfrm>
              <a:custGeom>
                <a:avLst/>
                <a:gdLst/>
                <a:ahLst/>
                <a:rect l="l" t="t" r="r" b="b"/>
                <a:pathLst>
                  <a:path w="894" h="895">
                    <a:moveTo>
                      <a:pt x="0" y="842"/>
                    </a:moveTo>
                    <a:lnTo>
                      <a:pt x="35" y="853"/>
                    </a:lnTo>
                    <a:lnTo>
                      <a:pt x="70" y="863"/>
                    </a:lnTo>
                    <a:lnTo>
                      <a:pt x="105" y="871"/>
                    </a:lnTo>
                    <a:lnTo>
                      <a:pt x="142" y="878"/>
                    </a:lnTo>
                    <a:lnTo>
                      <a:pt x="178" y="884"/>
                    </a:lnTo>
                    <a:lnTo>
                      <a:pt x="216" y="888"/>
                    </a:lnTo>
                    <a:lnTo>
                      <a:pt x="254" y="891"/>
                    </a:lnTo>
                    <a:lnTo>
                      <a:pt x="291" y="894"/>
                    </a:lnTo>
                    <a:lnTo>
                      <a:pt x="329" y="895"/>
                    </a:lnTo>
                    <a:lnTo>
                      <a:pt x="367" y="895"/>
                    </a:lnTo>
                    <a:lnTo>
                      <a:pt x="404" y="894"/>
                    </a:lnTo>
                    <a:lnTo>
                      <a:pt x="441" y="893"/>
                    </a:lnTo>
                    <a:lnTo>
                      <a:pt x="477" y="891"/>
                    </a:lnTo>
                    <a:lnTo>
                      <a:pt x="513" y="888"/>
                    </a:lnTo>
                    <a:lnTo>
                      <a:pt x="548" y="885"/>
                    </a:lnTo>
                    <a:lnTo>
                      <a:pt x="582" y="881"/>
                    </a:lnTo>
                    <a:lnTo>
                      <a:pt x="614" y="878"/>
                    </a:lnTo>
                    <a:lnTo>
                      <a:pt x="646" y="873"/>
                    </a:lnTo>
                    <a:lnTo>
                      <a:pt x="677" y="869"/>
                    </a:lnTo>
                    <a:lnTo>
                      <a:pt x="706" y="864"/>
                    </a:lnTo>
                    <a:lnTo>
                      <a:pt x="733" y="859"/>
                    </a:lnTo>
                    <a:lnTo>
                      <a:pt x="759" y="854"/>
                    </a:lnTo>
                    <a:lnTo>
                      <a:pt x="783" y="849"/>
                    </a:lnTo>
                    <a:lnTo>
                      <a:pt x="805" y="845"/>
                    </a:lnTo>
                    <a:lnTo>
                      <a:pt x="824" y="841"/>
                    </a:lnTo>
                    <a:lnTo>
                      <a:pt x="843" y="837"/>
                    </a:lnTo>
                    <a:lnTo>
                      <a:pt x="857" y="833"/>
                    </a:lnTo>
                    <a:lnTo>
                      <a:pt x="870" y="831"/>
                    </a:lnTo>
                    <a:lnTo>
                      <a:pt x="880" y="828"/>
                    </a:lnTo>
                    <a:lnTo>
                      <a:pt x="888" y="826"/>
                    </a:lnTo>
                    <a:lnTo>
                      <a:pt x="893" y="824"/>
                    </a:lnTo>
                    <a:lnTo>
                      <a:pt x="894" y="824"/>
                    </a:lnTo>
                    <a:lnTo>
                      <a:pt x="812" y="636"/>
                    </a:lnTo>
                    <a:lnTo>
                      <a:pt x="767" y="660"/>
                    </a:lnTo>
                    <a:lnTo>
                      <a:pt x="749" y="696"/>
                    </a:lnTo>
                    <a:lnTo>
                      <a:pt x="730" y="720"/>
                    </a:lnTo>
                    <a:lnTo>
                      <a:pt x="709" y="734"/>
                    </a:lnTo>
                    <a:lnTo>
                      <a:pt x="689" y="740"/>
                    </a:lnTo>
                    <a:lnTo>
                      <a:pt x="669" y="740"/>
                    </a:lnTo>
                    <a:lnTo>
                      <a:pt x="651" y="736"/>
                    </a:lnTo>
                    <a:lnTo>
                      <a:pt x="635" y="730"/>
                    </a:lnTo>
                    <a:lnTo>
                      <a:pt x="621" y="723"/>
                    </a:lnTo>
                    <a:lnTo>
                      <a:pt x="604" y="708"/>
                    </a:lnTo>
                    <a:lnTo>
                      <a:pt x="595" y="693"/>
                    </a:lnTo>
                    <a:lnTo>
                      <a:pt x="594" y="677"/>
                    </a:lnTo>
                    <a:lnTo>
                      <a:pt x="600" y="660"/>
                    </a:lnTo>
                    <a:lnTo>
                      <a:pt x="604" y="646"/>
                    </a:lnTo>
                    <a:lnTo>
                      <a:pt x="603" y="640"/>
                    </a:lnTo>
                    <a:lnTo>
                      <a:pt x="601" y="639"/>
                    </a:lnTo>
                    <a:lnTo>
                      <a:pt x="600" y="639"/>
                    </a:lnTo>
                    <a:lnTo>
                      <a:pt x="581" y="636"/>
                    </a:lnTo>
                    <a:lnTo>
                      <a:pt x="569" y="630"/>
                    </a:lnTo>
                    <a:lnTo>
                      <a:pt x="562" y="620"/>
                    </a:lnTo>
                    <a:lnTo>
                      <a:pt x="560" y="610"/>
                    </a:lnTo>
                    <a:lnTo>
                      <a:pt x="560" y="600"/>
                    </a:lnTo>
                    <a:lnTo>
                      <a:pt x="561" y="590"/>
                    </a:lnTo>
                    <a:lnTo>
                      <a:pt x="562" y="584"/>
                    </a:lnTo>
                    <a:lnTo>
                      <a:pt x="563" y="582"/>
                    </a:lnTo>
                    <a:lnTo>
                      <a:pt x="573" y="566"/>
                    </a:lnTo>
                    <a:lnTo>
                      <a:pt x="588" y="552"/>
                    </a:lnTo>
                    <a:lnTo>
                      <a:pt x="605" y="541"/>
                    </a:lnTo>
                    <a:lnTo>
                      <a:pt x="623" y="533"/>
                    </a:lnTo>
                    <a:lnTo>
                      <a:pt x="641" y="527"/>
                    </a:lnTo>
                    <a:lnTo>
                      <a:pt x="655" y="522"/>
                    </a:lnTo>
                    <a:lnTo>
                      <a:pt x="666" y="521"/>
                    </a:lnTo>
                    <a:lnTo>
                      <a:pt x="669" y="520"/>
                    </a:lnTo>
                    <a:lnTo>
                      <a:pt x="683" y="457"/>
                    </a:lnTo>
                    <a:lnTo>
                      <a:pt x="685" y="407"/>
                    </a:lnTo>
                    <a:lnTo>
                      <a:pt x="681" y="371"/>
                    </a:lnTo>
                    <a:lnTo>
                      <a:pt x="669" y="345"/>
                    </a:lnTo>
                    <a:lnTo>
                      <a:pt x="655" y="328"/>
                    </a:lnTo>
                    <a:lnTo>
                      <a:pt x="643" y="319"/>
                    </a:lnTo>
                    <a:lnTo>
                      <a:pt x="633" y="314"/>
                    </a:lnTo>
                    <a:lnTo>
                      <a:pt x="629" y="313"/>
                    </a:lnTo>
                    <a:lnTo>
                      <a:pt x="614" y="317"/>
                    </a:lnTo>
                    <a:lnTo>
                      <a:pt x="598" y="320"/>
                    </a:lnTo>
                    <a:lnTo>
                      <a:pt x="582" y="323"/>
                    </a:lnTo>
                    <a:lnTo>
                      <a:pt x="565" y="324"/>
                    </a:lnTo>
                    <a:lnTo>
                      <a:pt x="548" y="327"/>
                    </a:lnTo>
                    <a:lnTo>
                      <a:pt x="531" y="327"/>
                    </a:lnTo>
                    <a:lnTo>
                      <a:pt x="514" y="328"/>
                    </a:lnTo>
                    <a:lnTo>
                      <a:pt x="498" y="328"/>
                    </a:lnTo>
                    <a:lnTo>
                      <a:pt x="483" y="327"/>
                    </a:lnTo>
                    <a:lnTo>
                      <a:pt x="468" y="327"/>
                    </a:lnTo>
                    <a:lnTo>
                      <a:pt x="456" y="327"/>
                    </a:lnTo>
                    <a:lnTo>
                      <a:pt x="445" y="325"/>
                    </a:lnTo>
                    <a:lnTo>
                      <a:pt x="436" y="325"/>
                    </a:lnTo>
                    <a:lnTo>
                      <a:pt x="429" y="324"/>
                    </a:lnTo>
                    <a:lnTo>
                      <a:pt x="425" y="324"/>
                    </a:lnTo>
                    <a:lnTo>
                      <a:pt x="424" y="324"/>
                    </a:lnTo>
                    <a:lnTo>
                      <a:pt x="453" y="251"/>
                    </a:lnTo>
                    <a:lnTo>
                      <a:pt x="168" y="226"/>
                    </a:lnTo>
                    <a:lnTo>
                      <a:pt x="234" y="0"/>
                    </a:lnTo>
                    <a:lnTo>
                      <a:pt x="213" y="4"/>
                    </a:lnTo>
                    <a:lnTo>
                      <a:pt x="211" y="8"/>
                    </a:lnTo>
                    <a:lnTo>
                      <a:pt x="207" y="21"/>
                    </a:lnTo>
                    <a:lnTo>
                      <a:pt x="201" y="40"/>
                    </a:lnTo>
                    <a:lnTo>
                      <a:pt x="192" y="66"/>
                    </a:lnTo>
                    <a:lnTo>
                      <a:pt x="182" y="100"/>
                    </a:lnTo>
                    <a:lnTo>
                      <a:pt x="169" y="139"/>
                    </a:lnTo>
                    <a:lnTo>
                      <a:pt x="156" y="185"/>
                    </a:lnTo>
                    <a:lnTo>
                      <a:pt x="141" y="237"/>
                    </a:lnTo>
                    <a:lnTo>
                      <a:pt x="125" y="294"/>
                    </a:lnTo>
                    <a:lnTo>
                      <a:pt x="109" y="355"/>
                    </a:lnTo>
                    <a:lnTo>
                      <a:pt x="91" y="422"/>
                    </a:lnTo>
                    <a:lnTo>
                      <a:pt x="73" y="491"/>
                    </a:lnTo>
                    <a:lnTo>
                      <a:pt x="56" y="566"/>
                    </a:lnTo>
                    <a:lnTo>
                      <a:pt x="38" y="642"/>
                    </a:lnTo>
                    <a:lnTo>
                      <a:pt x="21" y="723"/>
                    </a:lnTo>
                    <a:lnTo>
                      <a:pt x="5" y="806"/>
                    </a:lnTo>
                    <a:lnTo>
                      <a:pt x="0" y="842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638600">
                <a:off x="7513920" y="5753880"/>
                <a:ext cx="476280" cy="318960"/>
              </a:xfrm>
              <a:custGeom>
                <a:avLst/>
                <a:gdLst/>
                <a:ahLst/>
                <a:rect l="l" t="t" r="r" b="b"/>
                <a:pathLst>
                  <a:path w="380" h="303">
                    <a:moveTo>
                      <a:pt x="56" y="0"/>
                    </a:moveTo>
                    <a:lnTo>
                      <a:pt x="53" y="7"/>
                    </a:lnTo>
                    <a:lnTo>
                      <a:pt x="49" y="27"/>
                    </a:lnTo>
                    <a:lnTo>
                      <a:pt x="42" y="57"/>
                    </a:lnTo>
                    <a:lnTo>
                      <a:pt x="33" y="93"/>
                    </a:lnTo>
                    <a:lnTo>
                      <a:pt x="24" y="133"/>
                    </a:lnTo>
                    <a:lnTo>
                      <a:pt x="15" y="172"/>
                    </a:lnTo>
                    <a:lnTo>
                      <a:pt x="7" y="211"/>
                    </a:lnTo>
                    <a:lnTo>
                      <a:pt x="0" y="243"/>
                    </a:lnTo>
                    <a:lnTo>
                      <a:pt x="1" y="244"/>
                    </a:lnTo>
                    <a:lnTo>
                      <a:pt x="5" y="247"/>
                    </a:lnTo>
                    <a:lnTo>
                      <a:pt x="12" y="250"/>
                    </a:lnTo>
                    <a:lnTo>
                      <a:pt x="23" y="255"/>
                    </a:lnTo>
                    <a:lnTo>
                      <a:pt x="35" y="261"/>
                    </a:lnTo>
                    <a:lnTo>
                      <a:pt x="50" y="269"/>
                    </a:lnTo>
                    <a:lnTo>
                      <a:pt x="68" y="275"/>
                    </a:lnTo>
                    <a:lnTo>
                      <a:pt x="89" y="281"/>
                    </a:lnTo>
                    <a:lnTo>
                      <a:pt x="112" y="289"/>
                    </a:lnTo>
                    <a:lnTo>
                      <a:pt x="137" y="294"/>
                    </a:lnTo>
                    <a:lnTo>
                      <a:pt x="164" y="299"/>
                    </a:lnTo>
                    <a:lnTo>
                      <a:pt x="195" y="301"/>
                    </a:lnTo>
                    <a:lnTo>
                      <a:pt x="227" y="303"/>
                    </a:lnTo>
                    <a:lnTo>
                      <a:pt x="262" y="302"/>
                    </a:lnTo>
                    <a:lnTo>
                      <a:pt x="299" y="300"/>
                    </a:lnTo>
                    <a:lnTo>
                      <a:pt x="338" y="295"/>
                    </a:lnTo>
                    <a:lnTo>
                      <a:pt x="380" y="31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638600">
                <a:off x="7623720" y="5809680"/>
                <a:ext cx="348120" cy="121680"/>
              </a:xfrm>
              <a:custGeom>
                <a:avLst/>
                <a:gdLst/>
                <a:ahLst/>
                <a:rect l="l" t="t" r="r" b="b"/>
                <a:pathLst>
                  <a:path w="279" h="118">
                    <a:moveTo>
                      <a:pt x="10" y="0"/>
                    </a:moveTo>
                    <a:lnTo>
                      <a:pt x="9" y="3"/>
                    </a:lnTo>
                    <a:lnTo>
                      <a:pt x="7" y="11"/>
                    </a:lnTo>
                    <a:lnTo>
                      <a:pt x="4" y="24"/>
                    </a:lnTo>
                    <a:lnTo>
                      <a:pt x="1" y="37"/>
                    </a:lnTo>
                    <a:lnTo>
                      <a:pt x="0" y="52"/>
                    </a:lnTo>
                    <a:lnTo>
                      <a:pt x="2" y="67"/>
                    </a:lnTo>
                    <a:lnTo>
                      <a:pt x="8" y="79"/>
                    </a:lnTo>
                    <a:lnTo>
                      <a:pt x="20" y="88"/>
                    </a:lnTo>
                    <a:lnTo>
                      <a:pt x="28" y="92"/>
                    </a:lnTo>
                    <a:lnTo>
                      <a:pt x="39" y="94"/>
                    </a:lnTo>
                    <a:lnTo>
                      <a:pt x="53" y="97"/>
                    </a:lnTo>
                    <a:lnTo>
                      <a:pt x="67" y="101"/>
                    </a:lnTo>
                    <a:lnTo>
                      <a:pt x="83" y="103"/>
                    </a:lnTo>
                    <a:lnTo>
                      <a:pt x="101" y="105"/>
                    </a:lnTo>
                    <a:lnTo>
                      <a:pt x="118" y="108"/>
                    </a:lnTo>
                    <a:lnTo>
                      <a:pt x="135" y="109"/>
                    </a:lnTo>
                    <a:lnTo>
                      <a:pt x="152" y="112"/>
                    </a:lnTo>
                    <a:lnTo>
                      <a:pt x="168" y="113"/>
                    </a:lnTo>
                    <a:lnTo>
                      <a:pt x="183" y="114"/>
                    </a:lnTo>
                    <a:lnTo>
                      <a:pt x="196" y="115"/>
                    </a:lnTo>
                    <a:lnTo>
                      <a:pt x="207" y="117"/>
                    </a:lnTo>
                    <a:lnTo>
                      <a:pt x="216" y="118"/>
                    </a:lnTo>
                    <a:lnTo>
                      <a:pt x="220" y="118"/>
                    </a:lnTo>
                    <a:lnTo>
                      <a:pt x="223" y="118"/>
                    </a:lnTo>
                    <a:lnTo>
                      <a:pt x="224" y="118"/>
                    </a:lnTo>
                    <a:lnTo>
                      <a:pt x="228" y="118"/>
                    </a:lnTo>
                    <a:lnTo>
                      <a:pt x="234" y="118"/>
                    </a:lnTo>
                    <a:lnTo>
                      <a:pt x="241" y="115"/>
                    </a:lnTo>
                    <a:lnTo>
                      <a:pt x="249" y="113"/>
                    </a:lnTo>
                    <a:lnTo>
                      <a:pt x="256" y="108"/>
                    </a:lnTo>
                    <a:lnTo>
                      <a:pt x="263" y="102"/>
                    </a:lnTo>
                    <a:lnTo>
                      <a:pt x="267" y="92"/>
                    </a:lnTo>
                    <a:lnTo>
                      <a:pt x="273" y="68"/>
                    </a:lnTo>
                    <a:lnTo>
                      <a:pt x="276" y="48"/>
                    </a:lnTo>
                    <a:lnTo>
                      <a:pt x="279" y="34"/>
                    </a:lnTo>
                    <a:lnTo>
                      <a:pt x="279" y="2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1638600">
                <a:off x="7541640" y="5884920"/>
                <a:ext cx="357840" cy="140400"/>
              </a:xfrm>
              <a:custGeom>
                <a:avLst/>
                <a:gdLst/>
                <a:ahLst/>
                <a:rect l="l" t="t" r="r" b="b"/>
                <a:pathLst>
                  <a:path w="286" h="134">
                    <a:moveTo>
                      <a:pt x="21" y="0"/>
                    </a:moveTo>
                    <a:lnTo>
                      <a:pt x="21" y="1"/>
                    </a:lnTo>
                    <a:lnTo>
                      <a:pt x="24" y="4"/>
                    </a:lnTo>
                    <a:lnTo>
                      <a:pt x="26" y="6"/>
                    </a:lnTo>
                    <a:lnTo>
                      <a:pt x="29" y="11"/>
                    </a:lnTo>
                    <a:lnTo>
                      <a:pt x="34" y="15"/>
                    </a:lnTo>
                    <a:lnTo>
                      <a:pt x="40" y="20"/>
                    </a:lnTo>
                    <a:lnTo>
                      <a:pt x="46" y="23"/>
                    </a:lnTo>
                    <a:lnTo>
                      <a:pt x="56" y="26"/>
                    </a:lnTo>
                    <a:lnTo>
                      <a:pt x="70" y="28"/>
                    </a:lnTo>
                    <a:lnTo>
                      <a:pt x="93" y="32"/>
                    </a:lnTo>
                    <a:lnTo>
                      <a:pt x="119" y="36"/>
                    </a:lnTo>
                    <a:lnTo>
                      <a:pt x="149" y="39"/>
                    </a:lnTo>
                    <a:lnTo>
                      <a:pt x="176" y="43"/>
                    </a:lnTo>
                    <a:lnTo>
                      <a:pt x="199" y="47"/>
                    </a:lnTo>
                    <a:lnTo>
                      <a:pt x="216" y="48"/>
                    </a:lnTo>
                    <a:lnTo>
                      <a:pt x="222" y="49"/>
                    </a:lnTo>
                    <a:lnTo>
                      <a:pt x="224" y="49"/>
                    </a:lnTo>
                    <a:lnTo>
                      <a:pt x="230" y="51"/>
                    </a:lnTo>
                    <a:lnTo>
                      <a:pt x="238" y="51"/>
                    </a:lnTo>
                    <a:lnTo>
                      <a:pt x="248" y="52"/>
                    </a:lnTo>
                    <a:lnTo>
                      <a:pt x="259" y="51"/>
                    </a:lnTo>
                    <a:lnTo>
                      <a:pt x="269" y="49"/>
                    </a:lnTo>
                    <a:lnTo>
                      <a:pt x="279" y="46"/>
                    </a:lnTo>
                    <a:lnTo>
                      <a:pt x="286" y="41"/>
                    </a:lnTo>
                    <a:lnTo>
                      <a:pt x="273" y="132"/>
                    </a:lnTo>
                    <a:lnTo>
                      <a:pt x="271" y="132"/>
                    </a:lnTo>
                    <a:lnTo>
                      <a:pt x="267" y="132"/>
                    </a:lnTo>
                    <a:lnTo>
                      <a:pt x="258" y="134"/>
                    </a:lnTo>
                    <a:lnTo>
                      <a:pt x="246" y="134"/>
                    </a:lnTo>
                    <a:lnTo>
                      <a:pt x="232" y="134"/>
                    </a:lnTo>
                    <a:lnTo>
                      <a:pt x="216" y="134"/>
                    </a:lnTo>
                    <a:lnTo>
                      <a:pt x="198" y="132"/>
                    </a:lnTo>
                    <a:lnTo>
                      <a:pt x="178" y="131"/>
                    </a:lnTo>
                    <a:lnTo>
                      <a:pt x="157" y="130"/>
                    </a:lnTo>
                    <a:lnTo>
                      <a:pt x="135" y="126"/>
                    </a:lnTo>
                    <a:lnTo>
                      <a:pt x="113" y="124"/>
                    </a:lnTo>
                    <a:lnTo>
                      <a:pt x="89" y="119"/>
                    </a:lnTo>
                    <a:lnTo>
                      <a:pt x="66" y="114"/>
                    </a:lnTo>
                    <a:lnTo>
                      <a:pt x="43" y="106"/>
                    </a:lnTo>
                    <a:lnTo>
                      <a:pt x="21" y="99"/>
                    </a:lnTo>
                    <a:lnTo>
                      <a:pt x="0" y="89"/>
                    </a:lnTo>
                    <a:lnTo>
                      <a:pt x="2" y="75"/>
                    </a:lnTo>
                    <a:lnTo>
                      <a:pt x="9" y="46"/>
                    </a:lnTo>
                    <a:lnTo>
                      <a:pt x="16" y="16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1c6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638600">
                <a:off x="7725240" y="5832000"/>
                <a:ext cx="99720" cy="93960"/>
              </a:xfrm>
              <a:custGeom>
                <a:avLst/>
                <a:gdLst/>
                <a:ahLst/>
                <a:rect l="l" t="t" r="r" b="b"/>
                <a:pathLst>
                  <a:path w="81" h="89">
                    <a:moveTo>
                      <a:pt x="81" y="45"/>
                    </a:moveTo>
                    <a:lnTo>
                      <a:pt x="80" y="53"/>
                    </a:lnTo>
                    <a:lnTo>
                      <a:pt x="77" y="62"/>
                    </a:lnTo>
                    <a:lnTo>
                      <a:pt x="74" y="70"/>
                    </a:lnTo>
                    <a:lnTo>
                      <a:pt x="69" y="76"/>
                    </a:lnTo>
                    <a:lnTo>
                      <a:pt x="62" y="82"/>
                    </a:lnTo>
                    <a:lnTo>
                      <a:pt x="56" y="86"/>
                    </a:lnTo>
                    <a:lnTo>
                      <a:pt x="48" y="88"/>
                    </a:lnTo>
                    <a:lnTo>
                      <a:pt x="40" y="89"/>
                    </a:lnTo>
                    <a:lnTo>
                      <a:pt x="32" y="88"/>
                    </a:lnTo>
                    <a:lnTo>
                      <a:pt x="25" y="86"/>
                    </a:lnTo>
                    <a:lnTo>
                      <a:pt x="18" y="82"/>
                    </a:lnTo>
                    <a:lnTo>
                      <a:pt x="11" y="76"/>
                    </a:lnTo>
                    <a:lnTo>
                      <a:pt x="7" y="70"/>
                    </a:lnTo>
                    <a:lnTo>
                      <a:pt x="3" y="62"/>
                    </a:lnTo>
                    <a:lnTo>
                      <a:pt x="1" y="53"/>
                    </a:lnTo>
                    <a:lnTo>
                      <a:pt x="0" y="45"/>
                    </a:lnTo>
                    <a:lnTo>
                      <a:pt x="1" y="36"/>
                    </a:lnTo>
                    <a:lnTo>
                      <a:pt x="3" y="27"/>
                    </a:lnTo>
                    <a:lnTo>
                      <a:pt x="7" y="20"/>
                    </a:lnTo>
                    <a:lnTo>
                      <a:pt x="11" y="13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8" y="1"/>
                    </a:lnTo>
                    <a:lnTo>
                      <a:pt x="56" y="4"/>
                    </a:lnTo>
                    <a:lnTo>
                      <a:pt x="62" y="8"/>
                    </a:lnTo>
                    <a:lnTo>
                      <a:pt x="69" y="13"/>
                    </a:lnTo>
                    <a:lnTo>
                      <a:pt x="74" y="20"/>
                    </a:lnTo>
                    <a:lnTo>
                      <a:pt x="77" y="27"/>
                    </a:lnTo>
                    <a:lnTo>
                      <a:pt x="80" y="36"/>
                    </a:lnTo>
                    <a:lnTo>
                      <a:pt x="81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638600">
                <a:off x="7750440" y="5855760"/>
                <a:ext cx="52560" cy="482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42" y="24"/>
                    </a:moveTo>
                    <a:lnTo>
                      <a:pt x="40" y="34"/>
                    </a:lnTo>
                    <a:lnTo>
                      <a:pt x="36" y="41"/>
                    </a:lnTo>
                    <a:lnTo>
                      <a:pt x="29" y="46"/>
                    </a:lnTo>
                    <a:lnTo>
                      <a:pt x="21" y="47"/>
                    </a:lnTo>
                    <a:lnTo>
                      <a:pt x="13" y="46"/>
                    </a:lnTo>
                    <a:lnTo>
                      <a:pt x="6" y="41"/>
                    </a:lnTo>
                    <a:lnTo>
                      <a:pt x="1" y="34"/>
                    </a:lnTo>
                    <a:lnTo>
                      <a:pt x="0" y="24"/>
                    </a:lnTo>
                    <a:lnTo>
                      <a:pt x="1" y="15"/>
                    </a:lnTo>
                    <a:lnTo>
                      <a:pt x="6" y="8"/>
                    </a:lnTo>
                    <a:lnTo>
                      <a:pt x="13" y="3"/>
                    </a:lnTo>
                    <a:lnTo>
                      <a:pt x="21" y="0"/>
                    </a:lnTo>
                    <a:lnTo>
                      <a:pt x="29" y="3"/>
                    </a:lnTo>
                    <a:lnTo>
                      <a:pt x="36" y="8"/>
                    </a:lnTo>
                    <a:lnTo>
                      <a:pt x="40" y="15"/>
                    </a:lnTo>
                    <a:lnTo>
                      <a:pt x="42" y="24"/>
                    </a:lnTo>
                    <a:close/>
                  </a:path>
                </a:pathLst>
              </a:custGeom>
              <a:solidFill>
                <a:srgbClr val="e5a8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 flipV="1" rot="21404400">
              <a:off x="7939080" y="5086440"/>
              <a:ext cx="128160" cy="9432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0" y="48"/>
                  </a:moveTo>
                  <a:lnTo>
                    <a:pt x="0" y="45"/>
                  </a:lnTo>
                  <a:lnTo>
                    <a:pt x="0" y="39"/>
                  </a:lnTo>
                  <a:lnTo>
                    <a:pt x="3" y="30"/>
                  </a:lnTo>
                  <a:lnTo>
                    <a:pt x="7" y="19"/>
                  </a:lnTo>
                  <a:lnTo>
                    <a:pt x="15" y="9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69" y="3"/>
                  </a:lnTo>
                  <a:lnTo>
                    <a:pt x="72" y="4"/>
                  </a:lnTo>
                  <a:lnTo>
                    <a:pt x="75" y="9"/>
                  </a:lnTo>
                  <a:lnTo>
                    <a:pt x="77" y="14"/>
                  </a:lnTo>
                  <a:lnTo>
                    <a:pt x="70" y="17"/>
                  </a:lnTo>
                  <a:lnTo>
                    <a:pt x="64" y="17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37" y="20"/>
                  </a:lnTo>
                  <a:lnTo>
                    <a:pt x="28" y="23"/>
                  </a:lnTo>
                  <a:lnTo>
                    <a:pt x="18" y="30"/>
                  </a:lnTo>
                  <a:lnTo>
                    <a:pt x="9" y="37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 rot="14080800">
            <a:off x="-81000" y="3618000"/>
            <a:ext cx="3191040" cy="310176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1006560" y="2205000"/>
            <a:ext cx="1909440" cy="1787040"/>
            <a:chOff x="1006560" y="2205000"/>
            <a:chExt cx="1909440" cy="1787040"/>
          </a:xfrm>
        </p:grpSpPr>
        <p:sp>
          <p:nvSpPr>
            <p:cNvPr id="208" name=""/>
            <p:cNvSpPr/>
            <p:nvPr/>
          </p:nvSpPr>
          <p:spPr>
            <a:xfrm>
              <a:off x="1120320" y="2205000"/>
              <a:ext cx="1795680" cy="1706400"/>
            </a:xfrm>
            <a:prstGeom prst="ellipse">
              <a:avLst/>
            </a:prstGeom>
            <a:solidFill>
              <a:srgbClr val="ff66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872600">
              <a:off x="1042560" y="3619800"/>
              <a:ext cx="468360" cy="270360"/>
            </a:xfrm>
            <a:prstGeom prst="triangle">
              <a:avLst>
                <a:gd name="adj" fmla="val 50000"/>
              </a:avLst>
            </a:prstGeom>
            <a:solidFill>
              <a:srgbClr val="ff66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1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34 0.06451 C -0.07031 0.08231 -0.07882 0.14358 -0.0625 0.15745 C -0.05937 0.1748 -0.05451 0.17826 -0.0467 0.19144 C -0.04548 0.19352 -0.04514 0.19607 -0.04357 0.19769 C -0.0375 0.20393 -0.01597 0.20254 -0.00694 0.20393 C 0.01476 0.20185 0.03646 0.20092 0.05799 0.19769 C 0.06441 0.19676 0.06962 0.19029 0.07552 0.18705 C 0.09601 0.17572 0.1165 0.16462 0.1375 0.15537 C 0.14497 0.14797 0.15191 0.14381 0.15973 0.13641 C 0.1783 0.11861 0.16181 0.1267 0.17396 0.12162 C 0.17986 0.11352 0.18664 0.10404 0.19462 0.10034 C 0.2007 0.08809 0.1941 0.0985 0.20243 0.09202 C 0.21059 0.08578 0.20834 0.08092 0.21997 0.07722 C 0.24219 0.07792 0.26441 0.07653 0.28664 0.0793 C 0.2882 0.07954 0.28785 0.08347 0.2882 0.08555 C 0.29045 0.09896 0.29167 0.11121 0.29618 0.1237 C 0.29844 0.14127 0.30243 0.16046 0.30886 0.17665 C 0.31181 0.18381 0.3165 0.18982 0.31841 0.19769 C 0.32136 0.20948 0.32657 0.22034 0.3342 0.22728 C 0.33698 0.23838 0.33438 0.23237 0.34532 0.24208 C 0.35365 0.24948 0.36059 0.25988 0.37084 0.26312 C 0.375 0.26451 0.37934 0.26474 0.38351 0.26543 C 0.40782 0.27607 0.40365 0.27214 0.44219 0.27584 C 0.46528 0.28092 0.48525 0.27329 0.50729 0.26751 C 0.51337 0.25919 0.50729 0.26636 0.51841 0.25896 C 0.52743 0.25295 0.51927 0.25711 0.52639 0.25063 C 0.53177 0.24578 0.5375 0.24208 0.54375 0.24 C 0.55087 0.2252 0.54184 0.24231 0.5533 0.22728 C 0.55469 0.22543 0.55504 0.22289 0.55643 0.22104 C 0.56077 0.21526 0.56719 0.21063 0.5724 0.20624 C 0.5783 0.19006 0.58073 0.16532 0.58351 0.14705 C 0.58386 0.14428 0.58334 0.14034 0.58507 0.1385 C 0.58768 0.13549 0.59462 0.13433 0.59462 0.13456 C 0.59775 0.1385 0.60104 0.14289 0.60417 0.14705 C 0.60764 0.15167 0.6 0.15121 0.59931 0.15121 E">
                                      <p:cBhvr>
                                        <p:cTn id="135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465 0.08671 L 0.67465 -0.20694 E">
                                      <p:cBhvr>
                                        <p:cTn id="139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41 -0.24139 L -4.16667E-006 -1.50289E-006 E">
                                      <p:cBhvr>
                                        <p:cTn id="143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45 -0.1452 C 0.15417 -0.09849 0.16198 0.02683 0.17813 0.09156 C 0.17952 0.10313 0.18004 0.10706 0.18611 0.11492 C 0.18958 0.1244 0.19497 0.13943 0.20347 0.14243 C 0.20764 0.14382 0.21198 0.14382 0.21615 0.14451 C 0.2184 0.14729 0.21997 0.15122 0.22257 0.15307 C 0.22448 0.15446 0.22674 0.15422 0.22882 0.15515 C 0.23993 0.1607 0.24306 0.16347 0.2559 0.16555 C 0.26372 0.17295 0.27344 0.17203 0.28281 0.17411 C 0.28681 0.18914 0.28333 0.18428 0.2908 0.19099 C 0.29445 0.19862 0.29844 0.20694 0.30504 0.20995 C 0.31493 0.21896 0.30399 0.21041 0.31945 0.21642 C 0.32639 0.21919 0.33629 0.22474 0.34167 0.23122 E">
                                      <p:cBhvr>
                                        <p:cTn id="147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166 0.23121 C 0.3434 0.22451 0.34618 0.21896 0.34791 0.21225 C 0.35086 0.16115 0.34513 0.20115 0.35746 0.17641 C 0.35694 0.16948 0.35451 0.14127 0.34947 0.1341 C 0.34635 0.12971 0.34566 0.12925 0.34322 0.12347 C 0.34149 0.1193 0.34097 0.11399 0.33836 0.11075 C 0.33732 0.10959 0.32083 0.1015 0.3177 0.10011 C 0.30954 0.08393 0.31597 0.09572 0.29548 0.06844 C 0.29201 0.06381 0.28993 0.05757 0.28611 0.05364 C 0.28194 0.04902 0.27552 0.0504 0.27013 0.04948 C 0.25503 0.043 0.23993 0.03769 0.22413 0.03468 C 0.2 0.02219 0.17326 0.02104 0.14791 0.0178 C 0.13159 0.02058 0.11822 0.02821 0.10191 0.0326 C 0.07656 0.03191 0.05104 0.03052 0.02569 0.03052 C 0.00625 0.03052 -0.0132 0.03884 -0.03299 0.03884 E">
                                      <p:cBhvr>
                                        <p:cTn id="151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5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732720" y="4869000"/>
            <a:ext cx="1827000" cy="150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8000" y="1700280"/>
            <a:ext cx="3024000" cy="22492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4356000" y="333360"/>
            <a:ext cx="3673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ШАР</a:t>
            </a:r>
            <a:endParaRPr b="1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256360" y="2492280"/>
            <a:ext cx="1909080" cy="1787040"/>
            <a:chOff x="5256360" y="2492280"/>
            <a:chExt cx="1909080" cy="1787040"/>
          </a:xfrm>
        </p:grpSpPr>
        <p:sp>
          <p:nvSpPr>
            <p:cNvPr id="214" name=""/>
            <p:cNvSpPr/>
            <p:nvPr/>
          </p:nvSpPr>
          <p:spPr>
            <a:xfrm>
              <a:off x="5370120" y="2492280"/>
              <a:ext cx="1795320" cy="17064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872600">
              <a:off x="5292360" y="3907080"/>
              <a:ext cx="468360" cy="27036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995920" y="1718640"/>
            <a:ext cx="2299680" cy="2379960"/>
            <a:chOff x="2995920" y="1718640"/>
            <a:chExt cx="2299680" cy="2379960"/>
          </a:xfrm>
        </p:grpSpPr>
        <p:sp>
          <p:nvSpPr>
            <p:cNvPr id="217" name=""/>
            <p:cNvSpPr/>
            <p:nvPr/>
          </p:nvSpPr>
          <p:spPr>
            <a:xfrm rot="17679600">
              <a:off x="3247560" y="2037240"/>
              <a:ext cx="1795680" cy="17060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9552800">
              <a:off x="4235400" y="3719880"/>
              <a:ext cx="468360" cy="270360"/>
            </a:xfrm>
            <a:prstGeom prst="triangle">
              <a:avLst>
                <a:gd name="adj" fmla="val 50000"/>
              </a:avLst>
            </a:prstGeom>
            <a:solidFill>
              <a:srgbClr val="ffccff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003640" y="1341360"/>
            <a:ext cx="914400" cy="914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339000">
            <a:off x="5219280" y="2204640"/>
            <a:ext cx="28908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4360" y="2322360"/>
            <a:ext cx="1431720" cy="3843360"/>
          </a:xfrm>
          <a:custGeom>
            <a:avLst/>
            <a:gdLst/>
            <a:ahLst/>
            <a:rect l="l" t="t" r="r" b="b"/>
            <a:pathLst>
              <a:path w="909" h="2235">
                <a:moveTo>
                  <a:pt x="909" y="0"/>
                </a:moveTo>
                <a:cubicBezTo>
                  <a:pt x="888" y="20"/>
                  <a:pt x="865" y="34"/>
                  <a:pt x="845" y="55"/>
                </a:cubicBezTo>
                <a:cubicBezTo>
                  <a:pt x="837" y="102"/>
                  <a:pt x="833" y="134"/>
                  <a:pt x="808" y="174"/>
                </a:cubicBezTo>
                <a:cubicBezTo>
                  <a:pt x="794" y="228"/>
                  <a:pt x="788" y="279"/>
                  <a:pt x="762" y="329"/>
                </a:cubicBezTo>
                <a:cubicBezTo>
                  <a:pt x="755" y="421"/>
                  <a:pt x="747" y="455"/>
                  <a:pt x="726" y="539"/>
                </a:cubicBezTo>
                <a:cubicBezTo>
                  <a:pt x="729" y="710"/>
                  <a:pt x="729" y="880"/>
                  <a:pt x="735" y="1051"/>
                </a:cubicBezTo>
                <a:cubicBezTo>
                  <a:pt x="735" y="1061"/>
                  <a:pt x="744" y="1069"/>
                  <a:pt x="744" y="1079"/>
                </a:cubicBezTo>
                <a:cubicBezTo>
                  <a:pt x="744" y="1128"/>
                  <a:pt x="716" y="1177"/>
                  <a:pt x="708" y="1225"/>
                </a:cubicBezTo>
                <a:cubicBezTo>
                  <a:pt x="691" y="1326"/>
                  <a:pt x="697" y="1444"/>
                  <a:pt x="644" y="1536"/>
                </a:cubicBezTo>
                <a:cubicBezTo>
                  <a:pt x="634" y="1553"/>
                  <a:pt x="618" y="1565"/>
                  <a:pt x="607" y="1582"/>
                </a:cubicBezTo>
                <a:cubicBezTo>
                  <a:pt x="592" y="1644"/>
                  <a:pt x="610" y="1595"/>
                  <a:pt x="570" y="1646"/>
                </a:cubicBezTo>
                <a:cubicBezTo>
                  <a:pt x="554" y="1666"/>
                  <a:pt x="525" y="1710"/>
                  <a:pt x="525" y="1710"/>
                </a:cubicBezTo>
                <a:cubicBezTo>
                  <a:pt x="511" y="1751"/>
                  <a:pt x="483" y="1770"/>
                  <a:pt x="452" y="1801"/>
                </a:cubicBezTo>
                <a:cubicBezTo>
                  <a:pt x="396" y="1857"/>
                  <a:pt x="328" y="1894"/>
                  <a:pt x="269" y="1947"/>
                </a:cubicBezTo>
                <a:cubicBezTo>
                  <a:pt x="198" y="2010"/>
                  <a:pt x="252" y="1979"/>
                  <a:pt x="186" y="2011"/>
                </a:cubicBezTo>
                <a:cubicBezTo>
                  <a:pt x="159" y="2040"/>
                  <a:pt x="145" y="2075"/>
                  <a:pt x="122" y="2103"/>
                </a:cubicBezTo>
                <a:cubicBezTo>
                  <a:pt x="115" y="2111"/>
                  <a:pt x="103" y="2114"/>
                  <a:pt x="95" y="2121"/>
                </a:cubicBezTo>
                <a:cubicBezTo>
                  <a:pt x="85" y="2129"/>
                  <a:pt x="76" y="2138"/>
                  <a:pt x="68" y="2148"/>
                </a:cubicBezTo>
                <a:cubicBezTo>
                  <a:pt x="0" y="2235"/>
                  <a:pt x="52" y="2182"/>
                  <a:pt x="22" y="22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4194000"/>
            <a:ext cx="2119320" cy="2119320"/>
          </a:xfrm>
          <a:custGeom>
            <a:avLst/>
            <a:gdLst/>
            <a:ahLst/>
            <a:rect l="l" t="t" r="r" b="b"/>
            <a:pathLst>
              <a:path w="1335" h="1335">
                <a:moveTo>
                  <a:pt x="1335" y="0"/>
                </a:moveTo>
                <a:cubicBezTo>
                  <a:pt x="1315" y="22"/>
                  <a:pt x="1297" y="39"/>
                  <a:pt x="1280" y="64"/>
                </a:cubicBezTo>
                <a:cubicBezTo>
                  <a:pt x="1259" y="148"/>
                  <a:pt x="1270" y="278"/>
                  <a:pt x="1225" y="348"/>
                </a:cubicBezTo>
                <a:cubicBezTo>
                  <a:pt x="1214" y="471"/>
                  <a:pt x="1222" y="567"/>
                  <a:pt x="1161" y="668"/>
                </a:cubicBezTo>
                <a:cubicBezTo>
                  <a:pt x="1145" y="768"/>
                  <a:pt x="1165" y="679"/>
                  <a:pt x="1125" y="777"/>
                </a:cubicBezTo>
                <a:cubicBezTo>
                  <a:pt x="1120" y="789"/>
                  <a:pt x="1122" y="804"/>
                  <a:pt x="1115" y="814"/>
                </a:cubicBezTo>
                <a:cubicBezTo>
                  <a:pt x="1098" y="838"/>
                  <a:pt x="1012" y="926"/>
                  <a:pt x="987" y="951"/>
                </a:cubicBezTo>
                <a:cubicBezTo>
                  <a:pt x="975" y="1002"/>
                  <a:pt x="956" y="1021"/>
                  <a:pt x="905" y="1033"/>
                </a:cubicBezTo>
                <a:cubicBezTo>
                  <a:pt x="863" y="1075"/>
                  <a:pt x="849" y="1103"/>
                  <a:pt x="795" y="1116"/>
                </a:cubicBezTo>
                <a:cubicBezTo>
                  <a:pt x="658" y="1213"/>
                  <a:pt x="609" y="1199"/>
                  <a:pt x="421" y="1207"/>
                </a:cubicBezTo>
                <a:cubicBezTo>
                  <a:pt x="236" y="1199"/>
                  <a:pt x="177" y="1189"/>
                  <a:pt x="0" y="1198"/>
                </a:cubicBezTo>
                <a:cubicBezTo>
                  <a:pt x="49" y="1208"/>
                  <a:pt x="96" y="1206"/>
                  <a:pt x="137" y="1235"/>
                </a:cubicBezTo>
                <a:cubicBezTo>
                  <a:pt x="344" y="1229"/>
                  <a:pt x="559" y="1335"/>
                  <a:pt x="503" y="1125"/>
                </a:cubicBezTo>
                <a:cubicBezTo>
                  <a:pt x="498" y="1106"/>
                  <a:pt x="479" y="1091"/>
                  <a:pt x="466" y="1079"/>
                </a:cubicBezTo>
                <a:cubicBezTo>
                  <a:pt x="443" y="1115"/>
                  <a:pt x="448" y="1096"/>
                  <a:pt x="448" y="11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59120" y="3990960"/>
            <a:ext cx="1103400" cy="2104920"/>
          </a:xfrm>
          <a:custGeom>
            <a:avLst/>
            <a:gdLst/>
            <a:ahLst/>
            <a:rect l="l" t="t" r="r" b="b"/>
            <a:pathLst>
              <a:path w="695" h="1326">
                <a:moveTo>
                  <a:pt x="485" y="0"/>
                </a:moveTo>
                <a:cubicBezTo>
                  <a:pt x="518" y="35"/>
                  <a:pt x="520" y="87"/>
                  <a:pt x="549" y="128"/>
                </a:cubicBezTo>
                <a:cubicBezTo>
                  <a:pt x="552" y="137"/>
                  <a:pt x="554" y="147"/>
                  <a:pt x="558" y="156"/>
                </a:cubicBezTo>
                <a:cubicBezTo>
                  <a:pt x="563" y="166"/>
                  <a:pt x="572" y="173"/>
                  <a:pt x="576" y="183"/>
                </a:cubicBezTo>
                <a:cubicBezTo>
                  <a:pt x="581" y="198"/>
                  <a:pt x="580" y="214"/>
                  <a:pt x="585" y="229"/>
                </a:cubicBezTo>
                <a:cubicBezTo>
                  <a:pt x="594" y="257"/>
                  <a:pt x="611" y="283"/>
                  <a:pt x="622" y="311"/>
                </a:cubicBezTo>
                <a:cubicBezTo>
                  <a:pt x="625" y="338"/>
                  <a:pt x="627" y="366"/>
                  <a:pt x="631" y="393"/>
                </a:cubicBezTo>
                <a:cubicBezTo>
                  <a:pt x="633" y="403"/>
                  <a:pt x="638" y="411"/>
                  <a:pt x="640" y="421"/>
                </a:cubicBezTo>
                <a:cubicBezTo>
                  <a:pt x="647" y="457"/>
                  <a:pt x="658" y="531"/>
                  <a:pt x="658" y="531"/>
                </a:cubicBezTo>
                <a:cubicBezTo>
                  <a:pt x="654" y="655"/>
                  <a:pt x="695" y="765"/>
                  <a:pt x="613" y="851"/>
                </a:cubicBezTo>
                <a:cubicBezTo>
                  <a:pt x="594" y="919"/>
                  <a:pt x="551" y="966"/>
                  <a:pt x="512" y="1024"/>
                </a:cubicBezTo>
                <a:cubicBezTo>
                  <a:pt x="500" y="1042"/>
                  <a:pt x="475" y="1079"/>
                  <a:pt x="475" y="1079"/>
                </a:cubicBezTo>
                <a:cubicBezTo>
                  <a:pt x="455" y="1160"/>
                  <a:pt x="402" y="1182"/>
                  <a:pt x="338" y="1225"/>
                </a:cubicBezTo>
                <a:cubicBezTo>
                  <a:pt x="331" y="1230"/>
                  <a:pt x="327" y="1239"/>
                  <a:pt x="320" y="1244"/>
                </a:cubicBezTo>
                <a:cubicBezTo>
                  <a:pt x="302" y="1257"/>
                  <a:pt x="285" y="1270"/>
                  <a:pt x="265" y="1280"/>
                </a:cubicBezTo>
                <a:cubicBezTo>
                  <a:pt x="172" y="1326"/>
                  <a:pt x="106" y="1317"/>
                  <a:pt x="0" y="131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89000"/>
            <a:ext cx="3672000" cy="1079280"/>
          </a:xfrm>
          <a:prstGeom prst="rect">
            <a:avLst/>
          </a:prstGeom>
          <a:solidFill>
            <a:srgbClr val="2f978d"/>
          </a:solidFill>
          <a:ln w="9360">
            <a:solidFill>
              <a:srgbClr val="2f97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гуру,  что могу  кат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Я  буду  </a:t>
            </a: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ШАРОМ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назыв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340000" y="333360"/>
            <a:ext cx="568944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ff"/>
                  </a:solidFill>
                  <a:miter/>
                </a:ln>
                <a:solidFill>
                  <a:srgbClr val="ff99cc"/>
                </a:solidFill>
                <a:latin typeface="Arial"/>
              </a:rPr>
              <a:t>Повтори!</a:t>
            </a:r>
            <a:endParaRPr b="1" lang="en-US" sz="1800" spc="1" strike="noStrike">
              <a:ln w="38160">
                <a:solidFill>
                  <a:srgbClr val="ff00ff"/>
                </a:solidFill>
                <a:miter/>
              </a:ln>
              <a:solidFill>
                <a:srgbClr val="ff99cc"/>
              </a:solidFill>
              <a:latin typeface="Arial"/>
              <a:ea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1484280"/>
            <a:ext cx="2737080" cy="2592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40360" y="1484280"/>
            <a:ext cx="3095640" cy="3168720"/>
          </a:xfrm>
          <a:prstGeom prst="blockArc">
            <a:avLst>
              <a:gd name="adj1" fmla="val 10800000"/>
              <a:gd name="adj2" fmla="val 0"/>
              <a:gd name="adj3" fmla="val 49218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3645000"/>
            <a:ext cx="4032000" cy="2158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40000" y="4292640"/>
            <a:ext cx="1909440" cy="1786680"/>
            <a:chOff x="1440000" y="4292640"/>
            <a:chExt cx="1909440" cy="1786680"/>
          </a:xfrm>
        </p:grpSpPr>
        <p:sp>
          <p:nvSpPr>
            <p:cNvPr id="230" name=""/>
            <p:cNvSpPr/>
            <p:nvPr/>
          </p:nvSpPr>
          <p:spPr>
            <a:xfrm>
              <a:off x="1553760" y="4292640"/>
              <a:ext cx="1795680" cy="17060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872600">
              <a:off x="1476000" y="5707080"/>
              <a:ext cx="468360" cy="27036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 txBox="1"/>
          <p:nvPr/>
        </p:nvSpPr>
        <p:spPr>
          <a:xfrm>
            <a:off x="2484360" y="4508640"/>
            <a:ext cx="2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547640" y="2060640"/>
            <a:ext cx="25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508720" y="170028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443640" y="393372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580000" y="4797360"/>
            <a:ext cx="201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в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00720" y="2421000"/>
            <a:ext cx="22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ук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00000" y="2852640"/>
            <a:ext cx="201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ру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835280" y="5229360"/>
            <a:ext cx="1368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Пономарева О.И. "Кардымовская средняя школа"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1:10:47Z</dcterms:created>
  <dc:creator>Admin</dc:creator>
  <dc:description/>
  <dc:language>en-US</dc:language>
  <cp:lastModifiedBy>Admin</cp:lastModifiedBy>
  <dcterms:modified xsi:type="dcterms:W3CDTF">2012-01-29T20:08:17Z</dcterms:modified>
  <cp:revision>11</cp:revision>
  <dc:subject/>
  <dc:title>Слайд 1</dc:title>
</cp:coreProperties>
</file>